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954-0DED-425C-BFEF-E672BDE9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7848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1760" y="4032720"/>
            <a:ext cx="7848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655-5B6D-4EC0-8C5A-D8482707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6176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332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081-C463-4963-8D53-D2F34AF8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15320" y="170028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68880" y="170028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61760" y="403272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15320" y="403272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68880" y="403272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871-992C-4B1F-8DCB-67A237A3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1700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1760" y="158400"/>
            <a:ext cx="6848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61760" y="1700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3E9-54A2-415C-A70F-3885B577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332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4032720"/>
            <a:ext cx="7848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7848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1760" y="4032720"/>
            <a:ext cx="7848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176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332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5320" y="170028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8880" y="170028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1760" y="403272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5320" y="403272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8880" y="403272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D38-1531-4D8A-8202-A11F65F6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C5B-8AC6-48C5-978C-D6054D67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99E-DD89-4014-9476-425E3C11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1760" y="158400"/>
            <a:ext cx="6848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7E8-9D1F-440A-B006-DE0C5080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F71-D792-4A0F-A9AC-BC709A1A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332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87B-8F7B-4189-8647-25A64E9C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4032720"/>
            <a:ext cx="7848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394-605C-4076-AA0A-B890BF12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7520" y="1055520"/>
            <a:ext cx="8556480" cy="7632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7800" y="0"/>
            <a:ext cx="8566200" cy="1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 flipV="1">
            <a:off x="0" y="0"/>
            <a:ext cx="588960" cy="1076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40720" y="160200"/>
            <a:ext cx="1347840" cy="7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761760" y="1700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Click to edit the outline text format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993600" indent="-3632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Second Outline Leve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2" marL="1401840" indent="-2286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Third Outline Leve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3" marL="1809720" indent="-22860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Fourth Outline Leve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4" marL="2217600" indent="-22860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Fifth Outline Leve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5" marL="2217600" indent="-22860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Sixth Outline Leve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6" marL="2217600" indent="-22860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Seventh Outline Leve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Click to edit the title text format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01640" y="6381720"/>
            <a:ext cx="585144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d1d1c5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d1d1c5"/>
                </a:solidFill>
                <a:latin typeface="Arial Narrow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84000" y="6600960"/>
            <a:ext cx="9032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1d1c5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d1d1c5"/>
                </a:solidFill>
                <a:latin typeface="Arial Narrow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9280" y="6603840"/>
            <a:ext cx="546120" cy="1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1d1c5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343A-90B8-4210-9745-9690B0919C4D}" type="slidenum">
              <a:rPr b="0" lang="en-GB" sz="1100" spc="-1" strike="noStrike">
                <a:solidFill>
                  <a:srgbClr val="d1d1c5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-9360" y="0"/>
            <a:ext cx="599760" cy="6862680"/>
            <a:chOff x="-9360" y="0"/>
            <a:chExt cx="599760" cy="6862680"/>
          </a:xfrm>
        </p:grpSpPr>
        <p:sp>
          <p:nvSpPr>
            <p:cNvPr id="10" name=""/>
            <p:cNvSpPr/>
            <p:nvPr/>
          </p:nvSpPr>
          <p:spPr>
            <a:xfrm rot="16200000">
              <a:off x="-1361880" y="3460320"/>
              <a:ext cx="3314520" cy="590400"/>
            </a:xfrm>
            <a:prstGeom prst="parallelogram">
              <a:avLst>
                <a:gd name="adj" fmla="val 190851"/>
              </a:avLst>
            </a:prstGeom>
            <a:gradFill rotWithShape="0">
              <a:gsLst>
                <a:gs pos="0">
                  <a:srgbClr val="5e1700"/>
                </a:gs>
                <a:gs pos="100000">
                  <a:srgbClr val="cc3300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81e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4275000"/>
              <a:ext cx="590400" cy="2587680"/>
            </a:xfrm>
            <a:custGeom>
              <a:avLst/>
              <a:gdLst/>
              <a:ahLst/>
              <a:rect l="l" t="t" r="r" b="b"/>
              <a:pathLst>
                <a:path w="403" h="1615">
                  <a:moveTo>
                    <a:pt x="0" y="0"/>
                  </a:moveTo>
                  <a:lnTo>
                    <a:pt x="403" y="705"/>
                  </a:lnTo>
                  <a:lnTo>
                    <a:pt x="403" y="1615"/>
                  </a:lnTo>
                  <a:lnTo>
                    <a:pt x="3" y="16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600">
                    <a:alpha val="32156"/>
                  </a:srgbClr>
                </a:gs>
                <a:gs pos="100000">
                  <a:srgbClr val="75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4281e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-9360" y="0"/>
              <a:ext cx="599760" cy="3233880"/>
            </a:xfrm>
            <a:custGeom>
              <a:avLst/>
              <a:gdLst/>
              <a:ahLst/>
              <a:rect l="l" t="t" r="r" b="b"/>
              <a:pathLst>
                <a:path w="378" h="2037">
                  <a:moveTo>
                    <a:pt x="0" y="0"/>
                  </a:moveTo>
                  <a:lnTo>
                    <a:pt x="3" y="1320"/>
                  </a:lnTo>
                  <a:lnTo>
                    <a:pt x="378" y="2037"/>
                  </a:lnTo>
                  <a:lnTo>
                    <a:pt x="378" y="66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>
                    <a:alpha val="32156"/>
                  </a:srgbClr>
                </a:gs>
                <a:gs pos="100000">
                  <a:srgbClr val="0000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4281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2870280"/>
            <a:ext cx="8031240" cy="194616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68480"/>
            <a:ext cx="1565280" cy="194796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947960"/>
              <a:gd name="textAreaBottom" fmla="*/ 1947960 h 19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80360" cy="22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71600"/>
            <a:ext cx="9180360" cy="7164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04000" y="506520"/>
            <a:ext cx="2262240" cy="1265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Click to edit the title text format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107640" y="6597720"/>
            <a:ext cx="9032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1d1c5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d1d1c5"/>
                </a:solidFill>
                <a:latin typeface="Arial Narrow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Second Outline Level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2" marL="914400" indent="258840" algn="ctr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Third Outline Level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3" marL="1371600" indent="209520" algn="ctr">
              <a:lnSpc>
                <a:spcPct val="90000"/>
              </a:lnSpc>
              <a:spcBef>
                <a:spcPts val="451"/>
              </a:spcBef>
              <a:buClr>
                <a:srgbClr val="24281e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 Narrow"/>
              </a:rPr>
              <a:t>Fourth Outline Level</a:t>
            </a:r>
            <a:endParaRPr b="1" i="1" lang="en-US" sz="1800" spc="-1" strike="noStrike">
              <a:solidFill>
                <a:srgbClr val="24281e"/>
              </a:solidFill>
              <a:latin typeface="Arial Narrow"/>
            </a:endParaRPr>
          </a:p>
          <a:p>
            <a:pPr lvl="4" marL="1828800" indent="160200" algn="ctr">
              <a:lnSpc>
                <a:spcPct val="90000"/>
              </a:lnSpc>
              <a:spcBef>
                <a:spcPts val="400"/>
              </a:spcBef>
              <a:buClr>
                <a:srgbClr val="24281e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281e"/>
                </a:solidFill>
                <a:latin typeface="Arial Narrow"/>
              </a:rPr>
              <a:t>Fifth Outline Level</a:t>
            </a:r>
            <a:endParaRPr b="1" i="1" lang="en-US" sz="1600" spc="-1" strike="noStrike">
              <a:solidFill>
                <a:srgbClr val="24281e"/>
              </a:solidFill>
              <a:latin typeface="Arial Narrow"/>
            </a:endParaRPr>
          </a:p>
          <a:p>
            <a:pPr lvl="5" marL="1828800" indent="160200">
              <a:spcBef>
                <a:spcPts val="400"/>
              </a:spcBef>
              <a:buClr>
                <a:srgbClr val="24281e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281e"/>
                </a:solidFill>
                <a:latin typeface="Arial Narrow"/>
              </a:rPr>
              <a:t>Sixth Outline Level</a:t>
            </a:r>
            <a:endParaRPr b="1" i="1" lang="en-US" sz="1600" spc="-1" strike="noStrike">
              <a:solidFill>
                <a:srgbClr val="24281e"/>
              </a:solidFill>
              <a:latin typeface="Arial Narrow"/>
            </a:endParaRPr>
          </a:p>
          <a:p>
            <a:pPr lvl="6" marL="1828800" indent="160200">
              <a:spcBef>
                <a:spcPts val="400"/>
              </a:spcBef>
              <a:buClr>
                <a:srgbClr val="24281e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281e"/>
                </a:solidFill>
                <a:latin typeface="Arial Narrow"/>
              </a:rPr>
              <a:t>Seventh Outline Level</a:t>
            </a:r>
            <a:endParaRPr b="1" i="1" lang="en-US" sz="16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ACARP</a:t>
            </a:r>
            <a:br>
              <a:rPr sz="3200"/>
            </a:b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Roadway Development </a:t>
            </a:r>
            <a:br>
              <a:rPr sz="3200"/>
            </a:b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Operator Workshop No 7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19280" y="299736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Narrow"/>
              </a:rPr>
              <a:t>A Systems Approach to Roadway Development</a:t>
            </a: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Narrow"/>
              </a:rPr>
              <a:t>Mick Kelly, BMA Coal</a:t>
            </a: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4360" y="3716280"/>
          <a:ext cx="82296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716280"/>
                    <a:ext cx="8229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14400" y="1824120"/>
            <a:ext cx="7848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1e"/>
                </a:solidFill>
                <a:latin typeface="Arial"/>
              </a:rPr>
              <a:t>The first model is a simple form of process mapping (or a simple project management Gantt chart)</a:t>
            </a:r>
            <a:endParaRPr b="0" lang="en-US" sz="24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Roadway Development Models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003640" y="1268280"/>
            <a:ext cx="38433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The key questions to be answered are: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What is the process map at each level of the hierarchy? 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 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What is the interaction between hierarchies?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 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Who is responsible for the overall process at each hierarchical level?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 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For each of these levels what is measured and what is the focus?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69640" y="429840"/>
            <a:ext cx="63579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80"/>
                </a:solidFill>
                <a:latin typeface="Arial Narrow"/>
              </a:rPr>
              <a:t>Hierarchical Model</a:t>
            </a:r>
            <a:endParaRPr b="1" i="1" lang="en-US" sz="4000" spc="-1" strike="noStrike">
              <a:solidFill>
                <a:srgbClr val="000080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83084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375840"/>
            <a:ext cx="6848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80"/>
                </a:solidFill>
                <a:latin typeface="Arial Narrow"/>
              </a:rPr>
              <a:t>Mine Improvement Areas?</a:t>
            </a:r>
            <a:endParaRPr b="1" i="1" lang="en-US" sz="40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210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41960" indent="-3722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Roster Design – Is the roster currently maximising face, maintenance, set-up times?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741960" indent="-3722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Formal Introduction of Process Improvement?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741960" indent="-3722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Maintenance management system tailored to roadway development requirements?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741960" indent="-3722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Focus on data management for process improvement, not historical data collection for upwards summaries.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741960" indent="-372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Bottom Line - </a:t>
            </a:r>
            <a:r>
              <a:rPr b="0" i="1" lang="en-US" sz="2400" spc="-1" strike="noStrike">
                <a:solidFill>
                  <a:srgbClr val="24281e"/>
                </a:solidFill>
                <a:latin typeface="Arial Narrow"/>
              </a:rPr>
              <a:t>STRONG FOCUS REQUIRED ON ENABLING TEAM TO IMPROVE PROCESS KNOWLEDGE AND INCREASE THEIR ABILITY TO INFLUENCE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21840"/>
            <a:ext cx="684828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Panel Improvement Areas ?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691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6680" indent="-436680">
              <a:lnSpc>
                <a:spcPct val="7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Separation of Panel with Mains – achieving that “push button start”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Use of project management approach in mains driveage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-436680">
              <a:lnSpc>
                <a:spcPct val="7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Panel Plan, 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Standard Area Methods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Integration of activities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Supply systems &amp; wastage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Hazard Plan, short interval control, feedback loops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-436680">
              <a:lnSpc>
                <a:spcPct val="7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Communication Plan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Methods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Reinforcement of Best Practice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Formal feedback loops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Hazard treatment, response time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-436680">
              <a:lnSpc>
                <a:spcPct val="7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Travel Time into face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-436680">
              <a:lnSpc>
                <a:spcPct val="7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Total cost of driveage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-436680">
              <a:lnSpc>
                <a:spcPct val="7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Design &amp; Deliver Technology pack to allow cycle optimisation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321840"/>
            <a:ext cx="684828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Standard Area Methods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281e"/>
                </a:solidFill>
                <a:latin typeface="Arial Narrow"/>
              </a:rPr>
              <a:t>Aims: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standardise the method of development across the shifts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establish “best” practic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improve people’s knowledge of that practic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formalise a process that will allow crews to initiate improvement.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21840"/>
            <a:ext cx="684828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Pillar Cycle Improvement Areas?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19040" indent="-4190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Focus of Continuous Improvement into pillar cycle</a:t>
            </a:r>
            <a:endParaRPr b="1" i="1" lang="en-US" sz="3200" spc="-1" strike="noStrike">
              <a:solidFill>
                <a:srgbClr val="24281e"/>
              </a:solidFill>
              <a:latin typeface="Arial Narrow"/>
            </a:endParaRPr>
          </a:p>
          <a:p>
            <a:pPr marL="41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24281e"/>
              </a:solidFill>
              <a:latin typeface="Arial Narrow"/>
            </a:endParaRPr>
          </a:p>
          <a:p>
            <a:pPr marL="419040" indent="-4190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Optimisation of panel extension</a:t>
            </a:r>
            <a:endParaRPr b="1" i="1" lang="en-US" sz="3200" spc="-1" strike="noStrike">
              <a:solidFill>
                <a:srgbClr val="24281e"/>
              </a:solidFill>
              <a:latin typeface="Arial Narrow"/>
            </a:endParaRPr>
          </a:p>
          <a:p>
            <a:pPr lvl="3" marL="1719000" indent="-21708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decoupling of non-critical tasks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3" marL="1719000" indent="-21708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teamwork interaction and training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3" marL="1719000" indent="-21708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“</a:t>
            </a: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example” belt mov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3" marL="1719000" indent="-21708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review after each pillar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3" marL="1719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24281e"/>
              </a:solidFill>
              <a:latin typeface="Arial Narrow"/>
            </a:endParaRPr>
          </a:p>
          <a:p>
            <a:pPr marL="419040" indent="-4190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Standards for longwall operation</a:t>
            </a:r>
            <a:endParaRPr b="1" i="1" lang="en-US" sz="3200" spc="-1" strike="noStrike">
              <a:solidFill>
                <a:srgbClr val="24281e"/>
              </a:solidFill>
              <a:latin typeface="Arial Narrow"/>
            </a:endParaRPr>
          </a:p>
          <a:p>
            <a:pPr marL="41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24281e"/>
              </a:solidFill>
              <a:latin typeface="Arial Narrow"/>
            </a:endParaRPr>
          </a:p>
          <a:p>
            <a:pPr marL="419040" indent="-4190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Maintenance shift &lt;&gt; hot start both ways</a:t>
            </a:r>
            <a:endParaRPr b="1" i="1" lang="en-US" sz="32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Face Cycle Improvement Areas?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85100"/>
                </a:solidFill>
                <a:latin typeface="Arial Narrow"/>
              </a:rPr>
              <a:t>THROW OUT SHIFT TARGETS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Understand constraints on uptime rates – empower team to remov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Understand constraints on utilisation time – empower team to remov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Reinforce cutting cycle optimisation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Reinforce panel standards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Reinforce alternative work options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Ensure effectiveness of maintenance delivery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Systems Approach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Emphasis on:</a:t>
            </a:r>
            <a:endParaRPr b="1" i="1" lang="en-US" sz="32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 algn="just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Process improvement</a:t>
            </a:r>
            <a:endParaRPr b="1" i="1" lang="en-US" sz="32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 algn="just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Use of Information</a:t>
            </a: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 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4770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Natural Variation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409760"/>
            <a:ext cx="825804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975024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4770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Decreasing Variation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1409760"/>
            <a:ext cx="825804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946764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2760" y="1714680"/>
            <a:ext cx="4576680" cy="3431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54450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"/>
              </a:rPr>
              <a:t>Safety, Safety, Safety</a:t>
            </a:r>
            <a:endParaRPr b="0" lang="en-US" sz="3200" spc="-1" strike="noStrike">
              <a:solidFill>
                <a:srgbClr val="24281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158400"/>
            <a:ext cx="58658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Reducing Variation of Sub-processes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409760"/>
            <a:ext cx="825804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975024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Continuous Improvement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97502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4770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Step Change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409760"/>
            <a:ext cx="825804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9505800" cy="413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375840"/>
            <a:ext cx="6848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80"/>
                </a:solidFill>
                <a:latin typeface="Arial Narrow"/>
              </a:rPr>
              <a:t>Information the Key</a:t>
            </a:r>
            <a:endParaRPr b="1" i="1" lang="en-US" sz="40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400" spc="-1" strike="noStrike">
                <a:solidFill>
                  <a:srgbClr val="24281e"/>
                </a:solidFill>
                <a:latin typeface="Arial Narrow"/>
              </a:rPr>
              <a:t>Remember information, not data is the key for success:</a:t>
            </a:r>
            <a:endParaRPr b="1" i="1" lang="en-US" sz="3400" spc="-1" strike="noStrike">
              <a:solidFill>
                <a:srgbClr val="24281e"/>
              </a:solidFill>
              <a:latin typeface="Arial Narrow"/>
            </a:endParaRPr>
          </a:p>
          <a:p>
            <a:pPr lvl="1" marL="1087560" indent="-457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24281e"/>
                </a:solidFill>
                <a:latin typeface="Arial Narrow"/>
              </a:rPr>
              <a:t>Information should be analysed not averaged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2" marL="1554120" indent="-3808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24281e"/>
                </a:solidFill>
                <a:latin typeface="Arial Narrow"/>
              </a:rPr>
              <a:t>Setting effective KPIs is essential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2" marL="1554120" indent="-3808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24281e"/>
                </a:solidFill>
                <a:latin typeface="Arial Narrow"/>
              </a:rPr>
              <a:t>Effective analyses for process improvement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1087560" indent="-457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24281e"/>
                </a:solidFill>
                <a:latin typeface="Arial Narrow"/>
              </a:rPr>
              <a:t>Information should be 50% downward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1087560" indent="-457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24281e"/>
                </a:solidFill>
                <a:latin typeface="Arial Narrow"/>
              </a:rPr>
              <a:t>Feed back loops are a necessity for exception reporting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1087560" indent="-457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24281e"/>
                </a:solidFill>
                <a:latin typeface="Arial Narrow"/>
              </a:rPr>
              <a:t>Use reviews to improve process knowledg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63640" y="333360"/>
            <a:ext cx="5415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 Narrow"/>
              </a:rPr>
              <a:t>Site Commitment</a:t>
            </a:r>
            <a:endParaRPr b="0" lang="en-US" sz="40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28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138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4281e"/>
                </a:solidFill>
                <a:latin typeface="Arial Narrow"/>
              </a:rPr>
              <a:t>The commitment from the mine will need to include:</a:t>
            </a:r>
            <a:endParaRPr b="1" i="1" lang="en-US" sz="30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-455760" algn="just">
              <a:lnSpc>
                <a:spcPct val="80000"/>
              </a:lnSpc>
              <a:spcBef>
                <a:spcPts val="901"/>
              </a:spcBef>
              <a:spcAft>
                <a:spcPts val="751"/>
              </a:spcAft>
              <a:buClr>
                <a:srgbClr val="e851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4281e"/>
                </a:solidFill>
                <a:latin typeface="Arial"/>
              </a:rPr>
              <a:t>A desire to improve performance.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-455760" algn="just">
              <a:lnSpc>
                <a:spcPct val="80000"/>
              </a:lnSpc>
              <a:spcAft>
                <a:spcPts val="751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4281e"/>
                </a:solidFill>
                <a:latin typeface="Arial"/>
              </a:rPr>
              <a:t>Acceptance that this will involve a change process.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-455760" algn="just">
              <a:lnSpc>
                <a:spcPct val="80000"/>
              </a:lnSpc>
              <a:spcAft>
                <a:spcPts val="751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4281e"/>
                </a:solidFill>
                <a:latin typeface="Arial"/>
              </a:rPr>
              <a:t>Process must involve faceworker, middle management as well as senior management support.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-455760" algn="just">
              <a:lnSpc>
                <a:spcPct val="80000"/>
              </a:lnSpc>
              <a:spcAft>
                <a:spcPts val="751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4281e"/>
                </a:solidFill>
                <a:latin typeface="Arial"/>
              </a:rPr>
              <a:t>Process may involve a major change in the way information is collected and used.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4281e"/>
                </a:solidFill>
                <a:latin typeface="Arial Narrow"/>
              </a:rPr>
              <a:t>Key to the Success</a:t>
            </a:r>
            <a:endParaRPr b="1" i="1" lang="en-US" sz="30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-455760" algn="just">
              <a:lnSpc>
                <a:spcPct val="80000"/>
              </a:lnSpc>
              <a:spcBef>
                <a:spcPts val="104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4281e"/>
                </a:solidFill>
                <a:latin typeface="Arial"/>
              </a:rPr>
              <a:t>Site commitment to Roadway Development improvement to ensure it is fully integrated with all site activities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 algn="just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0" algn="just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63640" y="333360"/>
            <a:ext cx="5415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 Narrow"/>
              </a:rPr>
              <a:t>Some Takeaways</a:t>
            </a:r>
            <a:endParaRPr b="0" lang="en-US" sz="40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138320" indent="0">
              <a:lnSpc>
                <a:spcPct val="70000"/>
              </a:lnSpc>
              <a:spcBef>
                <a:spcPts val="16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-56844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"/>
              </a:rPr>
              <a:t>Take the blinkers off with safety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-56844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"/>
              </a:rPr>
              <a:t>Holistic Approach – don’t just focus on face equipment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-56844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"/>
              </a:rPr>
              <a:t>Define the process &amp; give it an owner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-56844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"/>
              </a:rPr>
              <a:t>Use Process Improvement to attack wast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-56844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"/>
              </a:rPr>
              <a:t>Information to the process teams to drive improved knowledge and empowerment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-56844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"/>
              </a:rPr>
              <a:t>Site commitment is essentia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 Narrow"/>
              </a:rPr>
              <a:t>A systems approach incorporates people issues and technology into processes – </a:t>
            </a:r>
            <a:r>
              <a:rPr b="0" i="1" lang="en-US" sz="2800" spc="-1" strike="noStrike" u="sng">
                <a:solidFill>
                  <a:srgbClr val="24281e"/>
                </a:solidFill>
                <a:uFillTx/>
                <a:latin typeface="Arial Narrow"/>
              </a:rPr>
              <a:t>People are Pivota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 algn="just">
              <a:lnSpc>
                <a:spcPct val="70000"/>
              </a:lnSpc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0" algn="just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80"/>
                </a:solidFill>
                <a:latin typeface="Arial Narrow"/>
              </a:rPr>
              <a:t>A Systems Approach to Roadway Development</a:t>
            </a:r>
            <a:endParaRPr b="1" i="1" lang="en-US" sz="28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604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4281e"/>
                </a:solidFill>
                <a:latin typeface="Arial Narrow"/>
              </a:rPr>
              <a:t>Components of Roadway Development</a:t>
            </a:r>
            <a:endParaRPr b="1" i="1" lang="en-US" sz="36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4281e"/>
                </a:solidFill>
                <a:latin typeface="Arial Narrow"/>
              </a:rPr>
              <a:t>Outline of “Systems Approach”</a:t>
            </a:r>
            <a:endParaRPr b="1" i="1" lang="en-US" sz="36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4281e"/>
                </a:solidFill>
                <a:latin typeface="Arial Narrow"/>
              </a:rPr>
              <a:t>Hierarchical Components</a:t>
            </a:r>
            <a:endParaRPr b="1" i="1" lang="en-US" sz="36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4281e"/>
                </a:solidFill>
                <a:latin typeface="Arial Narrow"/>
              </a:rPr>
              <a:t>Focus on Process Improvement</a:t>
            </a:r>
            <a:endParaRPr b="1" i="1" lang="en-US" sz="36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4281e"/>
                </a:solidFill>
                <a:latin typeface="Arial Narrow"/>
              </a:rPr>
              <a:t>Importance of Information Flow</a:t>
            </a:r>
            <a:endParaRPr b="1" i="1" lang="en-US" sz="36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0" name="Puzzle3"/>
          <p:cNvSpPr/>
          <p:nvPr/>
        </p:nvSpPr>
        <p:spPr>
          <a:xfrm>
            <a:off x="1960560" y="241200"/>
            <a:ext cx="1393920" cy="196236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1" name="Puzzle2"/>
          <p:cNvSpPr/>
          <p:nvPr/>
        </p:nvSpPr>
        <p:spPr>
          <a:xfrm>
            <a:off x="1554120" y="1670040"/>
            <a:ext cx="2225880" cy="178920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Roof 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2" name="Puzzle4"/>
          <p:cNvSpPr/>
          <p:nvPr/>
        </p:nvSpPr>
        <p:spPr>
          <a:xfrm>
            <a:off x="693720" y="1649520"/>
            <a:ext cx="1341360" cy="22842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Commu-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nication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3" name="Puzzle1"/>
          <p:cNvSpPr/>
          <p:nvPr/>
        </p:nvSpPr>
        <p:spPr>
          <a:xfrm>
            <a:off x="233280" y="835200"/>
            <a:ext cx="2252880" cy="13618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Miner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4" name="Puzzle3"/>
          <p:cNvSpPr/>
          <p:nvPr/>
        </p:nvSpPr>
        <p:spPr>
          <a:xfrm>
            <a:off x="4498920" y="260280"/>
            <a:ext cx="1393920" cy="196236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281e"/>
                </a:solidFill>
                <a:latin typeface="Arial"/>
              </a:rPr>
              <a:t>Pumping</a:t>
            </a:r>
            <a:endParaRPr b="0" lang="en-US" sz="1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5" name="Puzzle2"/>
          <p:cNvSpPr/>
          <p:nvPr/>
        </p:nvSpPr>
        <p:spPr>
          <a:xfrm>
            <a:off x="4092480" y="1689120"/>
            <a:ext cx="2225880" cy="178920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Panel Set-up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6" name="Puzzle4"/>
          <p:cNvSpPr/>
          <p:nvPr/>
        </p:nvSpPr>
        <p:spPr>
          <a:xfrm>
            <a:off x="3232080" y="1668600"/>
            <a:ext cx="1341360" cy="22842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Shuttle 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7" name="Puzzle1"/>
          <p:cNvSpPr/>
          <p:nvPr/>
        </p:nvSpPr>
        <p:spPr>
          <a:xfrm>
            <a:off x="2771640" y="853920"/>
            <a:ext cx="2252880" cy="13622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4281e"/>
                </a:solidFill>
                <a:latin typeface="Arial"/>
              </a:rPr>
              <a:t>Standards</a:t>
            </a:r>
            <a:endParaRPr b="0" lang="en-US" sz="1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8" name="Puzzle3"/>
          <p:cNvSpPr/>
          <p:nvPr/>
        </p:nvSpPr>
        <p:spPr>
          <a:xfrm>
            <a:off x="4498920" y="2781360"/>
            <a:ext cx="1393920" cy="196200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Hazard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Ma     ps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9" name="Puzzle2"/>
          <p:cNvSpPr/>
          <p:nvPr/>
        </p:nvSpPr>
        <p:spPr>
          <a:xfrm>
            <a:off x="4092480" y="4210200"/>
            <a:ext cx="2225880" cy="17888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Culture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0" name="Puzzle4"/>
          <p:cNvSpPr/>
          <p:nvPr/>
        </p:nvSpPr>
        <p:spPr>
          <a:xfrm>
            <a:off x="3232080" y="4189320"/>
            <a:ext cx="1341360" cy="228456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4281e"/>
                </a:solidFill>
                <a:latin typeface="Arial"/>
              </a:rPr>
              <a:t>Ventilation</a:t>
            </a: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4281e"/>
                </a:solidFill>
                <a:latin typeface="Arial"/>
              </a:rPr>
              <a:t>      </a:t>
            </a:r>
            <a:r>
              <a:rPr b="1" i="1" lang="en-US" sz="1400" spc="-1" strike="noStrike">
                <a:solidFill>
                  <a:srgbClr val="24281e"/>
                </a:solidFill>
                <a:latin typeface="Arial"/>
              </a:rPr>
              <a:t>Gas   </a:t>
            </a: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4281e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24281e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1" name="Puzzle1"/>
          <p:cNvSpPr/>
          <p:nvPr/>
        </p:nvSpPr>
        <p:spPr>
          <a:xfrm>
            <a:off x="2771640" y="3375000"/>
            <a:ext cx="2252880" cy="13622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"/>
              </a:rPr>
              <a:t>KPI’s</a:t>
            </a:r>
            <a:endParaRPr b="0" lang="en-US" sz="20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2" name="Puzzle3"/>
          <p:cNvSpPr/>
          <p:nvPr/>
        </p:nvSpPr>
        <p:spPr>
          <a:xfrm>
            <a:off x="7091280" y="260280"/>
            <a:ext cx="1393920" cy="196236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Mining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Cr     ew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3" name="Puzzle2"/>
          <p:cNvSpPr/>
          <p:nvPr/>
        </p:nvSpPr>
        <p:spPr>
          <a:xfrm>
            <a:off x="6684840" y="1689120"/>
            <a:ext cx="2225880" cy="178920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Bonus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4" name="Puzzle4"/>
          <p:cNvSpPr/>
          <p:nvPr/>
        </p:nvSpPr>
        <p:spPr>
          <a:xfrm>
            <a:off x="5824440" y="1668600"/>
            <a:ext cx="1341360" cy="22842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281e"/>
                </a:solidFill>
                <a:latin typeface="Arial"/>
              </a:rPr>
              <a:t>Roadway</a:t>
            </a: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281e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5" name="Puzzle1"/>
          <p:cNvSpPr/>
          <p:nvPr/>
        </p:nvSpPr>
        <p:spPr>
          <a:xfrm>
            <a:off x="5364000" y="853920"/>
            <a:ext cx="2252880" cy="13622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281e"/>
                </a:solidFill>
                <a:latin typeface="Arial"/>
              </a:rPr>
              <a:t>Conveyor</a:t>
            </a:r>
            <a:endParaRPr b="0" lang="en-US" sz="1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6" name="Puzzle3"/>
          <p:cNvSpPr/>
          <p:nvPr/>
        </p:nvSpPr>
        <p:spPr>
          <a:xfrm>
            <a:off x="1906560" y="2781360"/>
            <a:ext cx="1393920" cy="196200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281e"/>
                </a:solidFill>
                <a:latin typeface="Arial"/>
              </a:rPr>
              <a:t>Advance</a:t>
            </a:r>
            <a:endParaRPr b="0" lang="en-US" sz="1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7" name="Puzzle2"/>
          <p:cNvSpPr/>
          <p:nvPr/>
        </p:nvSpPr>
        <p:spPr>
          <a:xfrm>
            <a:off x="1500120" y="4210200"/>
            <a:ext cx="2225880" cy="17888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Stone-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dusting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8" name="Puzzle4"/>
          <p:cNvSpPr/>
          <p:nvPr/>
        </p:nvSpPr>
        <p:spPr>
          <a:xfrm>
            <a:off x="639720" y="4189320"/>
            <a:ext cx="1341360" cy="228456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4281e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9" name="Puzzle1"/>
          <p:cNvSpPr/>
          <p:nvPr/>
        </p:nvSpPr>
        <p:spPr>
          <a:xfrm>
            <a:off x="179280" y="3375000"/>
            <a:ext cx="2252880" cy="13622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4281e"/>
                </a:solidFill>
                <a:latin typeface="Arial"/>
              </a:rPr>
              <a:t>Pro         cess</a:t>
            </a:r>
            <a:endParaRPr b="0" lang="en-US" sz="12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4281e"/>
                </a:solidFill>
                <a:latin typeface="Arial"/>
              </a:rPr>
              <a:t>Improvement</a:t>
            </a: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0" name="Puzzle3"/>
          <p:cNvSpPr/>
          <p:nvPr/>
        </p:nvSpPr>
        <p:spPr>
          <a:xfrm>
            <a:off x="7091280" y="2781360"/>
            <a:ext cx="1393920" cy="196200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1" name="Puzzle2"/>
          <p:cNvSpPr/>
          <p:nvPr/>
        </p:nvSpPr>
        <p:spPr>
          <a:xfrm>
            <a:off x="6684840" y="4210200"/>
            <a:ext cx="2225880" cy="17888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2" name="Puzzle4"/>
          <p:cNvSpPr/>
          <p:nvPr/>
        </p:nvSpPr>
        <p:spPr>
          <a:xfrm>
            <a:off x="5824440" y="4189320"/>
            <a:ext cx="1341360" cy="228456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3" name="Puzzle1"/>
          <p:cNvSpPr/>
          <p:nvPr/>
        </p:nvSpPr>
        <p:spPr>
          <a:xfrm>
            <a:off x="5364000" y="3375000"/>
            <a:ext cx="2252880" cy="13622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Roster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76360" y="2590920"/>
            <a:ext cx="6912000" cy="23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281e"/>
                </a:solidFill>
                <a:latin typeface="Arial"/>
              </a:rPr>
              <a:t>Firstly, a systems approach incorporates people issues and technology into processes – </a:t>
            </a:r>
            <a:r>
              <a:rPr b="0" lang="en-US" sz="3600" spc="-1" strike="noStrike" u="sng">
                <a:solidFill>
                  <a:srgbClr val="24281e"/>
                </a:solidFill>
                <a:uFillTx/>
                <a:latin typeface="Arial"/>
              </a:rPr>
              <a:t>People are Pivotal</a:t>
            </a:r>
            <a:endParaRPr b="0" lang="en-US" sz="3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550080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Systems Approach ?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2590920"/>
            <a:ext cx="8077320" cy="23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281e"/>
                </a:solidFill>
                <a:latin typeface="Arial"/>
              </a:rPr>
              <a:t>Secondly, a systems approach must understand the complexity of systems structure and the dynamics of the interactions between processes.</a:t>
            </a:r>
            <a:endParaRPr b="0" lang="en-US" sz="3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3400" y="375840"/>
            <a:ext cx="595332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Systems Approach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2590920"/>
            <a:ext cx="8305920" cy="23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281e"/>
                </a:solidFill>
                <a:latin typeface="Arial"/>
              </a:rPr>
              <a:t>Thirdly, a systems approach recognises natural variability is a normal part of any process.</a:t>
            </a:r>
            <a:endParaRPr b="0" lang="en-US" sz="3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14440" y="375840"/>
            <a:ext cx="5951520" cy="5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Systems Approach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2590920"/>
            <a:ext cx="8153640" cy="23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281e"/>
                </a:solidFill>
                <a:latin typeface="Arial"/>
              </a:rPr>
              <a:t>Lastly, a systems approach recognises that the collection and use of information is a key factor.</a:t>
            </a:r>
            <a:endParaRPr b="0" lang="en-US" sz="36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4281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4281e"/>
                </a:solidFill>
                <a:latin typeface="Arial"/>
                <a:ea typeface="Arial"/>
              </a:rPr>
              <a:t>“</a:t>
            </a:r>
            <a:r>
              <a:rPr b="0" i="1" lang="en-US" sz="3600" spc="-1" strike="noStrike">
                <a:solidFill>
                  <a:srgbClr val="24281e"/>
                </a:solidFill>
                <a:latin typeface="Arial"/>
                <a:ea typeface="Arial"/>
              </a:rPr>
              <a:t>Information is Data that Informs”</a:t>
            </a:r>
            <a:endParaRPr b="0" lang="en-US" sz="3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14440" y="429840"/>
            <a:ext cx="595152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Systems Approach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5640" y="1413000"/>
            <a:ext cx="802332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68440" indent="-568440">
              <a:spcBef>
                <a:spcPts val="1250"/>
              </a:spcBef>
              <a:buClr>
                <a:srgbClr val="2428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81e"/>
                </a:solidFill>
                <a:latin typeface="Arial"/>
              </a:rPr>
              <a:t>Mining Systems (cutting, bolting, transporting)</a:t>
            </a:r>
            <a:endParaRPr b="0" lang="en-US" sz="20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spcBef>
                <a:spcPts val="1250"/>
              </a:spcBef>
              <a:buClr>
                <a:srgbClr val="2428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81e"/>
                </a:solidFill>
                <a:latin typeface="Arial"/>
              </a:rPr>
              <a:t>Organisational Factors (manning allocation and organisation, measurement systems and motivational factors)</a:t>
            </a:r>
            <a:endParaRPr b="0" lang="en-US" sz="20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spcBef>
                <a:spcPts val="1250"/>
              </a:spcBef>
              <a:buClr>
                <a:srgbClr val="2428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81e"/>
                </a:solidFill>
                <a:latin typeface="Arial"/>
              </a:rPr>
              <a:t>Machinery Supply and Support</a:t>
            </a:r>
            <a:endParaRPr b="0" lang="en-US" sz="20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500"/>
              </a:spcBef>
              <a:buClr>
                <a:srgbClr val="24281e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1e"/>
                </a:solidFill>
                <a:latin typeface="Arial Narrow"/>
              </a:rPr>
              <a:t>Strata Support and Gas Control</a:t>
            </a:r>
            <a:endParaRPr b="0" lang="en-US" sz="24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500"/>
              </a:spcBef>
              <a:buClr>
                <a:srgbClr val="24281e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1e"/>
                </a:solidFill>
                <a:latin typeface="Arial Narrow"/>
              </a:rPr>
              <a:t>Systems Support (panel layouts, extensions, gas and water drainage, ventilation, floor control)</a:t>
            </a:r>
            <a:endParaRPr b="0" lang="en-US" sz="24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spcBef>
                <a:spcPts val="1250"/>
              </a:spcBef>
              <a:buClr>
                <a:srgbClr val="2428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81e"/>
                </a:solidFill>
                <a:latin typeface="Arial"/>
              </a:rPr>
              <a:t>Maintenance Practice</a:t>
            </a:r>
            <a:endParaRPr b="0" lang="en-US" sz="20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500"/>
              </a:spcBef>
              <a:buClr>
                <a:srgbClr val="24281e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1e"/>
                </a:solidFill>
                <a:latin typeface="Arial Narrow"/>
              </a:rPr>
              <a:t>The Human Element (workforce, management, culture, industrial environment)</a:t>
            </a:r>
            <a:endParaRPr b="0" lang="en-US" sz="24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spcBef>
                <a:spcPts val="1250"/>
              </a:spcBef>
              <a:buClr>
                <a:srgbClr val="2428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81e"/>
                </a:solidFill>
                <a:latin typeface="Arial"/>
              </a:rPr>
              <a:t>Safety Systems</a:t>
            </a:r>
            <a:endParaRPr b="0" lang="en-US" sz="20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Key components and interactions of the existing system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6:55:33Z</dcterms:created>
  <dc:creator>kellmic</dc:creator>
  <dc:description/>
  <dc:language>en-US</dc:language>
  <cp:lastModifiedBy>kellmic</cp:lastModifiedBy>
  <dcterms:modified xsi:type="dcterms:W3CDTF">2009-08-23T21:48:25Z</dcterms:modified>
  <cp:revision>18</cp:revision>
  <dc:subject/>
  <dc:title>Slide 1</dc:title>
</cp:coreProperties>
</file>