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F81-66D0-4C7E-A066-81DC282F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71640" y="1951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938B-1972-4F1B-BF5B-25B9B372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72320" cy="372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4680" y="1692360"/>
            <a:ext cx="407052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4726-46BB-468B-96D6-EA36B13A1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B71A-D5FB-4C28-B729-8D3E0D6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DFE4-E178-41D3-BE05-FFF5D6E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184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1532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00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184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1532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0342-F27C-4D19-A6C9-401CDDFE2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40FE-BD7A-4123-BC4D-94F3A4F8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F303-EF02-484B-93C5-C50D2276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C832-5D0D-487E-96A3-DAFAB047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EEBF2-A824-4A7E-B48A-0AFD894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2D582-AAE9-4D78-8C8D-8341AEA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2E4D-033B-46EE-BFED-839F361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25773-7497-4AD6-83D9-A8BD0EB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3287-38E6-4EAA-BFAC-7ED9A5A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00D85-F72E-4152-B362-6F645D3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33FA9-E176-4798-9D1C-0EA5888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D855E-9E13-41A4-BF47-9E0A10AE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FAEF8-0DAE-4753-AA91-5B75699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184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15320" y="155700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184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15320" y="4110120"/>
            <a:ext cx="26888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020A6-0580-4407-934D-6409D17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E255-13ED-442B-9CF7-95D2FF4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3259-53B0-4D38-8C51-5DEB968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061C-D47A-4DDA-912A-08930D9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BE9B-25E5-4C2E-91BD-4C2D8C03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A29F-03AD-41AE-8386-F9C5818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7680" y="411012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04C-F7BD-41E8-9143-7353A86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7680" y="1557000"/>
            <a:ext cx="407556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110120"/>
            <a:ext cx="8351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1E8B-970B-4F85-B7A4-7153237D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AMIN logo (Converted)-1"/>
          <p:cNvPicPr/>
          <p:nvPr/>
        </p:nvPicPr>
        <p:blipFill>
          <a:blip r:embed="rId3"/>
          <a:stretch/>
        </p:blipFill>
        <p:spPr>
          <a:xfrm>
            <a:off x="46836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BD21336_"/>
          <p:cNvPicPr/>
          <p:nvPr/>
        </p:nvPicPr>
        <p:blipFill>
          <a:blip r:embed="rId4"/>
          <a:stretch/>
        </p:blipFill>
        <p:spPr>
          <a:xfrm>
            <a:off x="0" y="5516640"/>
            <a:ext cx="9144000" cy="1458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24"/>
          <p:cNvGrpSpPr/>
          <p:nvPr/>
        </p:nvGrpSpPr>
        <p:grpSpPr>
          <a:xfrm>
            <a:off x="971640" y="3573360"/>
            <a:ext cx="6836760" cy="1656000"/>
            <a:chOff x="971640" y="3573360"/>
            <a:chExt cx="6836760" cy="1656000"/>
          </a:xfrm>
        </p:grpSpPr>
        <p:sp>
          <p:nvSpPr>
            <p:cNvPr id="3" name="Oval 25"/>
            <p:cNvSpPr/>
            <p:nvPr/>
          </p:nvSpPr>
          <p:spPr>
            <a:xfrm flipH="1">
              <a:off x="6284880" y="3573360"/>
              <a:ext cx="152352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Oval 26"/>
            <p:cNvSpPr/>
            <p:nvPr/>
          </p:nvSpPr>
          <p:spPr>
            <a:xfrm flipH="1">
              <a:off x="4493160" y="3573360"/>
              <a:ext cx="152388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27"/>
            <p:cNvSpPr/>
            <p:nvPr/>
          </p:nvSpPr>
          <p:spPr>
            <a:xfrm flipH="1">
              <a:off x="2702520" y="3573360"/>
              <a:ext cx="152388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28"/>
            <p:cNvSpPr/>
            <p:nvPr/>
          </p:nvSpPr>
          <p:spPr>
            <a:xfrm flipH="1">
              <a:off x="2702520" y="4439880"/>
              <a:ext cx="152388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29"/>
            <p:cNvSpPr/>
            <p:nvPr/>
          </p:nvSpPr>
          <p:spPr>
            <a:xfrm flipH="1">
              <a:off x="971640" y="4439880"/>
              <a:ext cx="1523520" cy="789480"/>
            </a:xfrm>
            <a:prstGeom prst="ellipse">
              <a:avLst/>
            </a:prstGeom>
            <a:noFill/>
            <a:ln w="936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30"/>
            <p:cNvSpPr/>
            <p:nvPr/>
          </p:nvSpPr>
          <p:spPr>
            <a:xfrm flipH="1">
              <a:off x="6284880" y="4439880"/>
              <a:ext cx="1523520" cy="789480"/>
            </a:xfrm>
            <a:prstGeom prst="ellipse">
              <a:avLst/>
            </a:prstGeom>
            <a:noFill/>
            <a:ln w="28440">
              <a:solidFill>
                <a:srgbClr val="def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Text Box 32"/>
          <p:cNvSpPr/>
          <p:nvPr/>
        </p:nvSpPr>
        <p:spPr>
          <a:xfrm>
            <a:off x="2050920" y="112536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TOTAL MINING MANAGEMENT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" name="Picture 33" descr="BD21336_"/>
          <p:cNvPicPr/>
          <p:nvPr/>
        </p:nvPicPr>
        <p:blipFill>
          <a:blip r:embed="rId5"/>
          <a:stretch/>
        </p:blipFill>
        <p:spPr>
          <a:xfrm>
            <a:off x="1835280" y="836640"/>
            <a:ext cx="4322520" cy="698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-360" y="1341000"/>
            <a:ext cx="88390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36DB-B030-40D7-B1CA-C9DC365030B3}" type="slidenum">
              <a:rPr b="0" lang="en-A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D66-FE39-41A5-966A-41FA022A58FC}" type="datetime5">
              <a:rPr b="0" lang="en-AU" sz="1400" spc="-1" strike="noStrike">
                <a:solidFill>
                  <a:srgbClr val="000000"/>
                </a:solidFill>
                <a:latin typeface="Tahoma"/>
              </a:rPr>
              <a:t>30 Jul 2026</a:t>
            </a:fld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June 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125000"/>
              </a:lnSpc>
              <a:spcBef>
                <a:spcPts val="9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68000" y="645336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5E5-BB63-4587-A703-19822AC2BDFE}" type="datetime5">
              <a:rPr b="0" lang="en-AU" sz="1000" spc="-1" strike="noStrike">
                <a:solidFill>
                  <a:srgbClr val="24486c"/>
                </a:solidFill>
                <a:latin typeface="Arial Black"/>
              </a:rPr>
              <a:t>30 Jul 2026</a:t>
            </a:fld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June 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footer&gt;</a:t>
            </a: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Front Line Supervis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5"/>
          </p:nvPr>
        </p:nvSpPr>
        <p:spPr>
          <a:xfrm>
            <a:off x="6732720" y="6453000"/>
            <a:ext cx="213336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185-06BF-4421-8656-F664426F2184}" type="slidenum"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3" descr="PAMIN logo (Converted)-1"/>
          <p:cNvPicPr/>
          <p:nvPr/>
        </p:nvPicPr>
        <p:blipFill>
          <a:blip r:embed="rId3"/>
          <a:stretch/>
        </p:blipFill>
        <p:spPr>
          <a:xfrm>
            <a:off x="0" y="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BD21336_"/>
          <p:cNvPicPr/>
          <p:nvPr/>
        </p:nvPicPr>
        <p:blipFill>
          <a:blip r:embed="rId4"/>
          <a:stretch/>
        </p:blipFill>
        <p:spPr>
          <a:xfrm>
            <a:off x="179280" y="1197000"/>
            <a:ext cx="8723520" cy="69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755640" y="189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39640" y="189000"/>
            <a:ext cx="44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 Black"/>
              </a:rPr>
              <a:t>TOTAL MINING MANAGEMENT SERVIC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500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Front Line Supervisor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773080" y="4365720"/>
            <a:ext cx="309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990033"/>
                </a:solidFill>
                <a:latin typeface="Impact"/>
              </a:rPr>
              <a:t>ACARP Presenta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5661000"/>
            <a:ext cx="2266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 Box 1225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castle NSW 2300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+ 61 2 4927 5511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x + 61 2 4927 55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539120" y="1262160"/>
            <a:ext cx="10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D6AA-ADA0-4F89-815B-AB9AB54735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Essence of the role of FLS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746360"/>
            <a:ext cx="835164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7280" y="2205000"/>
            <a:ext cx="619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a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du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ffe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7A9A2-0E02-49DC-BACA-75FC65FF3A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Traditional Mine Site Organisational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63640" y="1567080"/>
            <a:ext cx="5401440" cy="4814640"/>
            <a:chOff x="1763640" y="1567080"/>
            <a:chExt cx="5401440" cy="4814640"/>
          </a:xfrm>
        </p:grpSpPr>
        <p:cxnSp>
          <p:nvCxnSpPr>
            <p:cNvPr id="144" name="_s205829"/>
            <p:cNvCxnSpPr>
              <a:stCxn id="145" idx="0"/>
              <a:endCxn id="146" idx="2"/>
            </p:cNvCxnSpPr>
            <p:nvPr/>
          </p:nvCxnSpPr>
          <p:spPr>
            <a:xfrm flipV="1">
              <a:off x="4464000" y="552096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30"/>
            <p:cNvCxnSpPr>
              <a:stCxn id="148" idx="0"/>
              <a:endCxn id="149" idx="2"/>
            </p:cNvCxnSpPr>
            <p:nvPr/>
          </p:nvCxnSpPr>
          <p:spPr>
            <a:xfrm flipV="1">
              <a:off x="4464000" y="293184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205831"/>
            <p:cNvCxnSpPr>
              <a:stCxn id="146" idx="0"/>
              <a:endCxn id="151" idx="2"/>
            </p:cNvCxnSpPr>
            <p:nvPr/>
          </p:nvCxnSpPr>
          <p:spPr>
            <a:xfrm flipV="1">
              <a:off x="4464000" y="465732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205832"/>
            <p:cNvCxnSpPr>
              <a:stCxn id="148" idx="2"/>
              <a:endCxn id="151" idx="0"/>
            </p:cNvCxnSpPr>
            <p:nvPr/>
          </p:nvCxnSpPr>
          <p:spPr>
            <a:xfrm flipV="1" rot="10800000">
              <a:off x="4463640" y="3795480"/>
              <a:ext cx="2520" cy="28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833"/>
            <p:cNvCxnSpPr>
              <a:stCxn id="149" idx="0"/>
              <a:endCxn id="154" idx="2"/>
            </p:cNvCxnSpPr>
            <p:nvPr/>
          </p:nvCxnSpPr>
          <p:spPr>
            <a:xfrm flipV="1">
              <a:off x="4464000" y="2141280"/>
              <a:ext cx="2520" cy="21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205834"/>
            <p:cNvSpPr/>
            <p:nvPr/>
          </p:nvSpPr>
          <p:spPr>
            <a:xfrm>
              <a:off x="1763640" y="1567080"/>
              <a:ext cx="540144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Mine Manager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205835"/>
            <p:cNvSpPr/>
            <p:nvPr/>
          </p:nvSpPr>
          <p:spPr>
            <a:xfrm>
              <a:off x="1763640" y="2357640"/>
              <a:ext cx="540000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Production Manager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205836"/>
            <p:cNvSpPr/>
            <p:nvPr/>
          </p:nvSpPr>
          <p:spPr>
            <a:xfrm>
              <a:off x="1763640" y="3219480"/>
              <a:ext cx="5400000" cy="5763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Undermanager in charge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205837"/>
            <p:cNvSpPr/>
            <p:nvPr/>
          </p:nvSpPr>
          <p:spPr>
            <a:xfrm>
              <a:off x="1763640" y="4083120"/>
              <a:ext cx="5400000" cy="5745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Shift Undermanager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205838"/>
            <p:cNvSpPr/>
            <p:nvPr/>
          </p:nvSpPr>
          <p:spPr>
            <a:xfrm>
              <a:off x="1763640" y="4944960"/>
              <a:ext cx="5400000" cy="57636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Deputie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205839"/>
            <p:cNvSpPr/>
            <p:nvPr/>
          </p:nvSpPr>
          <p:spPr>
            <a:xfrm>
              <a:off x="1763640" y="5808600"/>
              <a:ext cx="5400000" cy="57312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ahoma"/>
                </a:rPr>
                <a:t>Crews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4613-FA02-4880-AE32-DD4FB62D63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Constipated Information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1773360"/>
            <a:ext cx="914400" cy="863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77344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06872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089240" y="306864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hif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177336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4292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Shif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79396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06872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8632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33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5516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Bel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3300"/>
                </a:solidFill>
                <a:latin typeface="Tahoma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316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637000"/>
            <a:ext cx="2089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205080" y="2708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03280" y="270828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003280" y="2708280"/>
            <a:ext cx="2017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003280" y="2708280"/>
            <a:ext cx="324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4005360"/>
            <a:ext cx="0" cy="287280"/>
          </a:xfrm>
          <a:prstGeom prst="line">
            <a:avLst/>
          </a:prstGeom>
          <a:ln w="9360">
            <a:solidFill>
              <a:srgbClr val="00a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4000" y="4653000"/>
            <a:ext cx="338436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25440" y="4869000"/>
            <a:ext cx="194292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348000" y="5084640"/>
            <a:ext cx="72072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522936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5084640"/>
            <a:ext cx="79236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797360"/>
            <a:ext cx="208944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4653000"/>
            <a:ext cx="331344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0703-B724-4BE9-9D7B-B477710922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Impact"/>
              </a:rPr>
              <a:t>New streamlined </a:t>
            </a:r>
            <a:br>
              <a:rPr sz="2400"/>
            </a:br>
            <a:r>
              <a:rPr b="0" lang="en-AU" sz="2400" spc="-1" strike="noStrike">
                <a:solidFill>
                  <a:srgbClr val="990033"/>
                </a:solidFill>
                <a:latin typeface="Impact"/>
              </a:rPr>
              <a:t>Area of Responsibility Organisational Chart</a:t>
            </a:r>
            <a:endParaRPr b="0" lang="en-US" sz="2400" spc="-1" strike="noStrike">
              <a:solidFill>
                <a:srgbClr val="990033"/>
              </a:solidFill>
              <a:latin typeface="Impact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8000" y="1699920"/>
            <a:ext cx="5041080" cy="4681440"/>
            <a:chOff x="1908000" y="1699920"/>
            <a:chExt cx="5041080" cy="4681440"/>
          </a:xfrm>
        </p:grpSpPr>
        <p:cxnSp>
          <p:nvCxnSpPr>
            <p:cNvPr id="189" name="_s47116"/>
            <p:cNvCxnSpPr/>
            <p:nvPr/>
          </p:nvCxnSpPr>
          <p:spPr>
            <a:xfrm flipH="1" flipV="1" rot="5400000">
              <a:off x="3661560" y="3402000"/>
              <a:ext cx="1561320" cy="29160"/>
            </a:xfrm>
            <a:prstGeom prst="bentConnector3">
              <a:avLst>
                <a:gd name="adj1" fmla="val 7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47115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4201920" y="5250240"/>
              <a:ext cx="454680" cy="29520"/>
            </a:xfrm>
            <a:prstGeom prst="bentConnector3">
              <a:avLst>
                <a:gd name="adj1" fmla="val 25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47114"/>
            <p:cNvCxnSpPr>
              <a:stCxn id="194" idx="0"/>
              <a:endCxn id="195" idx="2"/>
            </p:cNvCxnSpPr>
            <p:nvPr/>
          </p:nvCxnSpPr>
          <p:spPr>
            <a:xfrm flipV="1">
              <a:off x="4443840" y="2588760"/>
              <a:ext cx="2160" cy="37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5" name="_s47110"/>
            <p:cNvSpPr/>
            <p:nvPr/>
          </p:nvSpPr>
          <p:spPr>
            <a:xfrm>
              <a:off x="1936800" y="1699920"/>
              <a:ext cx="5012280" cy="88920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Mine Manag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47111"/>
            <p:cNvSpPr/>
            <p:nvPr/>
          </p:nvSpPr>
          <p:spPr>
            <a:xfrm>
              <a:off x="1936800" y="2962080"/>
              <a:ext cx="5012280" cy="88884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Development Superintenda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47112"/>
            <p:cNvSpPr/>
            <p:nvPr/>
          </p:nvSpPr>
          <p:spPr>
            <a:xfrm>
              <a:off x="1908000" y="4149360"/>
              <a:ext cx="5012640" cy="88920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Frontline Supervis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47113"/>
            <p:cNvSpPr/>
            <p:nvPr/>
          </p:nvSpPr>
          <p:spPr>
            <a:xfrm>
              <a:off x="1936800" y="5492520"/>
              <a:ext cx="5012280" cy="888840"/>
            </a:xfrm>
            <a:prstGeom prst="roundRect">
              <a:avLst>
                <a:gd name="adj" fmla="val 16667"/>
              </a:avLst>
            </a:prstGeom>
            <a:solidFill>
              <a:srgbClr val="8dc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AU" sz="2000" spc="-1" strike="noStrike">
                  <a:solidFill>
                    <a:srgbClr val="000000"/>
                  </a:solidFill>
                  <a:latin typeface="Tahoma"/>
                </a:rPr>
                <a:t>Crews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73320-080E-4DC2-A657-EC5711D6BE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Process Driven Information Flow Chart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2001960" y="242100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009960" y="2421000"/>
            <a:ext cx="914400" cy="936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9564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89760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7885080" y="244332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00996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DEV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89760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Bel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427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38036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8317080" y="3357720"/>
            <a:ext cx="0" cy="1150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993600" y="242100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anag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Shift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065240" y="4508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U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Shift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3068640"/>
            <a:ext cx="863640" cy="18284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3300"/>
                </a:solidFill>
                <a:latin typeface="Tahoma"/>
              </a:rPr>
              <a:t>Shift U/M has an overview of shift workings but does not run the process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77820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1557360"/>
            <a:ext cx="6769080" cy="79452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The flow of information is directly from process to process team members and will reflect current up-to-date inform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66cc"/>
                </a:solidFill>
                <a:latin typeface="Tahoma"/>
              </a:rPr>
              <a:t>and the 24 hour plan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3357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6192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5E9A5-F151-4408-8AC4-BECB135DD6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Roles of Front Line Supervisor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508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191600" y="1341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19280" y="2060640"/>
            <a:ext cx="864720" cy="1018440"/>
            <a:chOff x="1619280" y="2060640"/>
            <a:chExt cx="864720" cy="1018440"/>
          </a:xfrm>
        </p:grpSpPr>
        <p:grpSp>
          <p:nvGrpSpPr>
            <p:cNvPr id="230" name=""/>
            <p:cNvGrpSpPr/>
            <p:nvPr/>
          </p:nvGrpSpPr>
          <p:grpSpPr>
            <a:xfrm>
              <a:off x="1965960" y="2060640"/>
              <a:ext cx="518040" cy="519480"/>
              <a:chOff x="1965960" y="2060640"/>
              <a:chExt cx="518040" cy="51948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965960" y="2060640"/>
                <a:ext cx="354600" cy="4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074680" y="2138040"/>
                <a:ext cx="32724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83760" y="2216160"/>
                <a:ext cx="300240" cy="36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619280" y="2710800"/>
              <a:ext cx="80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ahoma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58600" y="2205000"/>
            <a:ext cx="1099800" cy="863280"/>
            <a:chOff x="3558600" y="2205000"/>
            <a:chExt cx="1099800" cy="863280"/>
          </a:xfrm>
        </p:grpSpPr>
        <p:sp>
          <p:nvSpPr>
            <p:cNvPr id="236" name="Cloud"/>
            <p:cNvSpPr/>
            <p:nvPr/>
          </p:nvSpPr>
          <p:spPr>
            <a:xfrm>
              <a:off x="3564000" y="2635200"/>
              <a:ext cx="634680" cy="433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58600" y="220500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ahoma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8" name="Form"/>
          <p:cNvSpPr/>
          <p:nvPr/>
        </p:nvSpPr>
        <p:spPr>
          <a:xfrm>
            <a:off x="7524720" y="3860640"/>
            <a:ext cx="290520" cy="505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716280"/>
            <a:ext cx="792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Pre-flight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24hr pl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1700280"/>
            <a:ext cx="6409080" cy="3313080"/>
          </a:xfrm>
          <a:custGeom>
            <a:avLst/>
            <a:gdLst/>
            <a:ahLst/>
            <a:rect l="l" t="t" r="r" b="b"/>
            <a:pathLst>
              <a:path w="3583" h="1814">
                <a:moveTo>
                  <a:pt x="3583" y="1814"/>
                </a:moveTo>
                <a:cubicBezTo>
                  <a:pt x="3541" y="1772"/>
                  <a:pt x="3500" y="1731"/>
                  <a:pt x="3447" y="1678"/>
                </a:cubicBezTo>
                <a:cubicBezTo>
                  <a:pt x="3394" y="1625"/>
                  <a:pt x="3326" y="1542"/>
                  <a:pt x="3266" y="1497"/>
                </a:cubicBezTo>
                <a:cubicBezTo>
                  <a:pt x="3206" y="1452"/>
                  <a:pt x="3122" y="1421"/>
                  <a:pt x="3084" y="1406"/>
                </a:cubicBezTo>
                <a:cubicBezTo>
                  <a:pt x="3046" y="1391"/>
                  <a:pt x="3062" y="1406"/>
                  <a:pt x="3039" y="1406"/>
                </a:cubicBezTo>
                <a:cubicBezTo>
                  <a:pt x="3016" y="1406"/>
                  <a:pt x="2986" y="1406"/>
                  <a:pt x="2948" y="1406"/>
                </a:cubicBezTo>
                <a:cubicBezTo>
                  <a:pt x="2910" y="1406"/>
                  <a:pt x="2865" y="1421"/>
                  <a:pt x="2812" y="1406"/>
                </a:cubicBezTo>
                <a:cubicBezTo>
                  <a:pt x="2759" y="1391"/>
                  <a:pt x="2668" y="1338"/>
                  <a:pt x="2630" y="1315"/>
                </a:cubicBezTo>
                <a:cubicBezTo>
                  <a:pt x="2592" y="1292"/>
                  <a:pt x="2608" y="1307"/>
                  <a:pt x="2585" y="1270"/>
                </a:cubicBezTo>
                <a:cubicBezTo>
                  <a:pt x="2562" y="1233"/>
                  <a:pt x="2524" y="1142"/>
                  <a:pt x="2494" y="1089"/>
                </a:cubicBezTo>
                <a:cubicBezTo>
                  <a:pt x="2464" y="1036"/>
                  <a:pt x="2442" y="991"/>
                  <a:pt x="2404" y="953"/>
                </a:cubicBezTo>
                <a:cubicBezTo>
                  <a:pt x="2366" y="915"/>
                  <a:pt x="2313" y="877"/>
                  <a:pt x="2268" y="862"/>
                </a:cubicBezTo>
                <a:cubicBezTo>
                  <a:pt x="2223" y="847"/>
                  <a:pt x="2177" y="862"/>
                  <a:pt x="2132" y="862"/>
                </a:cubicBezTo>
                <a:cubicBezTo>
                  <a:pt x="2087" y="862"/>
                  <a:pt x="2040" y="855"/>
                  <a:pt x="1995" y="862"/>
                </a:cubicBezTo>
                <a:cubicBezTo>
                  <a:pt x="1950" y="869"/>
                  <a:pt x="1927" y="892"/>
                  <a:pt x="1859" y="907"/>
                </a:cubicBezTo>
                <a:cubicBezTo>
                  <a:pt x="1791" y="922"/>
                  <a:pt x="1655" y="945"/>
                  <a:pt x="1587" y="953"/>
                </a:cubicBezTo>
                <a:cubicBezTo>
                  <a:pt x="1519" y="961"/>
                  <a:pt x="1496" y="953"/>
                  <a:pt x="1451" y="953"/>
                </a:cubicBezTo>
                <a:cubicBezTo>
                  <a:pt x="1406" y="953"/>
                  <a:pt x="1360" y="976"/>
                  <a:pt x="1315" y="953"/>
                </a:cubicBezTo>
                <a:cubicBezTo>
                  <a:pt x="1270" y="930"/>
                  <a:pt x="1224" y="870"/>
                  <a:pt x="1179" y="817"/>
                </a:cubicBezTo>
                <a:cubicBezTo>
                  <a:pt x="1134" y="764"/>
                  <a:pt x="1081" y="710"/>
                  <a:pt x="1043" y="635"/>
                </a:cubicBezTo>
                <a:cubicBezTo>
                  <a:pt x="1005" y="560"/>
                  <a:pt x="990" y="423"/>
                  <a:pt x="952" y="363"/>
                </a:cubicBezTo>
                <a:cubicBezTo>
                  <a:pt x="914" y="303"/>
                  <a:pt x="861" y="310"/>
                  <a:pt x="816" y="272"/>
                </a:cubicBezTo>
                <a:cubicBezTo>
                  <a:pt x="771" y="234"/>
                  <a:pt x="718" y="166"/>
                  <a:pt x="680" y="136"/>
                </a:cubicBezTo>
                <a:cubicBezTo>
                  <a:pt x="642" y="106"/>
                  <a:pt x="634" y="106"/>
                  <a:pt x="589" y="91"/>
                </a:cubicBezTo>
                <a:cubicBezTo>
                  <a:pt x="544" y="76"/>
                  <a:pt x="453" y="53"/>
                  <a:pt x="408" y="45"/>
                </a:cubicBezTo>
                <a:cubicBezTo>
                  <a:pt x="363" y="37"/>
                  <a:pt x="355" y="30"/>
                  <a:pt x="317" y="45"/>
                </a:cubicBezTo>
                <a:cubicBezTo>
                  <a:pt x="279" y="60"/>
                  <a:pt x="226" y="113"/>
                  <a:pt x="181" y="136"/>
                </a:cubicBezTo>
                <a:cubicBezTo>
                  <a:pt x="136" y="159"/>
                  <a:pt x="75" y="188"/>
                  <a:pt x="45" y="181"/>
                </a:cubicBezTo>
                <a:cubicBezTo>
                  <a:pt x="15" y="174"/>
                  <a:pt x="0" y="121"/>
                  <a:pt x="0" y="91"/>
                </a:cubicBezTo>
                <a:cubicBezTo>
                  <a:pt x="0" y="61"/>
                  <a:pt x="38" y="15"/>
                  <a:pt x="45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93440" y="1557360"/>
            <a:ext cx="6262920" cy="3456000"/>
          </a:xfrm>
          <a:prstGeom prst="line">
            <a:avLst/>
          </a:prstGeom>
          <a:ln w="158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18318000">
            <a:off x="5434920" y="3069000"/>
            <a:ext cx="604800" cy="603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416160" cy="432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2680" y="256536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raffic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788400" y="5084640"/>
            <a:ext cx="350460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Need to supply tools and radar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to enable Pilot/Supervisor to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get from A to B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227640" y="479736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219640" y="4789440"/>
            <a:ext cx="1008000" cy="9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560920" y="581976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5776920" y="5892840"/>
            <a:ext cx="181944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Ensure that equipment is fit for 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95240" y="2708280"/>
            <a:ext cx="2693880" cy="641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Communication with cross mat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Undermanager (if requir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ahoma"/>
              </a:rPr>
              <a:t>or superintendent/coordin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614760" y="3645000"/>
            <a:ext cx="196524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rew with appropriate skil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402000" y="1341360"/>
            <a:ext cx="376236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Ability for FLS to make decisions on the job as circumstances dict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740720" y="414972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373800" y="5733720"/>
            <a:ext cx="698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7596360" y="1484280"/>
            <a:ext cx="942840" cy="942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V="1">
            <a:off x="7380360" y="2205000"/>
            <a:ext cx="36036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66920" y="3133800"/>
            <a:ext cx="115416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Planning to keep on cour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421080" y="3213000"/>
            <a:ext cx="2872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084720" y="4292640"/>
            <a:ext cx="574920" cy="50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4716360" y="1989000"/>
            <a:ext cx="1428840" cy="895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364000" y="184464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364000" y="3357360"/>
            <a:ext cx="36216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D9124-489B-40C2-9EFB-33A89A4A5A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32000" y="1989000"/>
            <a:ext cx="676908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9900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42CF-6738-4D11-B8C7-E2088380D6C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0033"/>
                </a:solidFill>
                <a:latin typeface="Impact"/>
              </a:rPr>
              <a:t>Typical industry advertisement </a:t>
            </a:r>
            <a:endParaRPr b="0" lang="en-US" sz="36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Deputy/Crew Supervisors will need their NSW 3rd Class Certificate of Competency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A good understanding of modern development mining processes and method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Experienced in fault finding and problem solving skills that contribute to innovative outcome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Competent organisational, communications &amp; planning skills that contribute to productive and harmonious relations and strategic planning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Good leadership and experience, applying these skills in a mining environment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An ability to work with, through and for other people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Teamwork skills that contribute to productive working relationships;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Understanding of, and ability to comply with and promote the NSW Occupational &amp; Health Safety Act, and Coal Mines Health &amp; Safety Regulation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Have understanding of risk management processes and the use of safe work procedure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Be comfortable performing the full range of mining or trade tasks in which you have been train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Narrow"/>
              </a:rPr>
              <a:t>Computer Skill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2EFF-FD88-4F58-844D-6CF001A621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If only ?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842160" cy="489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5760" y="1628640"/>
            <a:ext cx="244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f only it was  the case of  implanting  a new chi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nto a deputy and then transforming th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AU" sz="1200" spc="-1" strike="noStrike">
                <a:solidFill>
                  <a:srgbClr val="ff0000"/>
                </a:solidFill>
                <a:latin typeface="Tahoma"/>
              </a:rPr>
              <a:t>into the new model Front Line Supervis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8F49-7BB6-4BD5-BF35-5D37C55E36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Leadership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AAC2-C569-440B-BF0E-489791257B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Communication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608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98600" y="49338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F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5146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Cr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203B2-15CA-4EB6-8FC7-9724BB99CA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Communication + Teamwork = Success 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74C7A-4D67-4A0B-8C02-52D5E80E0B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Accountability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8338-6ED1-4837-B99F-A9D890D422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Impact"/>
              </a:rPr>
              <a:t>Mentoring/Coaching opportunities of your crew</a:t>
            </a:r>
            <a:endParaRPr b="0" lang="en-US" sz="32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84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4464000" cy="49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AC0F0-B404-411D-A5E1-A687D47F9D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0033"/>
                </a:solidFill>
                <a:latin typeface="Impact"/>
              </a:rPr>
              <a:t>Team work/Team leader /FLS</a:t>
            </a:r>
            <a:endParaRPr b="0" lang="en-US" sz="4000" spc="-1" strike="noStrike">
              <a:solidFill>
                <a:srgbClr val="99003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08560" y="1932120"/>
            <a:ext cx="22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119480" y="1413000"/>
            <a:ext cx="131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606e0"/>
                </a:solidFill>
                <a:latin typeface="Tahoma"/>
              </a:rPr>
              <a:t>Provide direct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606e0"/>
                </a:solidFill>
                <a:latin typeface="Tahoma"/>
              </a:rPr>
              <a:t>leadership and mentoring a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479840" y="43084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rot="20616600">
            <a:off x="4140360" y="4141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874960" y="2565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F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B9194-9FB2-4EC7-B26D-56D463D9DE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6:48:38Z</dcterms:created>
  <dc:creator>Admin</dc:creator>
  <dc:description/>
  <cp:keywords/>
  <dc:language>en-US</dc:language>
  <cp:lastModifiedBy>sholmes</cp:lastModifiedBy>
  <dcterms:modified xsi:type="dcterms:W3CDTF">2009-08-24T22:29:27Z</dcterms:modified>
  <cp:revision>291</cp:revision>
  <dc:subject/>
  <dc:title>Narrabri SM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8881033</vt:lpwstr>
  </property>
</Properties>
</file>