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DEED-2BFE-43C5-8031-C37F7BE75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71640" y="1951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3BD2-87F0-40DB-B84C-5A03200CD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972320" cy="372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84680" y="1692360"/>
            <a:ext cx="407052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5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82D4-D353-4750-8335-08BDA5815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000" y="411012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2165-72DC-4EFE-8948-0D95DFC7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4768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D114-93B8-43FA-8E2E-BCBEC13A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184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1532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00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184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1532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1A94-FB70-4050-8BF3-B4888CA745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7859B-C5D6-457F-8147-97C1B7BF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2B5EC-C3C9-4847-A891-AB5F6F6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66430-3105-4E0D-8857-C65D65BA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A402B-54D7-4A8A-B3B1-91DD0F01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CE416-B73D-4BD2-A7F2-19F49F4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F5C50-7D13-4632-81B9-0BF4CC2E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9961B-57CE-4675-AB70-BFADB9F9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8718-3559-4DF4-82EB-B6BE58C8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68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7374C-D3D6-4586-A3DD-24A9EF88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01B7A-BBF9-4ACE-ACEC-EACB3227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000" y="411012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4AA6C-2581-471E-89FC-8B9C5974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68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AC7A2-C6EE-4967-B996-A242981B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184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1532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00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184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1532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88591-EF7B-447E-AC45-07946CFB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2292-29CA-49FC-99FD-AB29FF32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42D8-FB03-4408-BA4F-A7FB7848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9CA4-2941-4879-93D5-A100BB4B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2364-B2E2-4FBA-9A58-3F6A550D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F5EC-12DF-4820-AE29-BE502E6C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768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BE34-76BA-4BED-B12F-BDC348AD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FB94-A89B-41F6-8539-718A4C3E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AMIN logo (Converted)-1"/>
          <p:cNvPicPr/>
          <p:nvPr/>
        </p:nvPicPr>
        <p:blipFill>
          <a:blip r:embed="rId3"/>
          <a:stretch/>
        </p:blipFill>
        <p:spPr>
          <a:xfrm>
            <a:off x="46836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BD21336_"/>
          <p:cNvPicPr/>
          <p:nvPr/>
        </p:nvPicPr>
        <p:blipFill>
          <a:blip r:embed="rId4"/>
          <a:stretch/>
        </p:blipFill>
        <p:spPr>
          <a:xfrm>
            <a:off x="0" y="5516640"/>
            <a:ext cx="9144000" cy="1458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24"/>
          <p:cNvGrpSpPr/>
          <p:nvPr/>
        </p:nvGrpSpPr>
        <p:grpSpPr>
          <a:xfrm>
            <a:off x="971640" y="3573360"/>
            <a:ext cx="6836760" cy="1656000"/>
            <a:chOff x="971640" y="3573360"/>
            <a:chExt cx="6836760" cy="1656000"/>
          </a:xfrm>
        </p:grpSpPr>
        <p:sp>
          <p:nvSpPr>
            <p:cNvPr id="3" name="Oval 25"/>
            <p:cNvSpPr/>
            <p:nvPr/>
          </p:nvSpPr>
          <p:spPr>
            <a:xfrm flipH="1">
              <a:off x="6284880" y="3573360"/>
              <a:ext cx="1523520" cy="789480"/>
            </a:xfrm>
            <a:prstGeom prst="ellipse">
              <a:avLst/>
            </a:prstGeom>
            <a:noFill/>
            <a:ln w="936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Oval 26"/>
            <p:cNvSpPr/>
            <p:nvPr/>
          </p:nvSpPr>
          <p:spPr>
            <a:xfrm flipH="1">
              <a:off x="4493160" y="3573360"/>
              <a:ext cx="1523880" cy="789480"/>
            </a:xfrm>
            <a:prstGeom prst="ellipse">
              <a:avLst/>
            </a:prstGeom>
            <a:noFill/>
            <a:ln w="936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27"/>
            <p:cNvSpPr/>
            <p:nvPr/>
          </p:nvSpPr>
          <p:spPr>
            <a:xfrm flipH="1">
              <a:off x="2702520" y="3573360"/>
              <a:ext cx="1523880" cy="789480"/>
            </a:xfrm>
            <a:prstGeom prst="ellipse">
              <a:avLst/>
            </a:prstGeom>
            <a:noFill/>
            <a:ln w="2844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28"/>
            <p:cNvSpPr/>
            <p:nvPr/>
          </p:nvSpPr>
          <p:spPr>
            <a:xfrm flipH="1">
              <a:off x="2702520" y="4439880"/>
              <a:ext cx="1523880" cy="789480"/>
            </a:xfrm>
            <a:prstGeom prst="ellipse">
              <a:avLst/>
            </a:prstGeom>
            <a:noFill/>
            <a:ln w="2844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29"/>
            <p:cNvSpPr/>
            <p:nvPr/>
          </p:nvSpPr>
          <p:spPr>
            <a:xfrm flipH="1">
              <a:off x="971640" y="4439880"/>
              <a:ext cx="1523520" cy="789480"/>
            </a:xfrm>
            <a:prstGeom prst="ellipse">
              <a:avLst/>
            </a:prstGeom>
            <a:noFill/>
            <a:ln w="936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30"/>
            <p:cNvSpPr/>
            <p:nvPr/>
          </p:nvSpPr>
          <p:spPr>
            <a:xfrm flipH="1">
              <a:off x="6284880" y="4439880"/>
              <a:ext cx="1523520" cy="789480"/>
            </a:xfrm>
            <a:prstGeom prst="ellipse">
              <a:avLst/>
            </a:prstGeom>
            <a:noFill/>
            <a:ln w="2844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Text Box 32"/>
          <p:cNvSpPr/>
          <p:nvPr/>
        </p:nvSpPr>
        <p:spPr>
          <a:xfrm>
            <a:off x="2050920" y="1125360"/>
            <a:ext cx="56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TOTAL MINING MANAGEMENT SER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" name="Picture 33" descr="BD21336_"/>
          <p:cNvPicPr/>
          <p:nvPr/>
        </p:nvPicPr>
        <p:blipFill>
          <a:blip r:embed="rId5"/>
          <a:stretch/>
        </p:blipFill>
        <p:spPr>
          <a:xfrm>
            <a:off x="1835280" y="836640"/>
            <a:ext cx="4322520" cy="6984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-360" y="1341000"/>
            <a:ext cx="88390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B1D2-E8E3-40C2-B783-C68E38469DEC}" type="slidenum">
              <a:rPr b="0" lang="en-A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F802-9BE3-4EAA-AD9B-FD2BA1C19439}" type="datetime5">
              <a:rPr b="0" lang="en-AU" sz="1400" spc="-1" strike="noStrike">
                <a:solidFill>
                  <a:srgbClr val="000000"/>
                </a:solidFill>
                <a:latin typeface="Tahoma"/>
              </a:rPr>
              <a:t>30 Jul 2026</a:t>
            </a:fld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June 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68000" y="645336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E763-CCC0-4CA4-9BDD-2A2515CDB81E}" type="datetime5">
              <a:rPr b="0" lang="en-AU" sz="1000" spc="-1" strike="noStrike">
                <a:solidFill>
                  <a:srgbClr val="24486c"/>
                </a:solidFill>
                <a:latin typeface="Arial Black"/>
              </a:rPr>
              <a:t>30 Jul 2026</a:t>
            </a:fld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June 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footer&gt;</a:t>
            </a:r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Front Line Supervis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5"/>
          </p:nvPr>
        </p:nvSpPr>
        <p:spPr>
          <a:xfrm>
            <a:off x="6732720" y="6453000"/>
            <a:ext cx="213336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AC90-FBD1-4ECC-A9C0-ED6652549063}" type="slidenum"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3" descr="PAMIN logo (Converted)-1"/>
          <p:cNvPicPr/>
          <p:nvPr/>
        </p:nvPicPr>
        <p:blipFill>
          <a:blip r:embed="rId3"/>
          <a:stretch/>
        </p:blipFill>
        <p:spPr>
          <a:xfrm>
            <a:off x="0" y="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BD21336_"/>
          <p:cNvPicPr/>
          <p:nvPr/>
        </p:nvPicPr>
        <p:blipFill>
          <a:blip r:embed="rId4"/>
          <a:stretch/>
        </p:blipFill>
        <p:spPr>
          <a:xfrm>
            <a:off x="179280" y="1197000"/>
            <a:ext cx="8723520" cy="69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755640" y="18900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539640" y="189000"/>
            <a:ext cx="446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Black"/>
              </a:rPr>
              <a:t>TOTAL MINING MANAGEMENT SERVIC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500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Front Line Supervisor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773080" y="4365720"/>
            <a:ext cx="3095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0033"/>
                </a:solidFill>
                <a:latin typeface="Impact"/>
              </a:rPr>
              <a:t>ACARP Presenta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5661000"/>
            <a:ext cx="2266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 Box 1225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castle NSW 2300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ne + 61 2 4927 5511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x + 61 2 4927 55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539120" y="1262160"/>
            <a:ext cx="106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8086-7017-44F2-B33E-7F6F9813F57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Essence of the role of FLS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746360"/>
            <a:ext cx="835164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7280" y="2205000"/>
            <a:ext cx="6193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oactiv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oductiv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ffectiv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49034-14A0-4749-862C-38C84E6CEB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Traditional Mine Site Organisational Flow Chart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63640" y="1567080"/>
            <a:ext cx="5401440" cy="4814640"/>
            <a:chOff x="1763640" y="1567080"/>
            <a:chExt cx="5401440" cy="4814640"/>
          </a:xfrm>
        </p:grpSpPr>
        <p:cxnSp>
          <p:nvCxnSpPr>
            <p:cNvPr id="144" name="_s205829"/>
            <p:cNvCxnSpPr>
              <a:stCxn id="145" idx="0"/>
              <a:endCxn id="146" idx="2"/>
            </p:cNvCxnSpPr>
            <p:nvPr/>
          </p:nvCxnSpPr>
          <p:spPr>
            <a:xfrm flipV="1">
              <a:off x="4464000" y="5520960"/>
              <a:ext cx="2520" cy="28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30"/>
            <p:cNvCxnSpPr>
              <a:stCxn id="148" idx="0"/>
              <a:endCxn id="149" idx="2"/>
            </p:cNvCxnSpPr>
            <p:nvPr/>
          </p:nvCxnSpPr>
          <p:spPr>
            <a:xfrm flipV="1">
              <a:off x="4464000" y="2931840"/>
              <a:ext cx="2520" cy="28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205831"/>
            <p:cNvCxnSpPr>
              <a:stCxn id="146" idx="0"/>
              <a:endCxn id="151" idx="2"/>
            </p:cNvCxnSpPr>
            <p:nvPr/>
          </p:nvCxnSpPr>
          <p:spPr>
            <a:xfrm flipV="1">
              <a:off x="4464000" y="4657320"/>
              <a:ext cx="2520" cy="28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205832"/>
            <p:cNvCxnSpPr>
              <a:stCxn id="148" idx="2"/>
              <a:endCxn id="151" idx="0"/>
            </p:cNvCxnSpPr>
            <p:nvPr/>
          </p:nvCxnSpPr>
          <p:spPr>
            <a:xfrm flipV="1" rot="10800000">
              <a:off x="4463640" y="3795480"/>
              <a:ext cx="2520" cy="28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205833"/>
            <p:cNvCxnSpPr>
              <a:stCxn id="149" idx="0"/>
              <a:endCxn id="154" idx="2"/>
            </p:cNvCxnSpPr>
            <p:nvPr/>
          </p:nvCxnSpPr>
          <p:spPr>
            <a:xfrm flipV="1">
              <a:off x="4464000" y="2141280"/>
              <a:ext cx="2520" cy="21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205834"/>
            <p:cNvSpPr/>
            <p:nvPr/>
          </p:nvSpPr>
          <p:spPr>
            <a:xfrm>
              <a:off x="1763640" y="1567080"/>
              <a:ext cx="5401440" cy="5745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Mine Manager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205835"/>
            <p:cNvSpPr/>
            <p:nvPr/>
          </p:nvSpPr>
          <p:spPr>
            <a:xfrm>
              <a:off x="1763640" y="2357640"/>
              <a:ext cx="5400000" cy="5745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Production Manager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205836"/>
            <p:cNvSpPr/>
            <p:nvPr/>
          </p:nvSpPr>
          <p:spPr>
            <a:xfrm>
              <a:off x="1763640" y="3219480"/>
              <a:ext cx="5400000" cy="5763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Undermanager in charge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205837"/>
            <p:cNvSpPr/>
            <p:nvPr/>
          </p:nvSpPr>
          <p:spPr>
            <a:xfrm>
              <a:off x="1763640" y="4083120"/>
              <a:ext cx="5400000" cy="5745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Shift Undermanagers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205838"/>
            <p:cNvSpPr/>
            <p:nvPr/>
          </p:nvSpPr>
          <p:spPr>
            <a:xfrm>
              <a:off x="1763640" y="4944960"/>
              <a:ext cx="5400000" cy="5763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Deputies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205839"/>
            <p:cNvSpPr/>
            <p:nvPr/>
          </p:nvSpPr>
          <p:spPr>
            <a:xfrm>
              <a:off x="1763640" y="5808600"/>
              <a:ext cx="5400000" cy="57312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Crews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EE662-31DE-4727-AB20-736DBD4BF23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Constipated Information Flow Chart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unit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1773360"/>
            <a:ext cx="914400" cy="863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unit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77344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06872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rain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089240" y="306864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U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Shif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88508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Bel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068720" y="4292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U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Shift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uni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DE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79396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06872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Drain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38632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88508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Bel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708280"/>
            <a:ext cx="316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637000"/>
            <a:ext cx="2089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205080" y="2708280"/>
            <a:ext cx="863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003280" y="270828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003280" y="2708280"/>
            <a:ext cx="2017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003280" y="2708280"/>
            <a:ext cx="324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4005360"/>
            <a:ext cx="0" cy="287280"/>
          </a:xfrm>
          <a:prstGeom prst="line">
            <a:avLst/>
          </a:prstGeom>
          <a:ln w="9360">
            <a:solidFill>
              <a:srgbClr val="00a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4000" y="4653000"/>
            <a:ext cx="338436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125440" y="4869000"/>
            <a:ext cx="1942920" cy="647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348000" y="5084640"/>
            <a:ext cx="72072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5229360"/>
            <a:ext cx="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5084640"/>
            <a:ext cx="79236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4797360"/>
            <a:ext cx="2089440" cy="71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003640" y="4653000"/>
            <a:ext cx="331344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364B4-5610-4E07-B015-75383A93B4A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33"/>
                </a:solidFill>
                <a:latin typeface="Impact"/>
              </a:rPr>
              <a:t>New streamlined </a:t>
            </a:r>
            <a:br>
              <a:rPr sz="2400"/>
            </a:br>
            <a:r>
              <a:rPr b="0" lang="en-AU" sz="2400" spc="-1" strike="noStrike">
                <a:solidFill>
                  <a:srgbClr val="990033"/>
                </a:solidFill>
                <a:latin typeface="Impact"/>
              </a:rPr>
              <a:t>Area of Responsibility Organisational Chart</a:t>
            </a:r>
            <a:endParaRPr b="0" lang="en-US" sz="2400" spc="-1" strike="noStrike">
              <a:solidFill>
                <a:srgbClr val="990033"/>
              </a:solidFill>
              <a:latin typeface="Impact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8000" y="1699920"/>
            <a:ext cx="5041080" cy="4681440"/>
            <a:chOff x="1908000" y="1699920"/>
            <a:chExt cx="5041080" cy="4681440"/>
          </a:xfrm>
        </p:grpSpPr>
        <p:cxnSp>
          <p:nvCxnSpPr>
            <p:cNvPr id="189" name="_s47116"/>
            <p:cNvCxnSpPr/>
            <p:nvPr/>
          </p:nvCxnSpPr>
          <p:spPr>
            <a:xfrm flipH="1" flipV="1" rot="5400000">
              <a:off x="3661560" y="3402000"/>
              <a:ext cx="1561320" cy="29160"/>
            </a:xfrm>
            <a:prstGeom prst="bentConnector3">
              <a:avLst>
                <a:gd name="adj1" fmla="val 7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47115"/>
            <p:cNvCxnSpPr>
              <a:stCxn id="191" idx="0"/>
              <a:endCxn id="192" idx="2"/>
            </p:cNvCxnSpPr>
            <p:nvPr/>
          </p:nvCxnSpPr>
          <p:spPr>
            <a:xfrm flipV="1" rot="16200000">
              <a:off x="4201920" y="5250240"/>
              <a:ext cx="454680" cy="29520"/>
            </a:xfrm>
            <a:prstGeom prst="bentConnector3">
              <a:avLst>
                <a:gd name="adj1" fmla="val 251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47114"/>
            <p:cNvCxnSpPr>
              <a:stCxn id="194" idx="0"/>
              <a:endCxn id="195" idx="2"/>
            </p:cNvCxnSpPr>
            <p:nvPr/>
          </p:nvCxnSpPr>
          <p:spPr>
            <a:xfrm flipV="1">
              <a:off x="4443840" y="2588760"/>
              <a:ext cx="2160" cy="37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5" name="_s47110"/>
            <p:cNvSpPr/>
            <p:nvPr/>
          </p:nvSpPr>
          <p:spPr>
            <a:xfrm>
              <a:off x="1936800" y="1699920"/>
              <a:ext cx="5012280" cy="88920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ahoma"/>
                </a:rPr>
                <a:t>Mine Manag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47111"/>
            <p:cNvSpPr/>
            <p:nvPr/>
          </p:nvSpPr>
          <p:spPr>
            <a:xfrm>
              <a:off x="1936800" y="2962080"/>
              <a:ext cx="5012280" cy="88884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ahoma"/>
                </a:rPr>
                <a:t>Development Superintenda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47112"/>
            <p:cNvSpPr/>
            <p:nvPr/>
          </p:nvSpPr>
          <p:spPr>
            <a:xfrm>
              <a:off x="1908000" y="4149360"/>
              <a:ext cx="5012640" cy="88920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ahoma"/>
                </a:rPr>
                <a:t>Frontline Superviso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47113"/>
            <p:cNvSpPr/>
            <p:nvPr/>
          </p:nvSpPr>
          <p:spPr>
            <a:xfrm>
              <a:off x="1936800" y="5492520"/>
              <a:ext cx="5012280" cy="88884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AU" sz="2000" spc="-1" strike="noStrike">
                  <a:solidFill>
                    <a:srgbClr val="000000"/>
                  </a:solidFill>
                  <a:latin typeface="Tahoma"/>
                </a:rPr>
                <a:t>Crews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2FC63-0BBF-476D-8CB5-98D38888EB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Process Driven Information Flow Chart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2001960" y="242100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009960" y="2421000"/>
            <a:ext cx="914400" cy="936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9564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Drain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89760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788508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Bel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00996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Drain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89760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788508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Bel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42764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738036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831708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993600" y="242100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U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Manag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Shift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06524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U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Shift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3068640"/>
            <a:ext cx="863640" cy="182844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3300"/>
                </a:solidFill>
                <a:latin typeface="Tahoma"/>
              </a:rPr>
              <a:t>Shift U/M has an overview of shift workings but does not run the process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3778200"/>
            <a:ext cx="41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1557360"/>
            <a:ext cx="6769080" cy="79452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cc"/>
                </a:solidFill>
                <a:latin typeface="Tahoma"/>
              </a:rPr>
              <a:t>The flow of information is directly from process to process team members and will reflect current up-to-date inform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en-AU" sz="1400" spc="-1" strike="noStrike">
                <a:solidFill>
                  <a:srgbClr val="0066cc"/>
                </a:solidFill>
                <a:latin typeface="Tahoma"/>
              </a:rPr>
              <a:t>and the 24 hour plan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3357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619280" y="33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33627-804E-467D-955A-5E4FF8F4BA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Roles of Front Line Supervisor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50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191600" y="13413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19280" y="2060640"/>
            <a:ext cx="864720" cy="1018440"/>
            <a:chOff x="1619280" y="2060640"/>
            <a:chExt cx="864720" cy="1018440"/>
          </a:xfrm>
        </p:grpSpPr>
        <p:grpSp>
          <p:nvGrpSpPr>
            <p:cNvPr id="230" name=""/>
            <p:cNvGrpSpPr/>
            <p:nvPr/>
          </p:nvGrpSpPr>
          <p:grpSpPr>
            <a:xfrm>
              <a:off x="1965960" y="2060640"/>
              <a:ext cx="518040" cy="519480"/>
              <a:chOff x="1965960" y="2060640"/>
              <a:chExt cx="518040" cy="51948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965960" y="2060640"/>
                <a:ext cx="354600" cy="41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2074680" y="2138040"/>
                <a:ext cx="327240" cy="38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183760" y="2216160"/>
                <a:ext cx="300240" cy="36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619280" y="2710800"/>
              <a:ext cx="80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Tahoma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558600" y="2205000"/>
            <a:ext cx="1099800" cy="863280"/>
            <a:chOff x="3558600" y="2205000"/>
            <a:chExt cx="1099800" cy="863280"/>
          </a:xfrm>
        </p:grpSpPr>
        <p:sp>
          <p:nvSpPr>
            <p:cNvPr id="236" name="Cloud"/>
            <p:cNvSpPr/>
            <p:nvPr/>
          </p:nvSpPr>
          <p:spPr>
            <a:xfrm>
              <a:off x="3564000" y="2635200"/>
              <a:ext cx="634680" cy="433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58600" y="220500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Tahoma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8" name="Form"/>
          <p:cNvSpPr/>
          <p:nvPr/>
        </p:nvSpPr>
        <p:spPr>
          <a:xfrm>
            <a:off x="7524720" y="3860640"/>
            <a:ext cx="290520" cy="505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8028000" y="3716280"/>
            <a:ext cx="79200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Pre-flight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24hr pl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1700280"/>
            <a:ext cx="6409080" cy="3313080"/>
          </a:xfrm>
          <a:custGeom>
            <a:avLst/>
            <a:gdLst/>
            <a:ahLst/>
            <a:rect l="l" t="t" r="r" b="b"/>
            <a:pathLst>
              <a:path w="3583" h="1814">
                <a:moveTo>
                  <a:pt x="3583" y="1814"/>
                </a:moveTo>
                <a:cubicBezTo>
                  <a:pt x="3541" y="1772"/>
                  <a:pt x="3500" y="1731"/>
                  <a:pt x="3447" y="1678"/>
                </a:cubicBezTo>
                <a:cubicBezTo>
                  <a:pt x="3394" y="1625"/>
                  <a:pt x="3326" y="1542"/>
                  <a:pt x="3266" y="1497"/>
                </a:cubicBezTo>
                <a:cubicBezTo>
                  <a:pt x="3206" y="1452"/>
                  <a:pt x="3122" y="1421"/>
                  <a:pt x="3084" y="1406"/>
                </a:cubicBezTo>
                <a:cubicBezTo>
                  <a:pt x="3046" y="1391"/>
                  <a:pt x="3062" y="1406"/>
                  <a:pt x="3039" y="1406"/>
                </a:cubicBezTo>
                <a:cubicBezTo>
                  <a:pt x="3016" y="1406"/>
                  <a:pt x="2986" y="1406"/>
                  <a:pt x="2948" y="1406"/>
                </a:cubicBezTo>
                <a:cubicBezTo>
                  <a:pt x="2910" y="1406"/>
                  <a:pt x="2865" y="1421"/>
                  <a:pt x="2812" y="1406"/>
                </a:cubicBezTo>
                <a:cubicBezTo>
                  <a:pt x="2759" y="1391"/>
                  <a:pt x="2668" y="1338"/>
                  <a:pt x="2630" y="1315"/>
                </a:cubicBezTo>
                <a:cubicBezTo>
                  <a:pt x="2592" y="1292"/>
                  <a:pt x="2608" y="1307"/>
                  <a:pt x="2585" y="1270"/>
                </a:cubicBezTo>
                <a:cubicBezTo>
                  <a:pt x="2562" y="1233"/>
                  <a:pt x="2524" y="1142"/>
                  <a:pt x="2494" y="1089"/>
                </a:cubicBezTo>
                <a:cubicBezTo>
                  <a:pt x="2464" y="1036"/>
                  <a:pt x="2442" y="991"/>
                  <a:pt x="2404" y="953"/>
                </a:cubicBezTo>
                <a:cubicBezTo>
                  <a:pt x="2366" y="915"/>
                  <a:pt x="2313" y="877"/>
                  <a:pt x="2268" y="862"/>
                </a:cubicBezTo>
                <a:cubicBezTo>
                  <a:pt x="2223" y="847"/>
                  <a:pt x="2177" y="862"/>
                  <a:pt x="2132" y="862"/>
                </a:cubicBezTo>
                <a:cubicBezTo>
                  <a:pt x="2087" y="862"/>
                  <a:pt x="2040" y="855"/>
                  <a:pt x="1995" y="862"/>
                </a:cubicBezTo>
                <a:cubicBezTo>
                  <a:pt x="1950" y="869"/>
                  <a:pt x="1927" y="892"/>
                  <a:pt x="1859" y="907"/>
                </a:cubicBezTo>
                <a:cubicBezTo>
                  <a:pt x="1791" y="922"/>
                  <a:pt x="1655" y="945"/>
                  <a:pt x="1587" y="953"/>
                </a:cubicBezTo>
                <a:cubicBezTo>
                  <a:pt x="1519" y="961"/>
                  <a:pt x="1496" y="953"/>
                  <a:pt x="1451" y="953"/>
                </a:cubicBezTo>
                <a:cubicBezTo>
                  <a:pt x="1406" y="953"/>
                  <a:pt x="1360" y="976"/>
                  <a:pt x="1315" y="953"/>
                </a:cubicBezTo>
                <a:cubicBezTo>
                  <a:pt x="1270" y="930"/>
                  <a:pt x="1224" y="870"/>
                  <a:pt x="1179" y="817"/>
                </a:cubicBezTo>
                <a:cubicBezTo>
                  <a:pt x="1134" y="764"/>
                  <a:pt x="1081" y="710"/>
                  <a:pt x="1043" y="635"/>
                </a:cubicBezTo>
                <a:cubicBezTo>
                  <a:pt x="1005" y="560"/>
                  <a:pt x="990" y="423"/>
                  <a:pt x="952" y="363"/>
                </a:cubicBezTo>
                <a:cubicBezTo>
                  <a:pt x="914" y="303"/>
                  <a:pt x="861" y="310"/>
                  <a:pt x="816" y="272"/>
                </a:cubicBezTo>
                <a:cubicBezTo>
                  <a:pt x="771" y="234"/>
                  <a:pt x="718" y="166"/>
                  <a:pt x="680" y="136"/>
                </a:cubicBezTo>
                <a:cubicBezTo>
                  <a:pt x="642" y="106"/>
                  <a:pt x="634" y="106"/>
                  <a:pt x="589" y="91"/>
                </a:cubicBezTo>
                <a:cubicBezTo>
                  <a:pt x="544" y="76"/>
                  <a:pt x="453" y="53"/>
                  <a:pt x="408" y="45"/>
                </a:cubicBezTo>
                <a:cubicBezTo>
                  <a:pt x="363" y="37"/>
                  <a:pt x="355" y="30"/>
                  <a:pt x="317" y="45"/>
                </a:cubicBezTo>
                <a:cubicBezTo>
                  <a:pt x="279" y="60"/>
                  <a:pt x="226" y="113"/>
                  <a:pt x="181" y="136"/>
                </a:cubicBezTo>
                <a:cubicBezTo>
                  <a:pt x="136" y="159"/>
                  <a:pt x="75" y="188"/>
                  <a:pt x="45" y="181"/>
                </a:cubicBezTo>
                <a:cubicBezTo>
                  <a:pt x="15" y="174"/>
                  <a:pt x="0" y="121"/>
                  <a:pt x="0" y="91"/>
                </a:cubicBezTo>
                <a:cubicBezTo>
                  <a:pt x="0" y="61"/>
                  <a:pt x="38" y="15"/>
                  <a:pt x="45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1693440" y="1557360"/>
            <a:ext cx="6262920" cy="3456000"/>
          </a:xfrm>
          <a:prstGeom prst="line">
            <a:avLst/>
          </a:prstGeom>
          <a:ln w="158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rot="18318000">
            <a:off x="5434920" y="3069000"/>
            <a:ext cx="604800" cy="603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900000" y="1844640"/>
            <a:ext cx="416160" cy="432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92680" y="2565360"/>
            <a:ext cx="10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Traffic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788400" y="5084640"/>
            <a:ext cx="350460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Need to supply tools and radar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to enable Pilot/Supervisor to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get from A to B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227640" y="4797360"/>
            <a:ext cx="123840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219640" y="4789440"/>
            <a:ext cx="1008000" cy="9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560920" y="581976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5776920" y="5892840"/>
            <a:ext cx="181944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Ensure that equipment is fit for 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195240" y="2708280"/>
            <a:ext cx="2693880" cy="641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Communication with cross mat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Undermanager (if requir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or superintendent/coordina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3614760" y="3645000"/>
            <a:ext cx="196524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Crew with appropriate skil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402000" y="1341360"/>
            <a:ext cx="3762360" cy="52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Ability for FLS to make decisions on the job as circumstances dict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740720" y="414972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373800" y="5733720"/>
            <a:ext cx="6984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7596360" y="1484280"/>
            <a:ext cx="942840" cy="9428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V="1">
            <a:off x="7380360" y="2205000"/>
            <a:ext cx="360360" cy="503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66920" y="3133800"/>
            <a:ext cx="1154160" cy="7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Planning to keep on cour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421080" y="3213000"/>
            <a:ext cx="28728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084720" y="4292640"/>
            <a:ext cx="574920" cy="50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4716360" y="1989000"/>
            <a:ext cx="1428840" cy="895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5364000" y="184464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364000" y="3357360"/>
            <a:ext cx="362160" cy="43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880C9-F4A2-44DB-9F85-049BAC2AABA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332000" y="1989000"/>
            <a:ext cx="676908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9900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9900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E6BB7-AEBC-40BE-9A3E-F4C8304A3B8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Typical industry advertisement 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Deputy/Crew Supervisors will need their NSW 3rd Class Certificate of Competency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A good understanding of modern development mining processes and methods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Experienced in fault finding and problem solving skills that contribute to innovative outcomes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Competent organisational, communications &amp; planning skills that contribute to productive and harmonious relations and strategic planning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Good leadership and experience, applying these skills in a mining environment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An ability to work with, through and for other people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Teamwork skills that contribute to productive working relationships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Understanding of, and ability to comply with and promote the NSW Occupational &amp; Health Safety Act, and Coal Mines Health &amp; Safety Regulations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Have understanding of risk management processes and the use of safe work procedures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Be comfortable performing the full range of mining or trade tasks in which you have been traine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Computer Skills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52CAA-DBC4-482E-B1E5-40BD8DDDC3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If only ?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842160" cy="489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5760" y="1628640"/>
            <a:ext cx="244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If only it was  the case of  implanting  a new chi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into a deputy and then transforming the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into the new model Front Line Supervis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C304F-82A2-4385-AD07-541F6F44E2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Leadership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671FC-5DE3-44C3-9C32-D7764B3A99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Communication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09080" cy="4608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98600" y="49338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F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51465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Cr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6297-F6E3-485B-937F-9044D0EDDC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Communication + Teamwork = Success 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41F25-8141-4713-B2C5-7CB8541806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Accountability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8DB04-E2D4-4478-8323-8DF6497A3B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Impact"/>
              </a:rPr>
              <a:t>Mentoring/Coaching opportunities of your crew</a:t>
            </a:r>
            <a:endParaRPr b="0" lang="en-US" sz="32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8428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4464000" cy="49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8B570-27D9-44EB-AC34-776B37C51C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Team work/Team leader /FLS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08560" y="1932120"/>
            <a:ext cx="22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119480" y="1413000"/>
            <a:ext cx="131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606e0"/>
                </a:solidFill>
                <a:latin typeface="Tahoma"/>
              </a:rPr>
              <a:t>Provide direct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606e0"/>
                </a:solidFill>
                <a:latin typeface="Tahoma"/>
              </a:rPr>
              <a:t>leadership and mentoring as requi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479840" y="430848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rot="20616600">
            <a:off x="4140360" y="41414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Team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874960" y="256536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F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39F48-A371-4356-97D4-48163D017C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6:48:38Z</dcterms:created>
  <dc:creator>Admin</dc:creator>
  <dc:description/>
  <cp:keywords/>
  <dc:language>en-US</dc:language>
  <cp:lastModifiedBy>sholmes</cp:lastModifiedBy>
  <dcterms:modified xsi:type="dcterms:W3CDTF">2009-08-24T22:29:27Z</dcterms:modified>
  <cp:revision>291</cp:revision>
  <dc:subject/>
  <dc:title>Narrabri SM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8881033</vt:lpwstr>
  </property>
</Properties>
</file>