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5.jpeg" ContentType="image/jpeg"/>
  <Override PartName="/ppt/media/image16.jpeg" ContentType="image/jpeg"/>
  <Override PartName="/ppt/media/image1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6858000" cy="93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Img"/>
          </p:nvPr>
        </p:nvSpPr>
        <p:spPr>
          <a:xfrm>
            <a:off x="1084320" y="703080"/>
            <a:ext cx="4689360" cy="351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51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e851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8"/>
          </p:nvPr>
        </p:nvSpPr>
        <p:spPr>
          <a:xfrm>
            <a:off x="-360" y="89103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 type="sldNum" idx="9"/>
          </p:nvPr>
        </p:nvSpPr>
        <p:spPr>
          <a:xfrm>
            <a:off x="3884400" y="89103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DDC47E8-4E33-409D-8C24-17E161F0528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5C9452E-7027-4A6A-8990-50D193CC1BA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886200" y="8910720"/>
            <a:ext cx="2970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5C83BFF-380B-4ACE-BFA9-D3978B94B2B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85760" y="703440"/>
            <a:ext cx="4689720" cy="35175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3610062-3037-4BC4-8B96-DBC19EDC96C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47AEC64-69DB-4439-9E0A-ABEE133A701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0C73E22-832A-4B74-AAA0-CEBE961BDD3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C5F674D-2766-4753-BDC7-CC8D8FBBAEB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A7EC6E5-2B22-439E-9548-5E817CA3763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14BFD46-7960-4652-B8E7-105C176E376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6E80E15-F60C-4322-8AC3-FAE5615464B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2BCD2CD-8D6F-4274-AD1F-10ADDC33690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2821E7C-61E8-4E8E-A314-E6E70FA41C7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B779463-3D00-4C6F-AFAB-55A9E86550A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D6689E6-70AD-42E5-AF78-34CBFA861E8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D8A4251-675A-4EAD-8035-C4C83CBA08C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910720"/>
            <a:ext cx="2971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7F21DD9-EF5D-42A7-A012-4D6C1B47CFB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084320" y="703440"/>
            <a:ext cx="4689360" cy="35175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56080"/>
            <a:ext cx="54864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3177E-0832-436A-BB49-39F171DEA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82587-29D3-44D4-97DD-14F9F7558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55B99-D5C6-4385-9A2B-FAACB3213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9822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4770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874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9822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4770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77FED-4B77-40C8-BA7A-2C1D74B4A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8B355-4BBB-40F8-BCAD-44F3BCBA23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AC1F5-1387-4BBA-8D6E-6E124409C6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F4A77-9BCA-45C8-8B74-82DAB9134B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AC02A-F75E-42CD-A9B0-19AD2F69D9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3B16C-4943-49C6-B1F6-0C46C7D870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11200" y="126720"/>
            <a:ext cx="732456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FB00C-C98D-4515-8C5A-4B86A04D54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E99B5-9AD3-45E6-8536-61F9CB68BF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37AC6-FFE3-43F2-AC30-A69D12697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E033F-BFA9-4FA5-95C7-724D80CB32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11F3C-1FF8-4861-A586-FF42EB119E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E8601-B66A-4D6B-A7B7-B2085E29D0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01FF5-16F2-4764-9DA5-E30F1BA5F9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22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770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74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22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4770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5012B-EB72-40AE-B388-8770F6B3EB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2C12-7D49-424B-8A32-ECA4C5244E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5091-1A02-40E3-9228-9DB789B9C3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4BFF-7B08-4E8A-A46C-FF9A2B4B4A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1CF5-E9C1-48C1-B7FF-09B5E3DF18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330F-4BA4-4630-A12D-6109B7AB88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BDA0-AD24-408F-BF4E-F324BEA6B4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11200" y="126720"/>
            <a:ext cx="732456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EBF7-6112-4DA1-8EFD-F69CFC9DF5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8EFF-CDF2-41E3-978C-CD8467C615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ED20-E3CE-4D7B-92A7-915A7D93CA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B641-B163-4F5A-9BE8-3DD15E904D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8F8D-E356-43C1-905B-1518D5E64F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875E-29AE-46D3-80CA-94BEE73F35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9822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4770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874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9822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4770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3FC9-B9DB-423C-96B6-C873F51397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8AAE2-80A2-4848-8BCA-41D5903DEF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11200" y="126720"/>
            <a:ext cx="732456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9822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770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74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29822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4770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111AF-57BF-4AA5-924D-CBCF11FF0AC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11200" y="126720"/>
            <a:ext cx="732456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511200" y="126720"/>
            <a:ext cx="732456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3DD4E-BC8E-4839-9897-C7F2C946FF4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22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770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74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22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4770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11200" y="126720"/>
            <a:ext cx="732456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46B3D-C69E-436B-8C0F-FC7958DF666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9822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477040" y="140508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74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9822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477040" y="3907440"/>
            <a:ext cx="237564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68520" y="390744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0CB3B-FB62-4431-BCA6-81A34817C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68520" y="1405080"/>
            <a:ext cx="360072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87440" y="3907440"/>
            <a:ext cx="7378560" cy="22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238F1-1B9C-4DD4-9CB1-5305FB401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6431040"/>
            <a:ext cx="9144000" cy="426960"/>
            <a:chOff x="0" y="6431040"/>
            <a:chExt cx="9144000" cy="426960"/>
          </a:xfrm>
        </p:grpSpPr>
        <p:sp>
          <p:nvSpPr>
            <p:cNvPr id="1" name="Rectangle 23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24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gradFill rotWithShape="0">
              <a:gsLst>
                <a:gs pos="0">
                  <a:srgbClr val="b33916"/>
                </a:gs>
                <a:gs pos="100000">
                  <a:srgbClr val="e85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1"/>
          <p:cNvSpPr/>
          <p:nvPr/>
        </p:nvSpPr>
        <p:spPr>
          <a:xfrm>
            <a:off x="109440" y="109440"/>
            <a:ext cx="8925120" cy="865440"/>
          </a:xfrm>
          <a:prstGeom prst="rect">
            <a:avLst/>
          </a:prstGeom>
          <a:gradFill rotWithShape="0">
            <a:gsLst>
              <a:gs pos="0">
                <a:srgbClr val="c8c8c1"/>
              </a:gs>
              <a:gs pos="100000">
                <a:srgbClr val="f5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109440" y="1008000"/>
            <a:ext cx="8925120" cy="42840"/>
          </a:xfrm>
          <a:prstGeom prst="rect">
            <a:avLst/>
          </a:prstGeom>
          <a:solidFill>
            <a:srgbClr val="d1d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13"/>
          <p:cNvGrpSpPr/>
          <p:nvPr/>
        </p:nvGrpSpPr>
        <p:grpSpPr>
          <a:xfrm>
            <a:off x="8042400" y="204840"/>
            <a:ext cx="888840" cy="673200"/>
            <a:chOff x="8042400" y="204840"/>
            <a:chExt cx="888840" cy="673200"/>
          </a:xfrm>
        </p:grpSpPr>
        <p:sp>
          <p:nvSpPr>
            <p:cNvPr id="6" name="Freeform 14"/>
            <p:cNvSpPr/>
            <p:nvPr/>
          </p:nvSpPr>
          <p:spPr>
            <a:xfrm>
              <a:off x="8049960" y="762120"/>
              <a:ext cx="870120" cy="115920"/>
            </a:xfrm>
            <a:prstGeom prst="pie">
              <a:avLst/>
            </a:prstGeom>
            <a:gradFill rotWithShape="0">
              <a:gsLst>
                <a:gs pos="0">
                  <a:srgbClr val="b2c7d7"/>
                </a:gs>
                <a:gs pos="100000">
                  <a:srgbClr val="537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042400" y="542880"/>
              <a:ext cx="878040" cy="185760"/>
            </a:xfrm>
            <a:prstGeom prst="pie">
              <a:avLst/>
            </a:prstGeom>
            <a:solidFill>
              <a:srgbClr val="45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632800" y="236880"/>
              <a:ext cx="147240" cy="25524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8767440" y="204840"/>
              <a:ext cx="163800" cy="29520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8503920" y="374760"/>
              <a:ext cx="112680" cy="11376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8561520" y="280800"/>
              <a:ext cx="77400" cy="7920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1840" indent="-147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587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541520" indent="-1620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541520" indent="-1620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541520" indent="-1620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1"/>
          </p:nvPr>
        </p:nvSpPr>
        <p:spPr>
          <a:xfrm>
            <a:off x="509760" y="6578640"/>
            <a:ext cx="60163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sldNum" idx="2"/>
          </p:nvPr>
        </p:nvSpPr>
        <p:spPr>
          <a:xfrm>
            <a:off x="6791400" y="6579720"/>
            <a:ext cx="2133360" cy="1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d3d2c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Times New Roman"/>
              </a:rPr>
              <a:t>Slide </a:t>
            </a:r>
            <a:fld id="{A48A9184-6261-44FD-8219-538AD0A60751}" type="slidenum">
              <a:rPr b="0" lang="en-AU" sz="900" spc="-1" strike="noStrike">
                <a:solidFill>
                  <a:srgbClr val="d3d2c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914280"/>
            <a:ext cx="632304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51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851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87080" y="5331960"/>
            <a:ext cx="633564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124920" indent="-124920"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20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60880" indent="-101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6520" indent="-109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814680" indent="-111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814680" indent="-111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814680" indent="-111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509760" y="6578640"/>
            <a:ext cx="60163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6791400" y="6579720"/>
            <a:ext cx="2133360" cy="1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d3d2c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Times New Roman"/>
              </a:rPr>
              <a:t>Slide </a:t>
            </a:r>
            <a:fld id="{76EF1B92-6D30-4111-B62D-D018AFCA5518}" type="slidenum">
              <a:rPr b="0" lang="en-AU" sz="900" spc="-1" strike="noStrike">
                <a:solidFill>
                  <a:srgbClr val="d3d2c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17"/>
          <p:cNvGrpSpPr/>
          <p:nvPr/>
        </p:nvGrpSpPr>
        <p:grpSpPr>
          <a:xfrm>
            <a:off x="7023240" y="4846680"/>
            <a:ext cx="1882440" cy="1425240"/>
            <a:chOff x="7023240" y="4846680"/>
            <a:chExt cx="1882440" cy="1425240"/>
          </a:xfrm>
        </p:grpSpPr>
        <p:sp>
          <p:nvSpPr>
            <p:cNvPr id="57" name="Freeform 18"/>
            <p:cNvSpPr/>
            <p:nvPr/>
          </p:nvSpPr>
          <p:spPr>
            <a:xfrm>
              <a:off x="7039440" y="6027840"/>
              <a:ext cx="1842840" cy="244080"/>
            </a:xfrm>
            <a:prstGeom prst="pie">
              <a:avLst/>
            </a:prstGeom>
            <a:gradFill rotWithShape="0">
              <a:gsLst>
                <a:gs pos="0">
                  <a:srgbClr val="b2c7d7"/>
                </a:gs>
                <a:gs pos="100000">
                  <a:srgbClr val="537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7023240" y="5561640"/>
              <a:ext cx="1856520" cy="394560"/>
            </a:xfrm>
            <a:prstGeom prst="pie">
              <a:avLst/>
            </a:prstGeom>
            <a:solidFill>
              <a:srgbClr val="45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274960" y="4914360"/>
              <a:ext cx="312480" cy="5403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560440" y="4846680"/>
              <a:ext cx="345240" cy="62640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8000640" y="5205240"/>
              <a:ext cx="239760" cy="24372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121600" y="5007960"/>
              <a:ext cx="167040" cy="16812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24"/>
          <p:cNvSpPr/>
          <p:nvPr/>
        </p:nvSpPr>
        <p:spPr>
          <a:xfrm>
            <a:off x="109440" y="109440"/>
            <a:ext cx="8925120" cy="3619440"/>
          </a:xfrm>
          <a:prstGeom prst="rect">
            <a:avLst/>
          </a:prstGeom>
          <a:gradFill rotWithShape="0">
            <a:gsLst>
              <a:gs pos="0">
                <a:srgbClr val="c8c8c1"/>
              </a:gs>
              <a:gs pos="100000">
                <a:srgbClr val="f5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109440" y="3767040"/>
            <a:ext cx="8925120" cy="42840"/>
          </a:xfrm>
          <a:prstGeom prst="rect">
            <a:avLst/>
          </a:prstGeom>
          <a:solidFill>
            <a:srgbClr val="d1d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7"/>
          <p:cNvGrpSpPr/>
          <p:nvPr/>
        </p:nvGrpSpPr>
        <p:grpSpPr>
          <a:xfrm>
            <a:off x="0" y="6431040"/>
            <a:ext cx="9144000" cy="426960"/>
            <a:chOff x="0" y="6431040"/>
            <a:chExt cx="9144000" cy="426960"/>
          </a:xfrm>
        </p:grpSpPr>
        <p:sp>
          <p:nvSpPr>
            <p:cNvPr id="66" name="Rectangle 28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9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gradFill rotWithShape="0">
              <a:gsLst>
                <a:gs pos="0">
                  <a:srgbClr val="b33916"/>
                </a:gs>
                <a:gs pos="100000">
                  <a:srgbClr val="e85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8"/>
          <p:cNvGrpSpPr/>
          <p:nvPr/>
        </p:nvGrpSpPr>
        <p:grpSpPr>
          <a:xfrm>
            <a:off x="0" y="6431040"/>
            <a:ext cx="9144000" cy="426960"/>
            <a:chOff x="0" y="6431040"/>
            <a:chExt cx="9144000" cy="426960"/>
          </a:xfrm>
        </p:grpSpPr>
        <p:sp>
          <p:nvSpPr>
            <p:cNvPr id="105" name="Rectangle 19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0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gradFill rotWithShape="0">
              <a:gsLst>
                <a:gs pos="0">
                  <a:srgbClr val="b33916"/>
                </a:gs>
                <a:gs pos="100000">
                  <a:srgbClr val="e85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2"/>
          <p:cNvSpPr/>
          <p:nvPr/>
        </p:nvSpPr>
        <p:spPr>
          <a:xfrm>
            <a:off x="109440" y="109440"/>
            <a:ext cx="8925120" cy="865440"/>
          </a:xfrm>
          <a:prstGeom prst="rect">
            <a:avLst/>
          </a:prstGeom>
          <a:gradFill rotWithShape="0">
            <a:gsLst>
              <a:gs pos="0">
                <a:srgbClr val="c8c8c1"/>
              </a:gs>
              <a:gs pos="100000">
                <a:srgbClr val="f5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09440" y="1008000"/>
            <a:ext cx="8925120" cy="42840"/>
          </a:xfrm>
          <a:prstGeom prst="rect">
            <a:avLst/>
          </a:prstGeom>
          <a:solidFill>
            <a:srgbClr val="d1d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9"/>
          <p:cNvGrpSpPr/>
          <p:nvPr/>
        </p:nvGrpSpPr>
        <p:grpSpPr>
          <a:xfrm>
            <a:off x="8042400" y="204840"/>
            <a:ext cx="888840" cy="673200"/>
            <a:chOff x="8042400" y="204840"/>
            <a:chExt cx="888840" cy="673200"/>
          </a:xfrm>
        </p:grpSpPr>
        <p:sp>
          <p:nvSpPr>
            <p:cNvPr id="110" name="Freeform 10"/>
            <p:cNvSpPr/>
            <p:nvPr/>
          </p:nvSpPr>
          <p:spPr>
            <a:xfrm>
              <a:off x="8049960" y="762120"/>
              <a:ext cx="870120" cy="115920"/>
            </a:xfrm>
            <a:prstGeom prst="pie">
              <a:avLst/>
            </a:prstGeom>
            <a:gradFill rotWithShape="0">
              <a:gsLst>
                <a:gs pos="0">
                  <a:srgbClr val="b2c7d7"/>
                </a:gs>
                <a:gs pos="100000">
                  <a:srgbClr val="537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8042400" y="542880"/>
              <a:ext cx="878040" cy="185760"/>
            </a:xfrm>
            <a:prstGeom prst="pie">
              <a:avLst/>
            </a:prstGeom>
            <a:solidFill>
              <a:srgbClr val="45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8632800" y="236880"/>
              <a:ext cx="147240" cy="25524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8767440" y="204840"/>
              <a:ext cx="163800" cy="29520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8503920" y="374760"/>
              <a:ext cx="112680" cy="11376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8561520" y="280800"/>
              <a:ext cx="77400" cy="7920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509760" y="136692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17460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4760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95400" indent="-15876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1160" indent="-16200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181160" indent="-16200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181160" indent="-16200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509760" y="6578640"/>
            <a:ext cx="60163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791400" y="6579720"/>
            <a:ext cx="2133360" cy="1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d3d2c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Times New Roman"/>
              </a:rPr>
              <a:t>Slide </a:t>
            </a:r>
            <a:fld id="{360E35F6-662C-406C-91CC-4DC6FBAEE432}" type="slidenum">
              <a:rPr b="0" lang="en-AU" sz="900" spc="-1" strike="noStrike">
                <a:solidFill>
                  <a:srgbClr val="d3d2c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0"/>
          <p:cNvSpPr/>
          <p:nvPr/>
        </p:nvSpPr>
        <p:spPr>
          <a:xfrm>
            <a:off x="109440" y="109440"/>
            <a:ext cx="8925120" cy="3619440"/>
          </a:xfrm>
          <a:prstGeom prst="rect">
            <a:avLst/>
          </a:prstGeom>
          <a:gradFill rotWithShape="0">
            <a:gsLst>
              <a:gs pos="0">
                <a:srgbClr val="c8c8c1"/>
              </a:gs>
              <a:gs pos="100000">
                <a:srgbClr val="f5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3"/>
          <p:cNvGrpSpPr/>
          <p:nvPr/>
        </p:nvGrpSpPr>
        <p:grpSpPr>
          <a:xfrm>
            <a:off x="0" y="6431040"/>
            <a:ext cx="9144000" cy="426960"/>
            <a:chOff x="0" y="6431040"/>
            <a:chExt cx="9144000" cy="426960"/>
          </a:xfrm>
        </p:grpSpPr>
        <p:sp>
          <p:nvSpPr>
            <p:cNvPr id="158" name="Rectangle 32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gradFill rotWithShape="0">
              <a:gsLst>
                <a:gs pos="0">
                  <a:srgbClr val="b33916"/>
                </a:gs>
                <a:gs pos="100000">
                  <a:srgbClr val="e85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7"/>
          <p:cNvGrpSpPr/>
          <p:nvPr/>
        </p:nvGrpSpPr>
        <p:grpSpPr>
          <a:xfrm>
            <a:off x="6684840" y="4317840"/>
            <a:ext cx="2179800" cy="1640160"/>
            <a:chOff x="6684840" y="4317840"/>
            <a:chExt cx="2179800" cy="1640160"/>
          </a:xfrm>
        </p:grpSpPr>
        <p:sp>
          <p:nvSpPr>
            <p:cNvPr id="161" name="Freeform 9"/>
            <p:cNvSpPr/>
            <p:nvPr/>
          </p:nvSpPr>
          <p:spPr>
            <a:xfrm>
              <a:off x="6703920" y="5676840"/>
              <a:ext cx="2133720" cy="281160"/>
            </a:xfrm>
            <a:prstGeom prst="pie">
              <a:avLst/>
            </a:prstGeom>
            <a:gradFill rotWithShape="0">
              <a:gsLst>
                <a:gs pos="0">
                  <a:srgbClr val="b2c7d7"/>
                </a:gs>
                <a:gs pos="100000">
                  <a:srgbClr val="537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84840" y="5140440"/>
              <a:ext cx="2151360" cy="453960"/>
            </a:xfrm>
            <a:prstGeom prst="pie">
              <a:avLst/>
            </a:prstGeom>
            <a:solidFill>
              <a:srgbClr val="45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2"/>
            <p:cNvSpPr/>
            <p:nvPr/>
          </p:nvSpPr>
          <p:spPr>
            <a:xfrm>
              <a:off x="8134200" y="4395960"/>
              <a:ext cx="362160" cy="62388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3"/>
            <p:cNvSpPr/>
            <p:nvPr/>
          </p:nvSpPr>
          <p:spPr>
            <a:xfrm>
              <a:off x="8464680" y="4317840"/>
              <a:ext cx="399960" cy="72072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4"/>
            <p:cNvSpPr/>
            <p:nvPr/>
          </p:nvSpPr>
          <p:spPr>
            <a:xfrm>
              <a:off x="7816680" y="4730760"/>
              <a:ext cx="277920" cy="28080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5"/>
            <p:cNvSpPr/>
            <p:nvPr/>
          </p:nvSpPr>
          <p:spPr>
            <a:xfrm>
              <a:off x="7956720" y="4503600"/>
              <a:ext cx="193680" cy="19368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29"/>
          <p:cNvSpPr/>
          <p:nvPr/>
        </p:nvSpPr>
        <p:spPr>
          <a:xfrm>
            <a:off x="109440" y="3767040"/>
            <a:ext cx="8925120" cy="42840"/>
          </a:xfrm>
          <a:prstGeom prst="rect">
            <a:avLst/>
          </a:prstGeom>
          <a:solidFill>
            <a:srgbClr val="d1d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5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851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87440" y="140508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1840" indent="-147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587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541520" indent="-1620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541520" indent="-1620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541520" indent="-1620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7"/>
          <p:cNvGrpSpPr/>
          <p:nvPr/>
        </p:nvGrpSpPr>
        <p:grpSpPr>
          <a:xfrm>
            <a:off x="7023240" y="4846680"/>
            <a:ext cx="1882440" cy="1425240"/>
            <a:chOff x="7023240" y="4846680"/>
            <a:chExt cx="1882440" cy="1425240"/>
          </a:xfrm>
        </p:grpSpPr>
        <p:sp>
          <p:nvSpPr>
            <p:cNvPr id="207" name="Freeform 8"/>
            <p:cNvSpPr/>
            <p:nvPr/>
          </p:nvSpPr>
          <p:spPr>
            <a:xfrm>
              <a:off x="7039440" y="6027840"/>
              <a:ext cx="1842840" cy="244080"/>
            </a:xfrm>
            <a:prstGeom prst="pie">
              <a:avLst/>
            </a:prstGeom>
            <a:gradFill rotWithShape="0">
              <a:gsLst>
                <a:gs pos="0">
                  <a:srgbClr val="b2c7d7"/>
                </a:gs>
                <a:gs pos="100000">
                  <a:srgbClr val="537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9"/>
            <p:cNvSpPr/>
            <p:nvPr/>
          </p:nvSpPr>
          <p:spPr>
            <a:xfrm>
              <a:off x="7023240" y="5561640"/>
              <a:ext cx="1856520" cy="394560"/>
            </a:xfrm>
            <a:prstGeom prst="pie">
              <a:avLst/>
            </a:prstGeom>
            <a:solidFill>
              <a:srgbClr val="45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"/>
            <p:cNvSpPr/>
            <p:nvPr/>
          </p:nvSpPr>
          <p:spPr>
            <a:xfrm>
              <a:off x="8274960" y="4914360"/>
              <a:ext cx="312480" cy="5403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1"/>
            <p:cNvSpPr/>
            <p:nvPr/>
          </p:nvSpPr>
          <p:spPr>
            <a:xfrm>
              <a:off x="8560440" y="4846680"/>
              <a:ext cx="345240" cy="62640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2"/>
            <p:cNvSpPr/>
            <p:nvPr/>
          </p:nvSpPr>
          <p:spPr>
            <a:xfrm>
              <a:off x="8000640" y="5205240"/>
              <a:ext cx="239760" cy="24372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3"/>
            <p:cNvSpPr/>
            <p:nvPr/>
          </p:nvSpPr>
          <p:spPr>
            <a:xfrm>
              <a:off x="8121600" y="5007960"/>
              <a:ext cx="167040" cy="16812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15"/>
          <p:cNvSpPr/>
          <p:nvPr/>
        </p:nvSpPr>
        <p:spPr>
          <a:xfrm>
            <a:off x="109440" y="3767040"/>
            <a:ext cx="8925120" cy="42840"/>
          </a:xfrm>
          <a:prstGeom prst="rect">
            <a:avLst/>
          </a:prstGeom>
          <a:solidFill>
            <a:srgbClr val="d1d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9"/>
          <p:cNvGrpSpPr/>
          <p:nvPr/>
        </p:nvGrpSpPr>
        <p:grpSpPr>
          <a:xfrm>
            <a:off x="0" y="6431040"/>
            <a:ext cx="9144000" cy="426960"/>
            <a:chOff x="0" y="6431040"/>
            <a:chExt cx="9144000" cy="426960"/>
          </a:xfrm>
        </p:grpSpPr>
        <p:sp>
          <p:nvSpPr>
            <p:cNvPr id="215" name="Rectangle 20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21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gradFill rotWithShape="0">
              <a:gsLst>
                <a:gs pos="0">
                  <a:srgbClr val="b33916"/>
                </a:gs>
                <a:gs pos="100000">
                  <a:srgbClr val="e85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3914280"/>
            <a:ext cx="632304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51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851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87080" y="5331960"/>
            <a:ext cx="633564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124920" indent="-124920"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20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60880" indent="-101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6520" indent="-109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814680" indent="-111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814680" indent="-111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814680" indent="-111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109440" y="109440"/>
            <a:ext cx="8925120" cy="3619440"/>
          </a:xfrm>
          <a:prstGeom prst="rect">
            <a:avLst/>
          </a:prstGeom>
          <a:gradFill rotWithShape="0">
            <a:gsLst>
              <a:gs pos="0">
                <a:srgbClr val="c8c8c1"/>
              </a:gs>
              <a:gs pos="100000">
                <a:srgbClr val="f5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6"/>
          <p:cNvGrpSpPr/>
          <p:nvPr/>
        </p:nvGrpSpPr>
        <p:grpSpPr>
          <a:xfrm>
            <a:off x="6684840" y="4317840"/>
            <a:ext cx="2179800" cy="1640160"/>
            <a:chOff x="6684840" y="4317840"/>
            <a:chExt cx="2179800" cy="1640160"/>
          </a:xfrm>
        </p:grpSpPr>
        <p:sp>
          <p:nvSpPr>
            <p:cNvPr id="257" name="Freeform 7"/>
            <p:cNvSpPr/>
            <p:nvPr/>
          </p:nvSpPr>
          <p:spPr>
            <a:xfrm>
              <a:off x="6703920" y="5676840"/>
              <a:ext cx="2133720" cy="281160"/>
            </a:xfrm>
            <a:prstGeom prst="pie">
              <a:avLst/>
            </a:prstGeom>
            <a:gradFill rotWithShape="0">
              <a:gsLst>
                <a:gs pos="0">
                  <a:srgbClr val="b2c7d7"/>
                </a:gs>
                <a:gs pos="100000">
                  <a:srgbClr val="537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8"/>
            <p:cNvSpPr/>
            <p:nvPr/>
          </p:nvSpPr>
          <p:spPr>
            <a:xfrm>
              <a:off x="6684840" y="5140440"/>
              <a:ext cx="2151360" cy="453960"/>
            </a:xfrm>
            <a:prstGeom prst="pie">
              <a:avLst/>
            </a:prstGeom>
            <a:solidFill>
              <a:srgbClr val="45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9"/>
            <p:cNvSpPr/>
            <p:nvPr/>
          </p:nvSpPr>
          <p:spPr>
            <a:xfrm>
              <a:off x="8134200" y="4395960"/>
              <a:ext cx="362160" cy="62388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"/>
            <p:cNvSpPr/>
            <p:nvPr/>
          </p:nvSpPr>
          <p:spPr>
            <a:xfrm>
              <a:off x="8464680" y="4317840"/>
              <a:ext cx="399960" cy="72072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1"/>
            <p:cNvSpPr/>
            <p:nvPr/>
          </p:nvSpPr>
          <p:spPr>
            <a:xfrm>
              <a:off x="7816680" y="4730760"/>
              <a:ext cx="277920" cy="28080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2"/>
            <p:cNvSpPr/>
            <p:nvPr/>
          </p:nvSpPr>
          <p:spPr>
            <a:xfrm>
              <a:off x="7956720" y="4503600"/>
              <a:ext cx="193680" cy="19368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13"/>
          <p:cNvSpPr/>
          <p:nvPr/>
        </p:nvSpPr>
        <p:spPr>
          <a:xfrm>
            <a:off x="109440" y="3767040"/>
            <a:ext cx="8925120" cy="42840"/>
          </a:xfrm>
          <a:prstGeom prst="rect">
            <a:avLst/>
          </a:prstGeom>
          <a:solidFill>
            <a:srgbClr val="d1d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15"/>
          <p:cNvGrpSpPr/>
          <p:nvPr/>
        </p:nvGrpSpPr>
        <p:grpSpPr>
          <a:xfrm>
            <a:off x="0" y="6431040"/>
            <a:ext cx="9144000" cy="426960"/>
            <a:chOff x="0" y="6431040"/>
            <a:chExt cx="9144000" cy="426960"/>
          </a:xfrm>
        </p:grpSpPr>
        <p:sp>
          <p:nvSpPr>
            <p:cNvPr id="265" name="Rectangle 16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7"/>
            <p:cNvSpPr/>
            <p:nvPr/>
          </p:nvSpPr>
          <p:spPr>
            <a:xfrm>
              <a:off x="0" y="6431040"/>
              <a:ext cx="9144000" cy="426960"/>
            </a:xfrm>
            <a:prstGeom prst="rect">
              <a:avLst/>
            </a:prstGeom>
            <a:gradFill rotWithShape="0">
              <a:gsLst>
                <a:gs pos="0">
                  <a:srgbClr val="b33916"/>
                </a:gs>
                <a:gs pos="100000">
                  <a:srgbClr val="e85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5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851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9760" y="1366920"/>
            <a:ext cx="73785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17460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14760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95400" indent="-15876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1160" indent="-16200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181160" indent="-16200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181160" indent="-162000">
              <a:buClr>
                <a:srgbClr val="000000"/>
              </a:buClr>
              <a:buFont typeface="Arial Black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3480" y="3181320"/>
            <a:ext cx="815004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e85100"/>
                </a:solidFill>
                <a:latin typeface="Arial"/>
              </a:rPr>
              <a:t>ACARP Roadway Development </a:t>
            </a:r>
            <a:endParaRPr b="1" lang="en-US" sz="3600" spc="-1" strike="noStrike">
              <a:solidFill>
                <a:srgbClr val="e851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7960" y="5713200"/>
            <a:ext cx="633096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828720" y="4200480"/>
            <a:ext cx="2421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393840" y="3925800"/>
            <a:ext cx="69976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e85100"/>
                </a:solidFill>
                <a:latin typeface="Arial"/>
              </a:rPr>
              <a:t>The Way We Work - Harnessing Development Teams at Dendrob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CCE65577-E916-4A55-B0BF-2C4D5370BC86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 Narrow"/>
              </a:rPr>
              <a:t>MG6 Green G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49400" y="2971800"/>
          <a:ext cx="8824680" cy="2057400"/>
        </p:xfrm>
        <a:graphic>
          <a:graphicData uri="http://schemas.openxmlformats.org/drawingml/2006/table">
            <a:tbl>
              <a:tblPr/>
              <a:tblGrid>
                <a:gridCol w="2941560"/>
                <a:gridCol w="2941560"/>
                <a:gridCol w="294156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ero Ha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ndards &amp; Behavi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fficiencies &amp; Res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163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TRI’s for MG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l LAMPS witnessed and noted on ROPES 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view 3 procedures by the end of MG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downtime due to skills shortage – 80% green on skills matr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ouse keeping audit – 1 per t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% compliance 103 insp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lement 3 improvement ideas for MG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duct shiftly performance revie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ad the average MPOH league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2" name="Rectangle 17"/>
          <p:cNvSpPr/>
          <p:nvPr/>
        </p:nvSpPr>
        <p:spPr>
          <a:xfrm>
            <a:off x="152280" y="4608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ndrob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9"/>
          <p:cNvSpPr/>
          <p:nvPr/>
        </p:nvSpPr>
        <p:spPr>
          <a:xfrm>
            <a:off x="152280" y="1219320"/>
            <a:ext cx="8839440" cy="380880"/>
          </a:xfrm>
          <a:prstGeom prst="rect">
            <a:avLst/>
          </a:prstGeom>
          <a:solidFill>
            <a:srgbClr val="d2c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 Narrow"/>
              </a:rPr>
              <a:t>Team Purpose:  Lead the way in safe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0"/>
          <p:cNvSpPr/>
          <p:nvPr/>
        </p:nvSpPr>
        <p:spPr>
          <a:xfrm>
            <a:off x="152280" y="5867280"/>
            <a:ext cx="8839440" cy="381240"/>
          </a:xfrm>
          <a:prstGeom prst="rect">
            <a:avLst/>
          </a:prstGeom>
          <a:solidFill>
            <a:srgbClr val="d2c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Narrow"/>
              </a:rPr>
              <a:t>Success for our team is … </a:t>
            </a:r>
            <a:r>
              <a:rPr b="1" lang="en-AU" sz="1400" spc="-1" strike="noStrike">
                <a:solidFill>
                  <a:srgbClr val="000000"/>
                </a:solidFill>
                <a:latin typeface="Arial Narrow"/>
              </a:rPr>
              <a:t>Completing MG6 on time, injury free, whilst maintaining team integ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1"/>
          <p:cNvSpPr/>
          <p:nvPr/>
        </p:nvSpPr>
        <p:spPr>
          <a:xfrm>
            <a:off x="152280" y="1600200"/>
            <a:ext cx="8839440" cy="137160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Narrow"/>
              </a:rPr>
              <a:t>Our Values and Behavi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 Narrow"/>
              </a:rPr>
              <a:t>Commitment to HSEC</a:t>
            </a:r>
            <a:r>
              <a:rPr b="0" lang="en-AU" sz="1400" spc="-1" strike="noStrike">
                <a:solidFill>
                  <a:srgbClr val="000000"/>
                </a:solidFill>
                <a:latin typeface="Arial Narrow"/>
              </a:rPr>
              <a:t> – The safety tool bag is part of our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 Narrow"/>
              </a:rPr>
              <a:t>Integrity</a:t>
            </a:r>
            <a:r>
              <a:rPr b="0" lang="en-AU" sz="1400" spc="-1" strike="noStrike">
                <a:solidFill>
                  <a:srgbClr val="000000"/>
                </a:solidFill>
                <a:latin typeface="Arial Narrow"/>
              </a:rPr>
              <a:t> – Ownership of our 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 Narrow"/>
              </a:rPr>
              <a:t>Courage to Lead</a:t>
            </a:r>
            <a:r>
              <a:rPr b="0" lang="en-AU" sz="1400" spc="-1" strike="noStrike">
                <a:solidFill>
                  <a:srgbClr val="000000"/>
                </a:solidFill>
                <a:latin typeface="Arial Narrow"/>
              </a:rPr>
              <a:t> – We have zero tolerance to poor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 Narrow"/>
              </a:rPr>
              <a:t>Decisions Based on Facts</a:t>
            </a:r>
            <a:r>
              <a:rPr b="0" lang="en-AU" sz="1400" spc="-1" strike="noStrike">
                <a:solidFill>
                  <a:srgbClr val="000000"/>
                </a:solidFill>
                <a:latin typeface="Arial Narrow"/>
              </a:rPr>
              <a:t> – Be prepared to change by letting standards drive the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 Narrow"/>
              </a:rPr>
              <a:t>High Performance</a:t>
            </a:r>
            <a:r>
              <a:rPr b="0" lang="en-AU" sz="1400" spc="-1" strike="noStrike">
                <a:solidFill>
                  <a:srgbClr val="000000"/>
                </a:solidFill>
                <a:latin typeface="Arial Narrow"/>
              </a:rPr>
              <a:t> – Solid team commitment to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2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905040" cy="9255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23"/>
          <p:cNvSpPr/>
          <p:nvPr/>
        </p:nvSpPr>
        <p:spPr>
          <a:xfrm>
            <a:off x="1600200" y="64008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MG6 WWW 19-20 February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41120" y="5029200"/>
          <a:ext cx="8828280" cy="738360"/>
        </p:xfrm>
        <a:graphic>
          <a:graphicData uri="http://schemas.openxmlformats.org/drawingml/2006/table">
            <a:tbl>
              <a:tblPr/>
              <a:tblGrid>
                <a:gridCol w="2936880"/>
                <a:gridCol w="2936880"/>
                <a:gridCol w="2954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 Day Tar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 Day Tar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 Day Tar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 MPOH for 3 h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 MPOH for 4 h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 MPOH for 4 h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Text Box 38"/>
          <p:cNvSpPr/>
          <p:nvPr/>
        </p:nvSpPr>
        <p:spPr>
          <a:xfrm>
            <a:off x="9813960" y="201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8"/>
          <p:cNvSpPr/>
          <p:nvPr/>
        </p:nvSpPr>
        <p:spPr>
          <a:xfrm>
            <a:off x="7086600" y="4608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June 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4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6BAFEC98-7CCB-4537-8C02-24C0C456719B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harter review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34800" y="1405080"/>
            <a:ext cx="15415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30 DAY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sults forwarded to crews 1 week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ws review performance against Chart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ach crew presents results to shi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2035080" y="1405080"/>
            <a:ext cx="154152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60 DAY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767040" y="1405080"/>
            <a:ext cx="154152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90 DAY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5518080" y="1405080"/>
            <a:ext cx="154152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RESET 30, 60, 90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Day Go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7221600" y="1405080"/>
            <a:ext cx="154152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New Charters developed for all process changes (i.e. new gateroad pan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8"/>
          <p:cNvSpPr/>
          <p:nvPr/>
        </p:nvSpPr>
        <p:spPr>
          <a:xfrm rot="1740000">
            <a:off x="2007720" y="4219560"/>
            <a:ext cx="5024520" cy="378000"/>
          </a:xfrm>
          <a:prstGeom prst="pie">
            <a:avLst/>
          </a:prstGeom>
          <a:solidFill>
            <a:srgbClr val="e851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334800" y="5396760"/>
            <a:ext cx="4480200" cy="426600"/>
          </a:xfrm>
          <a:prstGeom prst="rect">
            <a:avLst/>
          </a:prstGeom>
          <a:solidFill>
            <a:srgbClr val="e851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ront line Supervisor (Deputy) and Undermanager Driven – maintained at crew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0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772320" y="1127160"/>
            <a:ext cx="2178000" cy="2127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4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7070D32C-516A-42C0-AADD-6ADC8B6C733E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esults – has it been successful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87440" y="1405080"/>
            <a:ext cx="813600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4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347B54FE-5DBF-4574-BEE9-40059160F569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Key Learning'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87440" y="923400"/>
            <a:ext cx="84643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Understanding the purpose of the Way W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hat were we trying to achie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elling the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aking it susta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etting buy-in from Shift Undermanagers and Depu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etting the key people to ‘buy’ into the vision and want to ‘own i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r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o not believe we resolved the issue of shift to shift standards and repl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view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hat is this really ab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for me it is about the Shift Undermanager and the Deputy engaging with their cr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riginally this seemed foreign to people and har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3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AE38CB26-A6B0-40CC-B433-DD8FE7900AFB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usiness Con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236520" y="1238400"/>
            <a:ext cx="8715240" cy="31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llawarra Coal’s intention is to be a values based organisation that adheres to high standards of integrity, respect and trust.  The purpose of the ‘Team Work Standards’ is to establish a set of performance requirements which will guide the people within Illawarra Coal to deliver the best they can for themselves, the team and the business.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7" descr=""/>
          <p:cNvPicPr/>
          <p:nvPr/>
        </p:nvPicPr>
        <p:blipFill>
          <a:blip r:embed="rId1"/>
          <a:stretch/>
        </p:blipFill>
        <p:spPr>
          <a:xfrm>
            <a:off x="2801880" y="4618080"/>
            <a:ext cx="3535560" cy="16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3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CB73B36F-A053-450D-8127-3B83E6D95FE0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6" descr="j0078749"/>
          <p:cNvPicPr/>
          <p:nvPr/>
        </p:nvPicPr>
        <p:blipFill>
          <a:blip r:embed="rId1"/>
          <a:stretch/>
        </p:blipFill>
        <p:spPr>
          <a:xfrm>
            <a:off x="4525920" y="2655720"/>
            <a:ext cx="4425840" cy="1845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C Team Standards – 5 major compon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236520" y="1238400"/>
            <a:ext cx="871524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Team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Zero h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Cap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Behavi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6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3E894249-8581-44B1-A57F-421E30ED4C7A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6" descr=""/>
          <p:cNvPicPr/>
          <p:nvPr/>
        </p:nvPicPr>
        <p:blipFill>
          <a:blip r:embed="rId1"/>
          <a:stretch/>
        </p:blipFill>
        <p:spPr>
          <a:xfrm>
            <a:off x="206280" y="1144440"/>
            <a:ext cx="3349800" cy="23162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e “Way We Work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7" descr=""/>
          <p:cNvPicPr/>
          <p:nvPr/>
        </p:nvPicPr>
        <p:blipFill>
          <a:blip r:embed="rId2"/>
          <a:stretch/>
        </p:blipFill>
        <p:spPr>
          <a:xfrm>
            <a:off x="6877080" y="2406600"/>
            <a:ext cx="1917720" cy="34480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26"/>
          <p:cNvSpPr/>
          <p:nvPr/>
        </p:nvSpPr>
        <p:spPr>
          <a:xfrm>
            <a:off x="511200" y="5283360"/>
            <a:ext cx="4518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ategic Intent – provide competitive advantage through an aligned and values based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7"/>
          <p:cNvSpPr/>
          <p:nvPr/>
        </p:nvSpPr>
        <p:spPr>
          <a:xfrm>
            <a:off x="4676760" y="1176480"/>
            <a:ext cx="3159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Business Plan 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5 Year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20"/>
          <p:cNvGraphicFramePr/>
          <p:nvPr/>
        </p:nvGraphicFramePr>
        <p:xfrm>
          <a:off x="3186000" y="2406600"/>
          <a:ext cx="3343320" cy="231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6000" y="2406600"/>
                    <a:ext cx="334332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Oval 28"/>
          <p:cNvSpPr/>
          <p:nvPr/>
        </p:nvSpPr>
        <p:spPr>
          <a:xfrm>
            <a:off x="838080" y="1590840"/>
            <a:ext cx="924120" cy="1666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1"/>
          <p:cNvSpPr/>
          <p:nvPr/>
        </p:nvSpPr>
        <p:spPr>
          <a:xfrm>
            <a:off x="3753000" y="2854440"/>
            <a:ext cx="923760" cy="1666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2"/>
          <p:cNvSpPr/>
          <p:nvPr/>
        </p:nvSpPr>
        <p:spPr>
          <a:xfrm>
            <a:off x="1838160" y="4267080"/>
            <a:ext cx="914400" cy="459000"/>
          </a:xfrm>
          <a:prstGeom prst="borderCallout2">
            <a:avLst>
              <a:gd name="adj1" fmla="val 18750"/>
              <a:gd name="adj2" fmla="val -8333"/>
              <a:gd name="adj3" fmla="val 24912"/>
              <a:gd name="adj4" fmla="val -31250"/>
              <a:gd name="adj5" fmla="val -220069"/>
              <a:gd name="adj6" fmla="val -55208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People Pil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4"/>
          <p:cNvSpPr/>
          <p:nvPr/>
        </p:nvSpPr>
        <p:spPr>
          <a:xfrm flipV="1">
            <a:off x="2752560" y="4152600"/>
            <a:ext cx="100044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4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C0064CA5-14DA-49A9-B852-1ED487BD0C50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e “Way We Work” – why do i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05920" y="1052640"/>
            <a:ext cx="882972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signed aroun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ngaging Frontline Supervisor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their teams work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adership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– providing feedback and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ole Clarity &amp; Responsibilit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- Undermanagers and Deputies, how do they steer their tea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oviding Development teams with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‘Buy-in’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into the achievement of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usiness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ringing ‘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Values and Behaviours’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into the Way W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4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15B90DF0-6B14-4939-ABDE-3EEBFDBD5E39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llawarra Coal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0560" y="1109160"/>
            <a:ext cx="8700840" cy="52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ommitment to HSEC -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e have an overriding commitment to health, safety, environment and our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tegrity -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e are open and honest, we do what we say and treat each other with resp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ourage to lead -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e have the courage to own and lead improvement – We challenge the n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ecisions based on facts -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sourceful people who make decisions based on fact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High performance -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assion for meeting or exceeding our go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AT DO THESE VALUES MEAN TO THE AVERAGE EMPLOY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core contributors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riving behaviours and at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alues that the workforce believ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6664320" y="3897360"/>
            <a:ext cx="1735200" cy="2444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5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5F7E781C-6320-4DCA-83F8-7BD94581740C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Why do it? - 5 Year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18880" y="1147320"/>
            <a:ext cx="854388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73520" indent="-17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FY09 Context Setting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Getting the Supervisors on Boar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visors provided with basic leadership tools and behavi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visors assisting in developing team char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FY10 Embed and Enh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visor Training and Coaching in LZH Behavi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visor Reviewing and actioning development 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visor supported development of team charters, aligned to Dendrobium Business Plan with measurab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FY11 Al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visors network on roles and behaviours at IC work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visor conducting performance reviews against team charter and recognising goo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visor lead development of charters, aligned to Dendrobium Business Plan with measurab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FY12/13/14 Team Goal Setting &amp; Performance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mployees living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m achieving outcomes on team char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-167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visor facilitated team sessions , Team assess performance and determine corrective performance actions on a monthly ba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4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5681FB2F-60AD-468B-8462-D59D838DF1A1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e How? Supervis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6040" y="1171080"/>
            <a:ext cx="873144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acilitated Session with all Frontline Supervisors prio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rew Team Building Se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 supervisors from each area of Development (i.e. MG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/S, D/S, A/S, WE D/S, WE N/S Dep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ining in leadership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 hour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315040" y="4125960"/>
            <a:ext cx="382896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ole C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haviou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erformanc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nitor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nkages to Business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 rot="18840000">
            <a:off x="4331520" y="2726640"/>
            <a:ext cx="1162080" cy="1998720"/>
          </a:xfrm>
          <a:prstGeom prst="downArrow">
            <a:avLst>
              <a:gd name="adj1" fmla="val 50000"/>
              <a:gd name="adj2" fmla="val 42999"/>
            </a:avLst>
          </a:prstGeom>
          <a:solidFill>
            <a:srgbClr val="e851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511200" y="5295960"/>
            <a:ext cx="15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My pick – the Cajun Rack of Lamb and Salt &amp; Pepper Squ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7" descr=""/>
          <p:cNvPicPr/>
          <p:nvPr/>
        </p:nvPicPr>
        <p:blipFill>
          <a:blip r:embed="rId1"/>
          <a:stretch/>
        </p:blipFill>
        <p:spPr>
          <a:xfrm>
            <a:off x="6272280" y="1171440"/>
            <a:ext cx="2682720" cy="178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4"/>
          <p:cNvSpPr/>
          <p:nvPr/>
        </p:nvSpPr>
        <p:spPr>
          <a:xfrm>
            <a:off x="6791400" y="6580080"/>
            <a:ext cx="21333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d3d2c4"/>
                </a:solidFill>
                <a:latin typeface="Arial"/>
              </a:rPr>
              <a:t>Slide </a:t>
            </a:r>
            <a:fld id="{C8A9588B-690F-46A5-A982-8EF121FF06B3}" type="slidenum">
              <a:rPr b="0" lang="en-AU" sz="900" spc="-1" strike="noStrike">
                <a:solidFill>
                  <a:srgbClr val="d3d2c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1200" y="126720"/>
            <a:ext cx="7324560" cy="7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e How? Cre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7440" y="1123560"/>
            <a:ext cx="7378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rew Team Building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 day facilitated session (approx 50 peo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roduction to new start of shift process tool (ROP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fresher on Leading Zero Harm Safety T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velopment of Team Ch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eam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eam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Values – What do they mean for each cre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etting of Measurable Objective around – Zero Harm, Standards and Behaviours, Efficiency an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etting of 30, 60, and 90 day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4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uccess for the Team is 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rew skills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"/>
          <p:cNvPicPr/>
          <p:nvPr/>
        </p:nvPicPr>
        <p:blipFill>
          <a:blip r:embed="rId1"/>
          <a:stretch/>
        </p:blipFill>
        <p:spPr>
          <a:xfrm>
            <a:off x="6894360" y="1123920"/>
            <a:ext cx="2100240" cy="1400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"/>
          <p:cNvPicPr/>
          <p:nvPr/>
        </p:nvPicPr>
        <p:blipFill>
          <a:blip r:embed="rId2"/>
          <a:stretch/>
        </p:blipFill>
        <p:spPr>
          <a:xfrm>
            <a:off x="7596360" y="2637000"/>
            <a:ext cx="1396800" cy="1979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"/>
          <p:cNvPicPr/>
          <p:nvPr/>
        </p:nvPicPr>
        <p:blipFill>
          <a:blip r:embed="rId3"/>
          <a:stretch/>
        </p:blipFill>
        <p:spPr>
          <a:xfrm>
            <a:off x="7756560" y="4775040"/>
            <a:ext cx="1149480" cy="1627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03:59:39Z</dcterms:created>
  <dc:creator>Author</dc:creator>
  <dc:description/>
  <dc:language>en-US</dc:language>
  <cp:lastModifiedBy>Gary Gibson</cp:lastModifiedBy>
  <cp:lastPrinted>2008-12-22T06:50:32Z</cp:lastPrinted>
  <dcterms:modified xsi:type="dcterms:W3CDTF">2009-08-28T01:08:00Z</dcterms:modified>
  <cp:revision>129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">
    <vt:lpwstr>21</vt:lpwstr>
  </property>
  <property fmtid="{D5CDD505-2E9C-101B-9397-08002B2CF9AE}" pid="3" name="ppt">
    <vt:lpwstr>2003</vt:lpwstr>
  </property>
</Properties>
</file>