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084320" y="703080"/>
            <a:ext cx="4689360" cy="351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8"/>
          </p:nvPr>
        </p:nvSpPr>
        <p:spPr>
          <a:xfrm>
            <a:off x="-360" y="8910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9"/>
          </p:nvPr>
        </p:nvSpPr>
        <p:spPr>
          <a:xfrm>
            <a:off x="3884400" y="8910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8DEE2F-17F0-4C85-92B5-F7C900E1504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50A1D5-C5C7-4715-A318-D87A242A3E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910720"/>
            <a:ext cx="297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C3D881-1E58-4E3E-8515-0D39AC321E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85760" y="703440"/>
            <a:ext cx="4689720" cy="3517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A0F623-E7EE-4B74-A8F5-5E9F5D21790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F7578A-3B11-4FD0-89E7-4D9D8FAFBE2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1A190B-C4B6-4366-A4D5-6EF8395372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7E0419-BAC4-4104-B728-06309EA61C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959E70-3193-4305-8104-64433C5D4F9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613929-4ECC-40E9-A267-3B823E6513F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00CD4E-5897-4F4A-9F4D-1C71368E40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1A576A-1C8D-47E2-B457-FF95C64FEBD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FF5E9E6-6908-4B32-96E8-2B42E8E1C18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006E0D-F2BC-42F4-8493-2EB78146D5C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C13E83-E215-4C8E-A82F-D646FE60418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06154B-D72D-489F-82BC-081C284DB60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B7D6D4-779F-4AFC-B539-2737C7E1E5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6C40-12E0-4B9D-9159-956405533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C5B6-F986-43EE-ACE5-B24934073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8427-AAA6-4D2D-9779-A1FF3458A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1161-C9EC-45E3-A324-B07AB1535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8093C-1ABE-441C-80F4-009C3E9FD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2CD7-6BD5-47DF-8354-967420F18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1DEF-A746-4354-8938-BB428930EB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593F2-4F33-4EED-AFC6-7B61F3823A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1C86B-CF35-4B52-80B3-0D13D7A9A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5F78F-3D42-4C59-9538-EFD8287145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C3D4-0E59-4C13-ADFE-FD51FD72B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7442-C6AA-4620-88DD-E331BE582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3B53D-D981-442F-A769-79E8497C6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2FA44-1A7B-4166-B132-DC19F601A6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F2706-99E7-4C64-895B-751824C945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0E573-DA30-473C-AD83-1A3E39A619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D30F1-651C-41CC-BB8F-CF4910B4F0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780B-FC2B-45DB-A6A1-740AFBA89B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BB2F-A3AF-4B03-96C0-D671977F1D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6969-B318-4A4D-8980-11FAD209E3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64F-CA54-4855-A4B2-55D3290DF7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4F4B-A4D2-43A9-9EB2-6C625BD8A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F81A-D556-440D-B35B-15CB967FC5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344-72A8-4F88-B4D7-D356B9B7A8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CFF-7D86-4F34-AD74-35352FC26D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3E40-E4AB-498B-BB44-020971F7FD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D2B-4D1B-44D7-B32E-07444D1AA7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913-9170-4707-9B28-6720522295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D91-9AF7-45E5-AEAC-BEF7722BB2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559-0956-438A-BF69-61598C6D32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3223-28C3-4EA9-B335-32001FBE53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DA96-3160-4A18-8322-4D1B435049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A161-4E7D-43EF-9FF2-48A8AA34AB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4041-4BF8-4108-AFE2-E386A633B8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176E-F607-4128-8FF0-01A5B4DC2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F3AC-A7A5-4A2D-B158-CDAC364E0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" name="Rectangle 23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24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109440" y="109440"/>
            <a:ext cx="8925120" cy="865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109440" y="100800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3"/>
          <p:cNvGrpSpPr/>
          <p:nvPr/>
        </p:nvGrpSpPr>
        <p:grpSpPr>
          <a:xfrm>
            <a:off x="8042400" y="204840"/>
            <a:ext cx="888840" cy="673200"/>
            <a:chOff x="8042400" y="204840"/>
            <a:chExt cx="888840" cy="673200"/>
          </a:xfrm>
        </p:grpSpPr>
        <p:sp>
          <p:nvSpPr>
            <p:cNvPr id="6" name="Freeform 14"/>
            <p:cNvSpPr/>
            <p:nvPr/>
          </p:nvSpPr>
          <p:spPr>
            <a:xfrm>
              <a:off x="8049960" y="762120"/>
              <a:ext cx="870120" cy="11592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042400" y="542880"/>
              <a:ext cx="878040" cy="1857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632800" y="236880"/>
              <a:ext cx="147240" cy="255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8767440" y="204840"/>
              <a:ext cx="163800" cy="2952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8503920" y="374760"/>
              <a:ext cx="112680" cy="113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8561520" y="280800"/>
              <a:ext cx="77400" cy="7920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47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58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92CC3C28-7630-4316-A0E3-6B03D55BE9F1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914280"/>
            <a:ext cx="6323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87080" y="5331960"/>
            <a:ext cx="633564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124920" indent="-124920"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20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088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652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9A7CF45B-AB3E-4C43-A32A-085179209682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7023240" y="4846680"/>
            <a:ext cx="1882440" cy="1425240"/>
            <a:chOff x="7023240" y="4846680"/>
            <a:chExt cx="1882440" cy="1425240"/>
          </a:xfrm>
        </p:grpSpPr>
        <p:sp>
          <p:nvSpPr>
            <p:cNvPr id="57" name="Freeform 18"/>
            <p:cNvSpPr/>
            <p:nvPr/>
          </p:nvSpPr>
          <p:spPr>
            <a:xfrm>
              <a:off x="7039440" y="6027840"/>
              <a:ext cx="1842840" cy="24408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023240" y="5561640"/>
              <a:ext cx="1856520" cy="3945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274960" y="4914360"/>
              <a:ext cx="312480" cy="540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560440" y="4846680"/>
              <a:ext cx="345240" cy="6264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000640" y="5205240"/>
              <a:ext cx="239760" cy="24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121600" y="5007960"/>
              <a:ext cx="167040" cy="16812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4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66" name="Rectangle 28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05" name="Rectangle 19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2"/>
          <p:cNvSpPr/>
          <p:nvPr/>
        </p:nvSpPr>
        <p:spPr>
          <a:xfrm>
            <a:off x="109440" y="109440"/>
            <a:ext cx="8925120" cy="865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09440" y="100800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8042400" y="204840"/>
            <a:ext cx="888840" cy="673200"/>
            <a:chOff x="8042400" y="204840"/>
            <a:chExt cx="888840" cy="673200"/>
          </a:xfrm>
        </p:grpSpPr>
        <p:sp>
          <p:nvSpPr>
            <p:cNvPr id="110" name="Freeform 10"/>
            <p:cNvSpPr/>
            <p:nvPr/>
          </p:nvSpPr>
          <p:spPr>
            <a:xfrm>
              <a:off x="8049960" y="762120"/>
              <a:ext cx="870120" cy="11592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8042400" y="542880"/>
              <a:ext cx="878040" cy="1857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8632800" y="236880"/>
              <a:ext cx="147240" cy="255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767440" y="204840"/>
              <a:ext cx="163800" cy="2952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503920" y="374760"/>
              <a:ext cx="112680" cy="113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561520" y="280800"/>
              <a:ext cx="77400" cy="7920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9760" y="136692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74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47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95400" indent="-15876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90A60519-6B35-4B5F-9866-F102311E4CFE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0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3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58" name="Rectangle 32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7"/>
          <p:cNvGrpSpPr/>
          <p:nvPr/>
        </p:nvGrpSpPr>
        <p:grpSpPr>
          <a:xfrm>
            <a:off x="6684840" y="4317840"/>
            <a:ext cx="2179800" cy="1640160"/>
            <a:chOff x="6684840" y="4317840"/>
            <a:chExt cx="2179800" cy="1640160"/>
          </a:xfrm>
        </p:grpSpPr>
        <p:sp>
          <p:nvSpPr>
            <p:cNvPr id="161" name="Freeform 9"/>
            <p:cNvSpPr/>
            <p:nvPr/>
          </p:nvSpPr>
          <p:spPr>
            <a:xfrm>
              <a:off x="6703920" y="5676840"/>
              <a:ext cx="2133720" cy="28116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84840" y="5140440"/>
              <a:ext cx="2151360" cy="4539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8134200" y="4395960"/>
              <a:ext cx="362160" cy="6238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8464680" y="4317840"/>
              <a:ext cx="399960" cy="720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7816680" y="4730760"/>
              <a:ext cx="277920" cy="2808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7956720" y="4503600"/>
              <a:ext cx="193680" cy="1936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9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47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58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7023240" y="4846680"/>
            <a:ext cx="1882440" cy="1425240"/>
            <a:chOff x="7023240" y="4846680"/>
            <a:chExt cx="1882440" cy="1425240"/>
          </a:xfrm>
        </p:grpSpPr>
        <p:sp>
          <p:nvSpPr>
            <p:cNvPr id="207" name="Freeform 8"/>
            <p:cNvSpPr/>
            <p:nvPr/>
          </p:nvSpPr>
          <p:spPr>
            <a:xfrm>
              <a:off x="7039440" y="6027840"/>
              <a:ext cx="1842840" cy="24408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7023240" y="5561640"/>
              <a:ext cx="1856520" cy="3945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8274960" y="4914360"/>
              <a:ext cx="312480" cy="540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8560440" y="4846680"/>
              <a:ext cx="345240" cy="6264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8000640" y="5205240"/>
              <a:ext cx="239760" cy="24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8121600" y="5007960"/>
              <a:ext cx="167040" cy="16812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5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215" name="Rectangle 20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914280"/>
            <a:ext cx="6323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87080" y="5331960"/>
            <a:ext cx="633564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124920" indent="-124920"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20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088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652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6684840" y="4317840"/>
            <a:ext cx="2179800" cy="1640160"/>
            <a:chOff x="6684840" y="4317840"/>
            <a:chExt cx="2179800" cy="1640160"/>
          </a:xfrm>
        </p:grpSpPr>
        <p:sp>
          <p:nvSpPr>
            <p:cNvPr id="257" name="Freeform 7"/>
            <p:cNvSpPr/>
            <p:nvPr/>
          </p:nvSpPr>
          <p:spPr>
            <a:xfrm>
              <a:off x="6703920" y="5676840"/>
              <a:ext cx="2133720" cy="28116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6684840" y="5140440"/>
              <a:ext cx="2151360" cy="4539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8134200" y="4395960"/>
              <a:ext cx="362160" cy="6238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8464680" y="4317840"/>
              <a:ext cx="399960" cy="720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"/>
            <p:cNvSpPr/>
            <p:nvPr/>
          </p:nvSpPr>
          <p:spPr>
            <a:xfrm>
              <a:off x="7816680" y="4730760"/>
              <a:ext cx="277920" cy="2808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7956720" y="4503600"/>
              <a:ext cx="193680" cy="1936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265" name="Rectangle 16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9760" y="136692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74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47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95400" indent="-15876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3480" y="3181320"/>
            <a:ext cx="815004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85100"/>
                </a:solidFill>
                <a:latin typeface="Arial"/>
              </a:rPr>
              <a:t>ACARP Roadway Development 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7960" y="5713200"/>
            <a:ext cx="633096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828720" y="4200480"/>
            <a:ext cx="2421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93840" y="3925800"/>
            <a:ext cx="6997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85100"/>
                </a:solidFill>
                <a:latin typeface="Arial"/>
              </a:rPr>
              <a:t>The Way We Work - Harnessing Development Teams at Dendro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E4805CD2-45DC-4706-B77E-19AE152C4DFF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MG6 Green G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9400" y="2971800"/>
          <a:ext cx="8824680" cy="2057400"/>
        </p:xfrm>
        <a:graphic>
          <a:graphicData uri="http://schemas.openxmlformats.org/drawingml/2006/table">
            <a:tbl>
              <a:tblPr/>
              <a:tblGrid>
                <a:gridCol w="2941560"/>
                <a:gridCol w="2941560"/>
                <a:gridCol w="29415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 H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ndards &amp;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fficiencies &amp;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TRI’s for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LAMPS witnessed and noted on ROPES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iew 3 procedures by the end of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downtime due to skills shortage – 80% green on skills mat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use keeping audit – 1 per t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% compliance 103 insp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lement 3 improvement ideas for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duct shiftly performance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ad the average MPOH league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2" name="Rectangle 17"/>
          <p:cNvSpPr/>
          <p:nvPr/>
        </p:nvSpPr>
        <p:spPr>
          <a:xfrm>
            <a:off x="152280" y="460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ndro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152280" y="1219320"/>
            <a:ext cx="8839440" cy="380880"/>
          </a:xfrm>
          <a:prstGeom prst="rect">
            <a:avLst/>
          </a:prstGeom>
          <a:solidFill>
            <a:srgbClr val="d2c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Team Purpose:  Lead the way in safe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52280" y="5867280"/>
            <a:ext cx="8839440" cy="381240"/>
          </a:xfrm>
          <a:prstGeom prst="rect">
            <a:avLst/>
          </a:prstGeom>
          <a:solidFill>
            <a:srgbClr val="d2c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Success for our team is … </a:t>
            </a: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mpleting MG6 on time, injury free, whilst maintaining team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Our Values and 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mmitment to HSEC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The safety tool bag is part of ou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Integrity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Ownership of our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urage to Lead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We have zero tolerance to poor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Decisions Based on Facts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Be prepared to change by letting standards drive th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High Performance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Solid team commitment to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905040" cy="925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3"/>
          <p:cNvSpPr/>
          <p:nvPr/>
        </p:nvSpPr>
        <p:spPr>
          <a:xfrm>
            <a:off x="1600200" y="64008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G6 WWW 19-20 February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1120" y="5029200"/>
          <a:ext cx="8828280" cy="738360"/>
        </p:xfrm>
        <a:graphic>
          <a:graphicData uri="http://schemas.openxmlformats.org/drawingml/2006/table">
            <a:tbl>
              <a:tblPr/>
              <a:tblGrid>
                <a:gridCol w="2936880"/>
                <a:gridCol w="2936880"/>
                <a:gridCol w="2954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3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4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4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 Box 38"/>
          <p:cNvSpPr/>
          <p:nvPr/>
        </p:nvSpPr>
        <p:spPr>
          <a:xfrm>
            <a:off x="981396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7086600" y="460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une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1A914562-4DB5-44F1-BA69-FE1D5BD020B2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arter review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3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ults forwarded to crews 1 week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ws review performance against Char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ach crew presents results to sh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03508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6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76704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9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51808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ESET 30, 60, 90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Day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22160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ew Charters developed for all process changes (i.e. new gateroad pan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 rot="1740000">
            <a:off x="2007720" y="4219560"/>
            <a:ext cx="5024520" cy="378000"/>
          </a:xfrm>
          <a:prstGeom prst="pie">
            <a:avLst/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34800" y="5396760"/>
            <a:ext cx="4480200" cy="426600"/>
          </a:xfrm>
          <a:prstGeom prst="rect">
            <a:avLst/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nt line Supervisor (Deputy) and Undermanager Driven – maintained at crew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772320" y="1127160"/>
            <a:ext cx="21780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BAFB5EE4-7A28-4ACC-A36C-ECE24889ECD9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sults – has it been successful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81360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5283920C-86CB-4A04-A34B-1F87A25CC9E2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ey Learning'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87440" y="923400"/>
            <a:ext cx="84643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Understanding the purpose of the Way W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were we trying to achi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lling th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king it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etting buy-in from Shift Undermanagers and Dep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etting the key people to ‘buy’ into the vision and want to ‘own i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r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o not believe we resolved the issue of shift to shift standards and re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view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is this really ab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or me it is about the Shift Undermanager and the Deputy engaging with their cr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iginally this seemed foreign to peopl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417F0079-06AE-44C9-8421-660191AF8276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36520" y="1238400"/>
            <a:ext cx="871524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llawarra Coal’s intention is to be a values based organisation that adheres to high standards of integrity, respect and trust.  The purpose of the ‘Team Work Standards’ is to establish a set of performance requirements which will guide the people within Illawarra Coal to deliver the best they can for themselves, the team and the business.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2801880" y="4618080"/>
            <a:ext cx="3535560" cy="16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6DF65813-9180-4420-AAF1-0E705B92533D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j0078749"/>
          <p:cNvPicPr/>
          <p:nvPr/>
        </p:nvPicPr>
        <p:blipFill>
          <a:blip r:embed="rId1"/>
          <a:stretch/>
        </p:blipFill>
        <p:spPr>
          <a:xfrm>
            <a:off x="4525920" y="2655720"/>
            <a:ext cx="4425840" cy="1845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C Team Standards – 5 major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36520" y="1238400"/>
            <a:ext cx="871524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Team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Zero h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Cap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6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255611B8-F1ED-4F7E-9129-5062ED74B0E4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6" descr=""/>
          <p:cNvPicPr/>
          <p:nvPr/>
        </p:nvPicPr>
        <p:blipFill>
          <a:blip r:embed="rId1"/>
          <a:stretch/>
        </p:blipFill>
        <p:spPr>
          <a:xfrm>
            <a:off x="206280" y="1144440"/>
            <a:ext cx="3349800" cy="23162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“Way We Wo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7" descr=""/>
          <p:cNvPicPr/>
          <p:nvPr/>
        </p:nvPicPr>
        <p:blipFill>
          <a:blip r:embed="rId2"/>
          <a:stretch/>
        </p:blipFill>
        <p:spPr>
          <a:xfrm>
            <a:off x="6877080" y="2406600"/>
            <a:ext cx="1917720" cy="3448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6"/>
          <p:cNvSpPr/>
          <p:nvPr/>
        </p:nvSpPr>
        <p:spPr>
          <a:xfrm>
            <a:off x="511200" y="5283360"/>
            <a:ext cx="451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 Intent – provide competitive advantage through an aligned and values based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4676760" y="117648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usiness Plan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5 Year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0"/>
          <p:cNvGraphicFramePr/>
          <p:nvPr/>
        </p:nvGraphicFramePr>
        <p:xfrm>
          <a:off x="3186000" y="2406600"/>
          <a:ext cx="334332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6000" y="2406600"/>
                    <a:ext cx="33433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Oval 28"/>
          <p:cNvSpPr/>
          <p:nvPr/>
        </p:nvSpPr>
        <p:spPr>
          <a:xfrm>
            <a:off x="838080" y="1590840"/>
            <a:ext cx="924120" cy="1666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1"/>
          <p:cNvSpPr/>
          <p:nvPr/>
        </p:nvSpPr>
        <p:spPr>
          <a:xfrm>
            <a:off x="3753000" y="2854440"/>
            <a:ext cx="923760" cy="1666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2"/>
          <p:cNvSpPr/>
          <p:nvPr/>
        </p:nvSpPr>
        <p:spPr>
          <a:xfrm>
            <a:off x="1838160" y="4267080"/>
            <a:ext cx="914400" cy="459000"/>
          </a:xfrm>
          <a:prstGeom prst="borderCallout2">
            <a:avLst>
              <a:gd name="adj1" fmla="val 18750"/>
              <a:gd name="adj2" fmla="val -8333"/>
              <a:gd name="adj3" fmla="val 24912"/>
              <a:gd name="adj4" fmla="val -31250"/>
              <a:gd name="adj5" fmla="val -220069"/>
              <a:gd name="adj6" fmla="val -55208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eople Pil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4"/>
          <p:cNvSpPr/>
          <p:nvPr/>
        </p:nvSpPr>
        <p:spPr>
          <a:xfrm flipV="1">
            <a:off x="2752560" y="4152600"/>
            <a:ext cx="10004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DFFBD04C-9BED-4101-8B66-3401BEAF7C7A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“Way We Work” – why do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920" y="1052640"/>
            <a:ext cx="88297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igned aroun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gaging Frontline Supervisor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heir teams wor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– providing feedback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ole Clarity &amp; Responsibilit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- Undermanagers and Deputies, how do they steer their te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ing Development teams with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‘Buy-in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nto the achievement of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usines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nging ‘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alues and Behaviours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nto the Way W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0FF3950D-2A4D-4C28-BECA-C0FEA05AED3C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llawarra Coal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109160"/>
            <a:ext cx="870084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mitment to HSEC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have an overriding commitment to health, safety, environment and our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grity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are open and honest, we do what we say and treat each other with re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urage to lead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have the courage to own and lead improvement – We challenge the n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cisions based on facts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ourceful people who make decisions based on fact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igh performance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assion for meeting or exceeding our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DO THESE VALUES MEAN TO THE AVERAGE EMPLOY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ore contributor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iving behaviours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lues that the workforce believ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6664320" y="3897360"/>
            <a:ext cx="1735200" cy="244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78411017-C11B-41B0-BC90-50C555AFE3FA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y do it? - 5 Year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8880" y="1147320"/>
            <a:ext cx="854388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09 Context Sett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etting the Supervisors on Boar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provided with basic leadership tools and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assisting in developing team ch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0 Embed and En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Training and Coaching in LZH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Reviewing and actioning develop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supported development of team charters, aligned to Dendrobium Business Plan with measurab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1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network on roles and behaviours at I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conducting performance reviews against team charter and recognising goo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lead development of charters, aligned to Dendrobium Business Plan with measurab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2/13/14 Team Goal Setting &amp; Performanc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mployees living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m achieving outcomes on team ch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facilitated team sessions , Team assess performance and determine corrective performance actions on a monthly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14546EAD-1EE0-4219-9353-B231166989E5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How? Supervi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6040" y="1171080"/>
            <a:ext cx="873144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cilitated Session with all Frontline Supervisors prio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w Team Building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supervisors from each area of Development (i.e. MG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/S, D/S, A/S, WE D/S, WE N/S Dep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ing in leadershi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hou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315040" y="4125960"/>
            <a:ext cx="38289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ole C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haviou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nitor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kages to Busines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8840000">
            <a:off x="4331520" y="2726640"/>
            <a:ext cx="1162080" cy="1998720"/>
          </a:xfrm>
          <a:prstGeom prst="downArrow">
            <a:avLst>
              <a:gd name="adj1" fmla="val 50000"/>
              <a:gd name="adj2" fmla="val 42999"/>
            </a:avLst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1200" y="5295960"/>
            <a:ext cx="15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My pick – the Cajun Rack of Lamb and Salt &amp; Pepper S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1"/>
          <a:stretch/>
        </p:blipFill>
        <p:spPr>
          <a:xfrm>
            <a:off x="6272280" y="1171440"/>
            <a:ext cx="268272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B6E5404F-CD3E-468B-BEDB-2C505CB9A586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How? Cr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440" y="1123560"/>
            <a:ext cx="7378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rew Team Build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 day facilitated session (approx 5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 to new start of shift process tool (RO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resher on Leading Zero Harm Safety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elopment of Team 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m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m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lues – What do they mean for each cr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tting of Measurable Objective around – Zero Harm, Standards and Behaviours, Efficiency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tting of 30, 60, and 90 day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ccess for the Team is 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w skills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894360" y="1123920"/>
            <a:ext cx="2100240" cy="1400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1396800" cy="197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7756560" y="4775040"/>
            <a:ext cx="114948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3:59:39Z</dcterms:created>
  <dc:creator>Author</dc:creator>
  <dc:description/>
  <dc:language>en-US</dc:language>
  <cp:lastModifiedBy>Gary Gibson</cp:lastModifiedBy>
  <cp:lastPrinted>2008-12-22T06:50:32Z</cp:lastPrinted>
  <dcterms:modified xsi:type="dcterms:W3CDTF">2009-08-28T01:08:00Z</dcterms:modified>
  <cp:revision>129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">
    <vt:lpwstr>21</vt:lpwstr>
  </property>
  <property fmtid="{D5CDD505-2E9C-101B-9397-08002B2CF9AE}" pid="3" name="ppt">
    <vt:lpwstr>2003</vt:lpwstr>
  </property>
</Properties>
</file>