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A3E2-F91D-4241-821D-624DEBDEA2D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D25D-D0DA-49C7-ABD6-9751A5D418E0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A648-327B-43AF-9895-A6A183AB0A4D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4B0E-E612-45CC-819C-874827AB0770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5F12-A3A5-46C4-A381-2BF2145C73C5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07AB-A7FF-4683-8B83-16048694F9EE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A880-0CF0-4550-8351-B44EA450DB14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1647-2B6D-4583-9CA3-1A19E6792911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D2A9-72D6-49D9-B1C9-61BF2922DD87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7E3B-C2B1-4298-86E4-5500DDBA8847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AD15-B5AF-4755-8766-6198926B7492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91E5-D58B-4100-A2B2-4C290DDC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D9C-5322-4CF1-80B1-6F168EDB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D39-90A5-4F75-B9D1-AB3A114F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92B-06B1-4172-86D2-FF8B85DB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859B-E46C-4CA7-A2F0-D8915CB7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0ADC-9D1F-43CF-8282-0923EBB6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9DE8-3339-4900-A088-046B81B1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85EA-D132-4A18-AEBE-2B1DF643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7DFC-5BC0-497A-B007-BEE41988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5E4B-C8F5-49E4-A73B-692AC4FA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38EF-8039-4E5F-96E9-FFBC3016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4C7-A1B2-4138-B09B-D4EC2AAD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C6C5-19D2-41DB-9D9C-33626295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AEEF-D905-4AA7-A9DC-C847043E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F7B9-534B-45FB-9E44-1C1366E6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6563-92C0-452C-91C7-C81C4E47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3A53-6EBB-4340-BCA9-8C4BEF2A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E5D-F074-4FF2-9804-3D127A77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7AB-4187-401B-BEC6-7659F1E6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0D1-4BE3-41F7-ABCD-369D1161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42F-4075-49D4-9D51-249BE704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6424-482A-4D8B-A66E-959DB57C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94D-EB19-41A3-A541-FB783F08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E02-B98D-4E15-8371-AA06F167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7C27-1EBF-4B47-A0FD-420A7C7DDC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7093080" y="6381720"/>
            <a:ext cx="1728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Rectangle 74"/>
          <p:cNvSpPr/>
          <p:nvPr/>
        </p:nvSpPr>
        <p:spPr>
          <a:xfrm>
            <a:off x="7415280" y="6353280"/>
            <a:ext cx="172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cc66"/>
                </a:solidFill>
                <a:latin typeface="Arial"/>
              </a:rPr>
              <a:t>Faculty of Engineering</a:t>
            </a:r>
            <a:endParaRPr b="1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cc66"/>
                </a:solidFill>
                <a:latin typeface="Arial"/>
              </a:rPr>
              <a:t>University of Wollongong</a:t>
            </a:r>
            <a:endParaRPr b="1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Rectangle 75"/>
          <p:cNvSpPr/>
          <p:nvPr/>
        </p:nvSpPr>
        <p:spPr>
          <a:xfrm>
            <a:off x="0" y="6276960"/>
            <a:ext cx="47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9966"/>
                </a:solidFill>
                <a:latin typeface="Arial"/>
              </a:rPr>
              <a:t>Roadway Development Operators’ Workshops</a:t>
            </a:r>
            <a:endParaRPr b="1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9966"/>
                </a:solidFill>
                <a:latin typeface="Arial"/>
              </a:rPr>
              <a:t>September 2009</a:t>
            </a:r>
            <a:endParaRPr b="1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0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2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0A26-1D17-4E21-BB58-8BD73BC629D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0" y="119160"/>
            <a:ext cx="91440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ACARP PROJECT C17004 UPDATE: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5b2ff"/>
                </a:solidFill>
                <a:latin typeface="Arial"/>
              </a:rPr>
              <a:t>TOUGH SKIN – A SPRAY-ON POLYMERIC REPLACEMENT FOR ROOF &amp; RIB MESH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cc00"/>
                </a:solidFill>
                <a:latin typeface="Arial"/>
              </a:rPr>
              <a:t>Chris Lukey, Ernest Baafi, Jan Nemcik, Ian Porter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School of Civil, Mining &amp; Environmental Engineering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</a:rPr>
              <a:t>Faculty of Engineering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</a:rPr>
              <a:t>University of Wollongong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66"/>
                </a:solidFill>
                <a:latin typeface="Arial"/>
              </a:rPr>
              <a:t>Roadway Development Operators’ Workshops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66"/>
                </a:solidFill>
                <a:latin typeface="Arial"/>
              </a:rPr>
              <a:t>August/September 2009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3"/>
          <p:cNvSpPr/>
          <p:nvPr/>
        </p:nvSpPr>
        <p:spPr>
          <a:xfrm>
            <a:off x="3601440" y="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Future Work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041840" y="534960"/>
            <a:ext cx="70585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 u="sng">
                <a:solidFill>
                  <a:srgbClr val="eaeaea"/>
                </a:solidFill>
                <a:uFillTx/>
                <a:latin typeface="Arial"/>
              </a:rPr>
              <a:t>Accelerated performance tests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Measure effect on mechanical properties of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-  water at ambient temperature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-  water at elevated temperatur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-  water at different pH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-  elevated temperatur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 u="sng">
                <a:solidFill>
                  <a:srgbClr val="eaeaea"/>
                </a:solidFill>
                <a:uFillTx/>
                <a:latin typeface="Arial"/>
              </a:rPr>
              <a:t>Intercoat adhesion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Does fresh material stick to already-cured material?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-  encouraging early result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 u="sng">
                <a:solidFill>
                  <a:srgbClr val="eaeaea"/>
                </a:solidFill>
                <a:uFillTx/>
                <a:latin typeface="Arial"/>
              </a:rPr>
              <a:t>Effect of “Tough Skin” on downstream processing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-  student project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-  encouraging early result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 u="sng">
                <a:solidFill>
                  <a:srgbClr val="eaeaea"/>
                </a:solidFill>
                <a:uFillTx/>
                <a:latin typeface="Arial"/>
              </a:rPr>
              <a:t>Study of alternative flame retardants &amp; anti-stats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-  testing at MSTC (Hunter Valley)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3709440" y="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00040" y="571680"/>
            <a:ext cx="8143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eaeaea"/>
                </a:solidFill>
                <a:uFillTx/>
                <a:latin typeface="Arial"/>
              </a:rPr>
              <a:t>To develop an alternative to steel mesh that</a:t>
            </a: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Provides an effective skin confinement measure equivalent or superior to that of steel mesh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Requires minimal human intervention in its installation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Removes personnel from the immediate face area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Enables higher underground roadway development rates to be achieved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Is safe to us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Is cost effectiv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00"/>
                </a:solidFill>
                <a:latin typeface="Arial"/>
              </a:rPr>
              <a:t>The focus of our work is the development of a </a:t>
            </a:r>
            <a:r>
              <a:rPr b="1" lang="en-AU" sz="2000" spc="-1" strike="noStrike" u="sng">
                <a:solidFill>
                  <a:srgbClr val="ffcc00"/>
                </a:solidFill>
                <a:uFillTx/>
                <a:latin typeface="Arial"/>
              </a:rPr>
              <a:t>polymer-based </a:t>
            </a:r>
            <a:r>
              <a:rPr b="1" lang="en-AU" sz="2000" spc="-1" strike="noStrike">
                <a:solidFill>
                  <a:srgbClr val="ffcc00"/>
                </a:solidFill>
                <a:latin typeface="Arial"/>
              </a:rPr>
              <a:t>alternative that can be </a:t>
            </a:r>
            <a:r>
              <a:rPr b="1" lang="en-AU" sz="2000" spc="-1" strike="noStrike" u="sng">
                <a:solidFill>
                  <a:srgbClr val="ffcc00"/>
                </a:solidFill>
                <a:uFillTx/>
                <a:latin typeface="Arial"/>
              </a:rPr>
              <a:t>spray-applied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2514600" y="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Progress Since March 2009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98600" y="836640"/>
            <a:ext cx="8226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Shelf Life issues resolved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Surface temperature measurement during cure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Comparison of reinforcement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- short and long glass fibre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- short carbon fibre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Study of alternative flame retardant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- progress but limited succes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Wind tunnel second experiment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Handling of reinforcement during spray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Commenced accelerated performance test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Commenced study of intercoat adhesi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Commenced study of effect on downstream processing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1863360" y="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Surface Temperature Measurement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8" name="Object 5"/>
          <p:cNvGraphicFramePr/>
          <p:nvPr/>
        </p:nvGraphicFramePr>
        <p:xfrm>
          <a:off x="712800" y="1587600"/>
          <a:ext cx="7716960" cy="36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1587600"/>
                    <a:ext cx="771696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1229760" y="0"/>
            <a:ext cx="67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Flexure Test Comparis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of Long and Short Glass Fibre Reinforcement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1011240" y="1152360"/>
          <a:ext cx="712008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1152360"/>
                    <a:ext cx="71200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-78120" y="620640"/>
            <a:ext cx="9300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Two types of tests in two different-sized wind tunnels: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Static tests (small and large tunnel)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Spray tests (large tunnel only)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Conducted with minimum permissible air velocity (0.5m/s) to simulat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worst-case mine ventilation scenario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Surface temperature monitored during cur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Air samples collected upstream and downstream in large tunnel: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*  During spray/cur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*  Immediately after spray/cur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*  After one further hour whilst maintaining ventilation in the tunn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No reinforcement included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123720" y="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Wind Tunnel Test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IMG_1534"/>
          <p:cNvPicPr/>
          <p:nvPr/>
        </p:nvPicPr>
        <p:blipFill>
          <a:blip r:embed="rId1"/>
          <a:stretch/>
        </p:blipFill>
        <p:spPr>
          <a:xfrm>
            <a:off x="1224000" y="836640"/>
            <a:ext cx="6696000" cy="50227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1621080" y="14842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8f8f8"/>
                </a:solidFill>
                <a:latin typeface="Arial"/>
              </a:rPr>
              <a:t>Fa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860720" y="11970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8f8f8"/>
                </a:solidFill>
                <a:latin typeface="Arial"/>
              </a:rPr>
              <a:t>Air “Straightener”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 flipH="1">
            <a:off x="1476000" y="1916280"/>
            <a:ext cx="647640" cy="15127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6156360" y="1628640"/>
            <a:ext cx="1655640" cy="1800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205000" y="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Large Wind Tunnel Redesigned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Line 12"/>
          <p:cNvSpPr/>
          <p:nvPr/>
        </p:nvSpPr>
        <p:spPr>
          <a:xfrm flipH="1" flipV="1">
            <a:off x="3634920" y="4220640"/>
            <a:ext cx="2089080" cy="7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3615840" y="431172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Flow Directi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4"/>
          <p:cNvGraphicFramePr/>
          <p:nvPr/>
        </p:nvGraphicFramePr>
        <p:xfrm>
          <a:off x="466560" y="804960"/>
          <a:ext cx="8209080" cy="52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804960"/>
                    <a:ext cx="820908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5"/>
          <p:cNvSpPr/>
          <p:nvPr/>
        </p:nvSpPr>
        <p:spPr>
          <a:xfrm>
            <a:off x="1332000" y="1484280"/>
            <a:ext cx="1511280" cy="4033800"/>
          </a:xfrm>
          <a:prstGeom prst="rect">
            <a:avLst/>
          </a:prstGeom>
          <a:gradFill rotWithShape="0">
            <a:gsLst>
              <a:gs pos="0">
                <a:srgbClr val="ccecff">
                  <a:alpha val="54117"/>
                </a:srgbClr>
              </a:gs>
              <a:gs pos="100000">
                <a:srgbClr val="5e6d76">
                  <a:alpha val="54117"/>
                </a:srgbClr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989440" y="417348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Spray Durati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Line 7"/>
          <p:cNvSpPr/>
          <p:nvPr/>
        </p:nvSpPr>
        <p:spPr>
          <a:xfrm flipH="1" flipV="1">
            <a:off x="2550960" y="4292280"/>
            <a:ext cx="43200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3711240" y="3597120"/>
            <a:ext cx="43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Ambient Temperature 16.5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  <a:ea typeface="Arial"/>
              </a:rPr>
              <a:t>°C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1258920" y="3500280"/>
            <a:ext cx="7058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H="1" flipV="1">
            <a:off x="3371760" y="3497040"/>
            <a:ext cx="408240" cy="363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980720" y="0"/>
            <a:ext cx="52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Surface Temperature During Spray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1974600" y="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Conceptual Design of Feed System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for Spraying of Reinforcement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3" name="Object 6"/>
          <p:cNvGraphicFramePr/>
          <p:nvPr/>
        </p:nvGraphicFramePr>
        <p:xfrm>
          <a:off x="1371600" y="1733400"/>
          <a:ext cx="59641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33400"/>
                    <a:ext cx="59641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5" name="Picture 7" descr="RotaryValve1"/>
          <p:cNvPicPr/>
          <p:nvPr/>
        </p:nvPicPr>
        <p:blipFill>
          <a:blip r:embed="rId3"/>
          <a:stretch/>
        </p:blipFill>
        <p:spPr>
          <a:xfrm>
            <a:off x="152280" y="3790800"/>
            <a:ext cx="2214720" cy="2352960"/>
          </a:xfrm>
          <a:prstGeom prst="rect">
            <a:avLst/>
          </a:prstGeom>
          <a:ln w="0">
            <a:noFill/>
          </a:ln>
        </p:spPr>
      </p:pic>
      <p:sp>
        <p:nvSpPr>
          <p:cNvPr id="256" name="Line 8"/>
          <p:cNvSpPr/>
          <p:nvPr/>
        </p:nvSpPr>
        <p:spPr>
          <a:xfrm flipV="1">
            <a:off x="1828800" y="3638520"/>
            <a:ext cx="1219320" cy="533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9" descr="AirPump1"/>
          <p:cNvPicPr/>
          <p:nvPr/>
        </p:nvPicPr>
        <p:blipFill>
          <a:blip r:embed="rId4"/>
          <a:stretch/>
        </p:blipFill>
        <p:spPr>
          <a:xfrm>
            <a:off x="7162920" y="3562200"/>
            <a:ext cx="1725480" cy="1733760"/>
          </a:xfrm>
          <a:prstGeom prst="rect">
            <a:avLst/>
          </a:prstGeom>
          <a:ln w="0">
            <a:noFill/>
          </a:ln>
        </p:spPr>
      </p:pic>
      <p:sp>
        <p:nvSpPr>
          <p:cNvPr id="258" name="Line 10"/>
          <p:cNvSpPr/>
          <p:nvPr/>
        </p:nvSpPr>
        <p:spPr>
          <a:xfrm flipV="1">
            <a:off x="5715000" y="3180960"/>
            <a:ext cx="1828800" cy="1219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9" name="Picture 11" descr="AirPump2"/>
          <p:cNvPicPr/>
          <p:nvPr/>
        </p:nvPicPr>
        <p:blipFill>
          <a:blip r:embed="rId5"/>
          <a:stretch/>
        </p:blipFill>
        <p:spPr>
          <a:xfrm>
            <a:off x="5638680" y="1363680"/>
            <a:ext cx="3276720" cy="1514520"/>
          </a:xfrm>
          <a:prstGeom prst="rect">
            <a:avLst/>
          </a:prstGeom>
          <a:ln w="0">
            <a:noFill/>
          </a:ln>
        </p:spPr>
      </p:pic>
      <p:sp>
        <p:nvSpPr>
          <p:cNvPr id="260" name="Line 12"/>
          <p:cNvSpPr/>
          <p:nvPr/>
        </p:nvSpPr>
        <p:spPr>
          <a:xfrm flipV="1">
            <a:off x="7543800" y="295272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05:45:25Z</dcterms:created>
  <dc:creator>Administrator</dc:creator>
  <dc:description/>
  <dc:language>en-US</dc:language>
  <cp:lastModifiedBy>Gary Gibson</cp:lastModifiedBy>
  <dcterms:modified xsi:type="dcterms:W3CDTF">2009-08-26T09:10:32Z</dcterms:modified>
  <cp:revision>165</cp:revision>
  <dc:subject/>
  <dc:title>Slide 1</dc:title>
</cp:coreProperties>
</file>