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3941-0196-420D-9D6D-BC36C8B37B9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2E7A-902C-4961-8DAB-788AF476FCE8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C5B3-F689-4A49-942F-9FDD720A7F9D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7855-5A73-40B8-9776-5D47AF88712C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9DF9-82E3-4F6E-9A9D-620DAE42D9D1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FB9A-7E39-4552-87A6-DB8DC7BEF1DE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2781-84EE-401E-B3C1-B9765189B320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56AA-393D-44ED-BB49-773693921603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B351-E1AD-472A-968A-45C4F3B1D4C1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A2DA-AACC-482A-8FB6-F75700319AB3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4F1C-98E0-49F4-A4BD-BD2097F940B3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DD0-C55D-49D8-8805-12E40FD7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AA3-E42B-4BB1-AE1E-D4E14AC8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F44D-8BAD-4B41-8434-829C7B61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A2B-2383-4BDB-A7A4-4C51345E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7CE7-FCCD-4AE3-9D17-63713A8F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9026-07DB-467F-B50E-20B8D877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D38E-BAA8-43A3-9EEB-E0C9168D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FA7A-7E37-4138-BDC4-ED343A76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6334-8F7C-4411-92D0-BBC10FC8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6B24-E0CE-41FA-8159-08D3C969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1DAD-C49C-471E-B7DE-416602D2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D0E-DF96-48F0-8212-6DB11DB6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CA21-48C8-49A7-88CE-3BE9338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7AC7-CC15-4859-8952-9A970A17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3FDB-6064-4CDF-868F-047C52AF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0DE0-172D-4C39-8D10-D5C73401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F261-0C60-4428-B736-AA527381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468-B0BA-47F9-9E6D-FCAA2785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E90-FA35-407A-8AE3-DD65330D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013-D09B-4EEC-97D2-00804DDC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9BA-3792-4A5E-AD75-5FF7547F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531-4A46-4105-9765-2E94C8BD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F97-E5FF-4127-AB98-82CE531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ADF-FE2D-4F6D-8533-CACAA019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C220-7C09-4F1C-84E9-7CFA1F24FF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7093080" y="6381720"/>
            <a:ext cx="1728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Rectangle 74"/>
          <p:cNvSpPr/>
          <p:nvPr/>
        </p:nvSpPr>
        <p:spPr>
          <a:xfrm>
            <a:off x="7415280" y="6353280"/>
            <a:ext cx="172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cc66"/>
                </a:solidFill>
                <a:latin typeface="Arial"/>
              </a:rPr>
              <a:t>Faculty of Engineering</a:t>
            </a:r>
            <a:endParaRPr b="1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cc66"/>
                </a:solidFill>
                <a:latin typeface="Arial"/>
              </a:rPr>
              <a:t>University of Wollongong</a:t>
            </a:r>
            <a:endParaRPr b="1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Rectangle 75"/>
          <p:cNvSpPr/>
          <p:nvPr/>
        </p:nvSpPr>
        <p:spPr>
          <a:xfrm>
            <a:off x="0" y="6276960"/>
            <a:ext cx="47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9966"/>
                </a:solidFill>
                <a:latin typeface="Arial"/>
              </a:rPr>
              <a:t>Roadway Development Operators’ Workshops</a:t>
            </a:r>
            <a:endParaRPr b="1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9966"/>
                </a:solidFill>
                <a:latin typeface="Arial"/>
              </a:rPr>
              <a:t>September 2009</a:t>
            </a:r>
            <a:endParaRPr b="1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0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2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3DB3-EF10-4DAC-9D61-A3FF7FE0ACD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0" y="119160"/>
            <a:ext cx="91440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ACARP PROJECT C17004 UPDATE: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5b2ff"/>
                </a:solidFill>
                <a:latin typeface="Arial"/>
              </a:rPr>
              <a:t>TOUGH SKIN – A SPRAY-ON POLYMERIC REPLACEMENT FOR ROOF &amp; RIB MESH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cc00"/>
                </a:solidFill>
                <a:latin typeface="Arial"/>
              </a:rPr>
              <a:t>Chris Lukey, Ernest Baafi, Jan Nemcik, Ian Porter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School of Civil, Mining &amp; Environmental Engineering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</a:rPr>
              <a:t>Faculty of Engineering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eaeaea"/>
                </a:solidFill>
                <a:latin typeface="Arial"/>
              </a:rPr>
              <a:t>University of Wollongong</a:t>
            </a:r>
            <a:endParaRPr b="1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66"/>
                </a:solidFill>
                <a:latin typeface="Arial"/>
              </a:rPr>
              <a:t>Roadway Development Operators’ Workshops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66"/>
                </a:solidFill>
                <a:latin typeface="Arial"/>
              </a:rPr>
              <a:t>August/September 2009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3"/>
          <p:cNvSpPr/>
          <p:nvPr/>
        </p:nvSpPr>
        <p:spPr>
          <a:xfrm>
            <a:off x="3601440" y="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Future Work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041840" y="534960"/>
            <a:ext cx="70585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eaeaea"/>
                </a:solidFill>
                <a:uFillTx/>
                <a:latin typeface="Arial"/>
              </a:rPr>
              <a:t>Accelerated performance tests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Measure effect on mechanical properties of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water at ambient temperatur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water at elevated temperatur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water at different pH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elevated temperatur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eaeaea"/>
                </a:solidFill>
                <a:uFillTx/>
                <a:latin typeface="Arial"/>
              </a:rPr>
              <a:t>Intercoat adhesion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Does fresh material stick to already-cured material?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encouraging early result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eaeaea"/>
                </a:solidFill>
                <a:uFillTx/>
                <a:latin typeface="Arial"/>
              </a:rPr>
              <a:t>Effect of “Tough Skin” on downstream processing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student project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encouraging early result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 u="sng">
                <a:solidFill>
                  <a:srgbClr val="eaeaea"/>
                </a:solidFill>
                <a:uFillTx/>
                <a:latin typeface="Arial"/>
              </a:rPr>
              <a:t>Study of alternative flame retardants &amp; anti-stats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200" spc="-1" strike="noStrike">
                <a:solidFill>
                  <a:srgbClr val="eaeaea"/>
                </a:solidFill>
                <a:latin typeface="Arial"/>
              </a:rPr>
              <a:t>-  testing at MSTC (Hunter Valley)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709440" y="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00040" y="571680"/>
            <a:ext cx="814392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eaeaea"/>
                </a:solidFill>
                <a:uFillTx/>
                <a:latin typeface="Arial"/>
              </a:rPr>
              <a:t>To develop an alternative to steel mesh that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Provides an effective skin confinement measure equivalent or superior to that of steel mesh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Requires minimal human intervention in its installation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Removes personnel from the immediate face area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Enables higher underground roadway development rates to be achieved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Is safe to us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Is cost effectiv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The focus of our work is the development of a </a:t>
            </a:r>
            <a:r>
              <a:rPr b="1" lang="en-AU" sz="2000" spc="-1" strike="noStrike" u="sng">
                <a:solidFill>
                  <a:srgbClr val="ffcc00"/>
                </a:solidFill>
                <a:uFillTx/>
                <a:latin typeface="Arial"/>
              </a:rPr>
              <a:t>polymer-based </a:t>
            </a:r>
            <a:r>
              <a:rPr b="1" lang="en-AU" sz="2000" spc="-1" strike="noStrike">
                <a:solidFill>
                  <a:srgbClr val="ffcc00"/>
                </a:solidFill>
                <a:latin typeface="Arial"/>
              </a:rPr>
              <a:t>alternative that can be </a:t>
            </a:r>
            <a:r>
              <a:rPr b="1" lang="en-AU" sz="2000" spc="-1" strike="noStrike" u="sng">
                <a:solidFill>
                  <a:srgbClr val="ffcc00"/>
                </a:solidFill>
                <a:uFillTx/>
                <a:latin typeface="Arial"/>
              </a:rPr>
              <a:t>spray-applied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2514600" y="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Progress Since March 2009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98600" y="836640"/>
            <a:ext cx="8226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Shelf Life issues resolved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Surface temperature measurement during cure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Comparison of reinforcemen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- short and long glass fibre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- short carbon fibre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Study of alternative flame retardan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- progress but limited succes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Wind tunnel second experimen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Handling of reinforcement during spray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Commenced accelerated performance tes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Commenced study of intercoat adhes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eaeaea"/>
                </a:solidFill>
                <a:latin typeface="Arial"/>
              </a:rPr>
              <a:t>Commenced study of effect on downstream processing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1863360" y="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Surface Temperature Measuremen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8" name="Object 5"/>
          <p:cNvGraphicFramePr/>
          <p:nvPr/>
        </p:nvGraphicFramePr>
        <p:xfrm>
          <a:off x="712800" y="1587600"/>
          <a:ext cx="7716960" cy="36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1587600"/>
                    <a:ext cx="771696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1229760" y="0"/>
            <a:ext cx="67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Flexure Test Comparis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of Long and Short Glass Fibre Reinforcement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1011240" y="1152360"/>
          <a:ext cx="712008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1152360"/>
                    <a:ext cx="71200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-78120" y="620640"/>
            <a:ext cx="9300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Two types of tests in two different-sized wind tunnels: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Static tests (small and large tunnel)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buClr>
                <a:srgbClr val="eaeae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Spray tests (large tunnel only)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Conducted with minimum permissible air velocity (0.5m/s) to simulat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worst-case mine ventilation scenario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Surface temperature monitored during cur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Air samples collected upstream and downstream in large tunnel: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*  During spray/cur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*  Immediately after spray/cure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*  After one further hour whilst maintaining ventilation in the tunn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eaeaea"/>
                </a:solidFill>
                <a:latin typeface="Arial"/>
              </a:rPr>
              <a:t>No reinforcement included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123720" y="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Wind Tunnel Tes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IMG_1534"/>
          <p:cNvPicPr/>
          <p:nvPr/>
        </p:nvPicPr>
        <p:blipFill>
          <a:blip r:embed="rId1"/>
          <a:stretch/>
        </p:blipFill>
        <p:spPr>
          <a:xfrm>
            <a:off x="1224000" y="836640"/>
            <a:ext cx="6696000" cy="5022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621080" y="14842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8f8f8"/>
                </a:solidFill>
                <a:latin typeface="Arial"/>
              </a:rPr>
              <a:t>Fa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860720" y="11970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8f8f8"/>
                </a:solidFill>
                <a:latin typeface="Arial"/>
              </a:rPr>
              <a:t>Air “Straightener”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 flipH="1">
            <a:off x="1476000" y="1916280"/>
            <a:ext cx="647640" cy="1512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6156360" y="1628640"/>
            <a:ext cx="1655640" cy="1800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2205000" y="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Large Wind Tunnel Redesigned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Line 12"/>
          <p:cNvSpPr/>
          <p:nvPr/>
        </p:nvSpPr>
        <p:spPr>
          <a:xfrm flipH="1" flipV="1">
            <a:off x="3634920" y="4220640"/>
            <a:ext cx="2089080" cy="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3615840" y="431172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Flow Direc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4"/>
          <p:cNvGraphicFramePr/>
          <p:nvPr/>
        </p:nvGraphicFramePr>
        <p:xfrm>
          <a:off x="466560" y="804960"/>
          <a:ext cx="820908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804960"/>
                    <a:ext cx="820908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5"/>
          <p:cNvSpPr/>
          <p:nvPr/>
        </p:nvSpPr>
        <p:spPr>
          <a:xfrm>
            <a:off x="1332000" y="1484280"/>
            <a:ext cx="1511280" cy="4033800"/>
          </a:xfrm>
          <a:prstGeom prst="rect">
            <a:avLst/>
          </a:prstGeom>
          <a:gradFill rotWithShape="0">
            <a:gsLst>
              <a:gs pos="0">
                <a:srgbClr val="ccecff">
                  <a:alpha val="54117"/>
                </a:srgbClr>
              </a:gs>
              <a:gs pos="100000">
                <a:srgbClr val="5e6d76">
                  <a:alpha val="54117"/>
                </a:srgbClr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989440" y="417348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Spray Dura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 flipH="1" flipV="1">
            <a:off x="2550960" y="4292280"/>
            <a:ext cx="43200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711240" y="359712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Ambient Temperature 16.5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  <a:ea typeface="Arial"/>
              </a:rPr>
              <a:t>°C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1258920" y="3500280"/>
            <a:ext cx="7058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3371760" y="3497040"/>
            <a:ext cx="408240" cy="363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980720" y="0"/>
            <a:ext cx="52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Surface Temperature During Spray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1974600" y="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Conceptual Design of Feed System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cc00"/>
                </a:solidFill>
                <a:latin typeface="Arial"/>
              </a:rPr>
              <a:t>for Spraying of Reinforcement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1371600" y="1733400"/>
          <a:ext cx="59641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33400"/>
                    <a:ext cx="59641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Picture 7" descr="RotaryValve1"/>
          <p:cNvPicPr/>
          <p:nvPr/>
        </p:nvPicPr>
        <p:blipFill>
          <a:blip r:embed="rId3"/>
          <a:stretch/>
        </p:blipFill>
        <p:spPr>
          <a:xfrm>
            <a:off x="152280" y="3790800"/>
            <a:ext cx="2214720" cy="2352960"/>
          </a:xfrm>
          <a:prstGeom prst="rect">
            <a:avLst/>
          </a:prstGeom>
          <a:ln w="0">
            <a:noFill/>
          </a:ln>
        </p:spPr>
      </p:pic>
      <p:sp>
        <p:nvSpPr>
          <p:cNvPr id="256" name="Line 8"/>
          <p:cNvSpPr/>
          <p:nvPr/>
        </p:nvSpPr>
        <p:spPr>
          <a:xfrm flipV="1">
            <a:off x="1828800" y="3638520"/>
            <a:ext cx="1219320" cy="53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9" descr="AirPump1"/>
          <p:cNvPicPr/>
          <p:nvPr/>
        </p:nvPicPr>
        <p:blipFill>
          <a:blip r:embed="rId4"/>
          <a:stretch/>
        </p:blipFill>
        <p:spPr>
          <a:xfrm>
            <a:off x="7162920" y="3562200"/>
            <a:ext cx="1725480" cy="1733760"/>
          </a:xfrm>
          <a:prstGeom prst="rect">
            <a:avLst/>
          </a:prstGeom>
          <a:ln w="0">
            <a:noFill/>
          </a:ln>
        </p:spPr>
      </p:pic>
      <p:sp>
        <p:nvSpPr>
          <p:cNvPr id="258" name="Line 10"/>
          <p:cNvSpPr/>
          <p:nvPr/>
        </p:nvSpPr>
        <p:spPr>
          <a:xfrm flipV="1">
            <a:off x="5715000" y="3180960"/>
            <a:ext cx="1828800" cy="1219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Picture 11" descr="AirPump2"/>
          <p:cNvPicPr/>
          <p:nvPr/>
        </p:nvPicPr>
        <p:blipFill>
          <a:blip r:embed="rId5"/>
          <a:stretch/>
        </p:blipFill>
        <p:spPr>
          <a:xfrm>
            <a:off x="5638680" y="1363680"/>
            <a:ext cx="3276720" cy="1514520"/>
          </a:xfrm>
          <a:prstGeom prst="rect">
            <a:avLst/>
          </a:prstGeom>
          <a:ln w="0">
            <a:noFill/>
          </a:ln>
        </p:spPr>
      </p:pic>
      <p:sp>
        <p:nvSpPr>
          <p:cNvPr id="260" name="Line 12"/>
          <p:cNvSpPr/>
          <p:nvPr/>
        </p:nvSpPr>
        <p:spPr>
          <a:xfrm flipV="1">
            <a:off x="7543800" y="295272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05:45:25Z</dcterms:created>
  <dc:creator>Administrator</dc:creator>
  <dc:description/>
  <dc:language>en-US</dc:language>
  <cp:lastModifiedBy>Gary Gibson</cp:lastModifiedBy>
  <dcterms:modified xsi:type="dcterms:W3CDTF">2009-08-26T09:10:32Z</dcterms:modified>
  <cp:revision>165</cp:revision>
  <dc:subject/>
  <dc:title>Slide 1</dc:title>
</cp:coreProperties>
</file>