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670675" cy="9928225"/>
</p:presentation>
</file>

<file path=ppt/commentAuthors.xml><?xml version="1.0" encoding="utf-8"?>
<p:cmAuthorLst xmlns:p="http://schemas.openxmlformats.org/presentationml/2006/main">
  <p:cmAuthor id="0" name="rei141" initials="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06-06-06T12:38:15.122000000" idx="1">
    <p:pos x="10" y="10"/>
    <p:text>adfdjljdflahdslfahsljsd
asd
fas
dfa
ds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E327-4109-493F-A1AD-03AB2D93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57B-9461-47C4-921E-21C3D9F1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63A-2610-4664-A920-A2F3EFB8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FFA5-F7D7-46E2-A9FB-0C9AAF2F5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31960" y="763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9640" y="4730400"/>
            <a:ext cx="4869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A88-FCEA-4CF0-85BC-3488B267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7DDE-20E9-4F23-BFCA-7EBDFF33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381-3CE9-49FF-B08B-0FD732D1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C60-D8AD-4EA0-91D8-FACED6EA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E51A-0ED3-41DA-8675-41DCF4A1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9272-B98D-4CC8-BF9D-FA660B00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7279-902F-4530-A6C4-F1FB723E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5CCD-84F6-41DF-994B-BB5DCED9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338-7707-456C-9C35-36FEA8D9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5DC-DBB7-4CE7-92CB-B1C634C5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E13-FC6A-4CEB-A88A-F318FCCF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C62-7FAA-4B3E-87E7-40F50060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303-06EB-4B01-9C53-A9E619EE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0F2-4177-4F72-8B0A-01344357C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31960" y="763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99640" y="4730400"/>
            <a:ext cx="4869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030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8596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9240" y="4244400"/>
            <a:ext cx="23644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03040" y="-360"/>
            <a:ext cx="734364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66120" y="42444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040" y="4244400"/>
            <a:ext cx="73436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0"/>
            <a:ext cx="9150480" cy="6856560"/>
            <a:chOff x="-6480" y="0"/>
            <a:chExt cx="915048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-6480" y="0"/>
              <a:ext cx="1357200" cy="3789360"/>
              <a:chOff x="-6480" y="0"/>
              <a:chExt cx="1357200" cy="378936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19080" y="0"/>
                <a:ext cx="1331640" cy="3789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-6480" y="0"/>
                <a:ext cx="611280" cy="37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Line 5"/>
            <p:cNvSpPr/>
            <p:nvPr/>
          </p:nvSpPr>
          <p:spPr>
            <a:xfrm>
              <a:off x="857160" y="5411880"/>
              <a:ext cx="828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6" descr=""/>
            <p:cNvPicPr/>
            <p:nvPr/>
          </p:nvPicPr>
          <p:blipFill>
            <a:blip r:embed="rId2"/>
            <a:stretch/>
          </p:blipFill>
          <p:spPr>
            <a:xfrm>
              <a:off x="8013600" y="5832360"/>
              <a:ext cx="6667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7" descr=""/>
            <p:cNvPicPr/>
            <p:nvPr/>
          </p:nvPicPr>
          <p:blipFill>
            <a:blip r:embed="rId3"/>
            <a:srcRect l="0" t="8669" r="138" b="0"/>
            <a:stretch/>
          </p:blipFill>
          <p:spPr>
            <a:xfrm>
              <a:off x="-5040" y="3787920"/>
              <a:ext cx="9149040" cy="16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Line 8"/>
            <p:cNvSpPr/>
            <p:nvPr/>
          </p:nvSpPr>
          <p:spPr>
            <a:xfrm>
              <a:off x="0" y="5138640"/>
              <a:ext cx="895320" cy="1800"/>
            </a:xfrm>
            <a:prstGeom prst="line">
              <a:avLst/>
            </a:prstGeom>
            <a:ln w="25560">
              <a:solidFill>
                <a:srgbClr val="be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9"/>
            <p:cNvGrpSpPr/>
            <p:nvPr/>
          </p:nvGrpSpPr>
          <p:grpSpPr>
            <a:xfrm>
              <a:off x="361440" y="0"/>
              <a:ext cx="984240" cy="6856560"/>
              <a:chOff x="361440" y="0"/>
              <a:chExt cx="984240" cy="6856560"/>
            </a:xfrm>
          </p:grpSpPr>
          <p:sp>
            <p:nvSpPr>
              <p:cNvPr id="9" name="Line 10"/>
              <p:cNvSpPr/>
              <p:nvPr/>
            </p:nvSpPr>
            <p:spPr>
              <a:xfrm flipH="1">
                <a:off x="74556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 flipH="1">
                <a:off x="615960" y="0"/>
                <a:ext cx="59976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 flipH="1">
                <a:off x="678960" y="1440"/>
                <a:ext cx="60012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3"/>
              <p:cNvSpPr/>
              <p:nvPr/>
            </p:nvSpPr>
            <p:spPr>
              <a:xfrm flipH="1">
                <a:off x="551880" y="1440"/>
                <a:ext cx="60012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4"/>
              <p:cNvSpPr/>
              <p:nvPr/>
            </p:nvSpPr>
            <p:spPr>
              <a:xfrm flipH="1">
                <a:off x="422280" y="1440"/>
                <a:ext cx="599760" cy="685512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5"/>
              <p:cNvSpPr/>
              <p:nvPr/>
            </p:nvSpPr>
            <p:spPr>
              <a:xfrm flipH="1">
                <a:off x="48528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6"/>
              <p:cNvSpPr/>
              <p:nvPr/>
            </p:nvSpPr>
            <p:spPr>
              <a:xfrm flipH="1">
                <a:off x="361440" y="0"/>
                <a:ext cx="600120" cy="685476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2362320"/>
            <a:ext cx="7343640" cy="27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1332000" y="5084280"/>
            <a:ext cx="3952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79000"/>
          </a:bodyPr>
          <a:p>
            <a:pPr marL="27072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1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2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3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4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5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lvl="6" marL="270720" indent="-2707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2"/>
          <a:srcRect l="0" t="11263" r="476" b="0"/>
          <a:stretch/>
        </p:blipFill>
        <p:spPr>
          <a:xfrm>
            <a:off x="0" y="0"/>
            <a:ext cx="91440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"/>
          <p:cNvGrpSpPr/>
          <p:nvPr/>
        </p:nvGrpSpPr>
        <p:grpSpPr>
          <a:xfrm>
            <a:off x="-152640" y="-4680"/>
            <a:ext cx="982080" cy="6861240"/>
            <a:chOff x="-152640" y="-4680"/>
            <a:chExt cx="982080" cy="6861240"/>
          </a:xfrm>
        </p:grpSpPr>
        <p:sp>
          <p:nvSpPr>
            <p:cNvPr id="56" name="Line 3"/>
            <p:cNvSpPr/>
            <p:nvPr/>
          </p:nvSpPr>
          <p:spPr>
            <a:xfrm flipH="1">
              <a:off x="229320" y="-468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"/>
            <p:cNvSpPr/>
            <p:nvPr/>
          </p:nvSpPr>
          <p:spPr>
            <a:xfrm flipH="1">
              <a:off x="99000" y="-468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162720" y="-3240"/>
              <a:ext cx="6001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37440" y="-324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-91800" y="-3240"/>
              <a:ext cx="59832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 flipH="1">
              <a:off x="-28800" y="-468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-152640" y="-4680"/>
              <a:ext cx="598680" cy="6859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8478720" y="6332400"/>
            <a:ext cx="324000" cy="389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55964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oadway Development Operators’ Workshop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CARP project C18023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M2010 – Continuous Miner autom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32000" y="5084280"/>
            <a:ext cx="3952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Dr David Hainsworth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Dr David C. Reid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3-6 March, 2009</a:t>
            </a:r>
            <a:endParaRPr b="1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mining guidance (inertial)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7716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Longwall guidance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 first mounted on shearer by CSIRO in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urvey confirmed a 2-3cm 3D position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ed performance (not time or distance 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commercial product – LASC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figure5"/>
          <p:cNvPicPr/>
          <p:nvPr/>
        </p:nvPicPr>
        <p:blipFill>
          <a:blip r:embed="rId1"/>
          <a:stretch/>
        </p:blipFill>
        <p:spPr>
          <a:xfrm>
            <a:off x="1476360" y="1819440"/>
            <a:ext cx="6089760" cy="4562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187280" y="69840"/>
            <a:ext cx="67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ngwall Shearer Inertial position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29040" y="128736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ield-proven in longwall mining autom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ertial position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6453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High performance requires reliable odometry – potential source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ction drive movement – too much 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anning lasers – proven technology but requires maintenance, could also provide some localisation, attitude and proximit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dar – some new emerging technologies, needs to be field-proven, could also provide additional information (including horizon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ZUP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cm_pic"/>
          <p:cNvPicPr/>
          <p:nvPr/>
        </p:nvPicPr>
        <p:blipFill>
          <a:blip r:embed="rId1"/>
          <a:stretch/>
        </p:blipFill>
        <p:spPr>
          <a:xfrm>
            <a:off x="2843280" y="3645000"/>
            <a:ext cx="3744720" cy="2644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140360" y="4581360"/>
            <a:ext cx="647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2771640" y="4868640"/>
            <a:ext cx="136872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08000" y="4797360"/>
            <a:ext cx="936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843280" y="3860640"/>
            <a:ext cx="129708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979640" y="3700440"/>
            <a:ext cx="9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438800" y="4941360"/>
            <a:ext cx="0" cy="100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851280" y="587700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chine 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4228920" y="5928480"/>
            <a:ext cx="429480" cy="429480"/>
            <a:chOff x="4228920" y="5928480"/>
            <a:chExt cx="429480" cy="429480"/>
          </a:xfrm>
        </p:grpSpPr>
        <p:sp>
          <p:nvSpPr>
            <p:cNvPr id="188" name="Line 16"/>
            <p:cNvSpPr/>
            <p:nvPr/>
          </p:nvSpPr>
          <p:spPr>
            <a:xfrm>
              <a:off x="4236480" y="5935320"/>
              <a:ext cx="420840" cy="42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 flipH="1">
              <a:off x="4228920" y="5928480"/>
              <a:ext cx="429480" cy="42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anning laser motion detection</a:t>
            </a:r>
            <a:r>
              <a:rPr b="1" lang="en-AU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26920" y="1484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Longwall laser-based creep/retreat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Automated Creep and Retreat Estimates using Dual ICP with delta pose propagation (forward)"/>
          <p:cNvPicPr/>
          <p:nvPr/>
        </p:nvPicPr>
        <p:blipFill>
          <a:blip r:embed="rId1"/>
          <a:stretch/>
        </p:blipFill>
        <p:spPr>
          <a:xfrm>
            <a:off x="1116000" y="2565360"/>
            <a:ext cx="7128000" cy="306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022200" y="558972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treat direction (chain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6084720" y="5734080"/>
            <a:ext cx="432000" cy="144360"/>
          </a:xfrm>
          <a:prstGeom prst="rightArrow">
            <a:avLst>
              <a:gd name="adj1" fmla="val 50000"/>
              <a:gd name="adj2" fmla="val 748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 rot="16200000">
            <a:off x="-645840" y="38844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ep (gateroad align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ey deliverables of present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CM automation roadmap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practical inertial navigation solution for CM guidance to provide accurate 3D position and attitude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Evaluation of localisation technology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Specifications for industry standard CM data interfaces to support CM automation, haulage, bolting, and mesh/support  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ey deliverables in future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core navigation/control for automated and intelligent CM guidance and cycle managemen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Demonstration of integrated mine-to-plan system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Field demonstration of full system under practical controlled conditions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ments fo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360" y="1413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The successful project outcome will draw on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ustry/OEM support – Vale CM and demo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-operation and co-ordination between CM2010 research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tailed CM automation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ment of high performance inertial technology and navigation algorithms optimised for CM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velopment of suitable localisation technologies and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6480" y="-3240"/>
            <a:ext cx="9144000" cy="6846840"/>
            <a:chOff x="6480" y="-3240"/>
            <a:chExt cx="9144000" cy="684684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rcRect l="0" t="12152" r="9891" b="0"/>
            <a:stretch/>
          </p:blipFill>
          <p:spPr>
            <a:xfrm>
              <a:off x="6480" y="3788280"/>
              <a:ext cx="9144000" cy="160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3"/>
            <p:cNvGrpSpPr/>
            <p:nvPr/>
          </p:nvGrpSpPr>
          <p:grpSpPr>
            <a:xfrm>
              <a:off x="368280" y="-3240"/>
              <a:ext cx="983520" cy="6846840"/>
              <a:chOff x="368280" y="-3240"/>
              <a:chExt cx="983520" cy="6846840"/>
            </a:xfrm>
          </p:grpSpPr>
          <p:sp>
            <p:nvSpPr>
              <p:cNvPr id="205" name="Line 4"/>
              <p:cNvSpPr/>
              <p:nvPr/>
            </p:nvSpPr>
            <p:spPr>
              <a:xfrm flipH="1">
                <a:off x="752400" y="-3240"/>
                <a:ext cx="59940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5"/>
              <p:cNvSpPr/>
              <p:nvPr/>
            </p:nvSpPr>
            <p:spPr>
              <a:xfrm flipH="1">
                <a:off x="62280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 flipH="1">
                <a:off x="686160" y="-1800"/>
                <a:ext cx="59904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 flipH="1">
                <a:off x="558360" y="-1800"/>
                <a:ext cx="59940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"/>
              <p:cNvSpPr/>
              <p:nvPr/>
            </p:nvSpPr>
            <p:spPr>
              <a:xfrm flipH="1">
                <a:off x="428760" y="-1800"/>
                <a:ext cx="599040" cy="684540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 flipH="1">
                <a:off x="49212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 flipH="1">
                <a:off x="368280" y="-3240"/>
                <a:ext cx="599040" cy="6845040"/>
              </a:xfrm>
              <a:prstGeom prst="line">
                <a:avLst/>
              </a:prstGeom>
              <a:ln w="126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1343160" y="5843160"/>
              <a:ext cx="633744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99cc"/>
                  </a:solidFill>
                  <a:latin typeface="Arial"/>
                  <a:ea typeface="Arial"/>
                </a:rPr>
                <a:t>Contact 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: 1300 363 400 or +61 3 9545 217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ail: enquiries@csiro.au  Web: www.csiro.a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2" descr=""/>
            <p:cNvPicPr/>
            <p:nvPr/>
          </p:nvPicPr>
          <p:blipFill>
            <a:blip r:embed="rId2"/>
            <a:stretch/>
          </p:blipFill>
          <p:spPr>
            <a:xfrm>
              <a:off x="8013960" y="5813280"/>
              <a:ext cx="666720" cy="79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27200" y="4266720"/>
            <a:ext cx="720072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1403280" y="83664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ploration ad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 David Hainsw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Principal Research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07 3327 44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avid.hainsworth@csiro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219640" y="83664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ploration ad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 David C. R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ncipal Research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07 3327 44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avid.reid@csiro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automation 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Key objectiv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elop CM navigation and localisation systems to deliver remotely supervised, self-steer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vide real-time machine position and operational info to support autonomous bolting, meshing and haulage systems.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at a g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ull project is 3 year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Present ACARP project 18 months (started Feb 09)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Builds on some of the longwall enabling technologi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CSIRO Mining Automation group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Main project stag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1: Requirements Analysis – automation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2: Navigation Sens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3: Open Communications and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uture proposed stages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4; CM Navigation and Control Sys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5: Mine-to-Plan Too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6: Field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/Shuttle Car/Cont Haulage Auto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Comparison Video Outputter_NoLaser_MPEG4.AVI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82674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23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m_pic"/>
          <p:cNvPicPr/>
          <p:nvPr/>
        </p:nvPicPr>
        <p:blipFill>
          <a:blip r:embed="rId1"/>
          <a:stretch/>
        </p:blipFill>
        <p:spPr>
          <a:xfrm>
            <a:off x="971640" y="1341360"/>
            <a:ext cx="7561080" cy="53406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 rot="728400">
            <a:off x="5702400" y="4123800"/>
            <a:ext cx="2050920" cy="486000"/>
          </a:xfrm>
          <a:prstGeom prst="rightArrow">
            <a:avLst>
              <a:gd name="adj1" fmla="val 50000"/>
              <a:gd name="adj2" fmla="val 1055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ulage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6200000">
            <a:off x="2241720" y="2284200"/>
            <a:ext cx="2050920" cy="485640"/>
          </a:xfrm>
          <a:prstGeom prst="rightArrow">
            <a:avLst>
              <a:gd name="adj1" fmla="val 50000"/>
              <a:gd name="adj2" fmla="val 10557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lting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899440" y="1197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 rot="720000">
            <a:off x="7697880" y="4479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ulage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sh-car_pic"/>
          <p:cNvPicPr/>
          <p:nvPr/>
        </p:nvPicPr>
        <p:blipFill>
          <a:blip r:embed="rId1"/>
          <a:stretch/>
        </p:blipFill>
        <p:spPr>
          <a:xfrm>
            <a:off x="1403280" y="1916280"/>
            <a:ext cx="662472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ulage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fct_pic"/>
          <p:cNvPicPr/>
          <p:nvPr/>
        </p:nvPicPr>
        <p:blipFill>
          <a:blip r:embed="rId1"/>
          <a:stretch/>
        </p:blipFill>
        <p:spPr>
          <a:xfrm>
            <a:off x="1187280" y="1628640"/>
            <a:ext cx="70567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3040" y="-360"/>
            <a:ext cx="73436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mining guidance (inertial) R&amp;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197000"/>
            <a:ext cx="7716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Continuous Miner guidance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tensive INS testing conducted by USBM in 199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quired accuracy could not be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d not produce a practical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Highwall guidance 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 first mounted on a CM (Addcar highwall) by CSIRO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system was refined over a number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urvey confirmed 8cm cross-track error at 38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error is distance (but not time)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commercial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87280" y="69840"/>
            <a:ext cx="67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M inertial position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19320" y="1287360"/>
            <a:ext cx="70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cc"/>
                </a:solidFill>
                <a:latin typeface="Arial"/>
              </a:rPr>
              <a:t>Field-proven for CM in highwall mining autom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Mk3MainScreen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ff, Elliot (ICT Centre, QCAT)</dc:creator>
  <dc:description/>
  <cp:keywords/>
  <dc:language>en-US</dc:language>
  <cp:lastModifiedBy>Gary Gibson</cp:lastModifiedBy>
  <dcterms:modified xsi:type="dcterms:W3CDTF">2009-03-05T22:33:14Z</dcterms:modified>
  <cp:revision>457</cp:revision>
  <dc:subject/>
  <dc:title>Telerobotics </dc:title>
</cp:coreProperties>
</file>