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670675" cy="9928225"/>
</p:presentation>
</file>

<file path=ppt/commentAuthors.xml><?xml version="1.0" encoding="utf-8"?>
<p:cmAuthorLst xmlns:p="http://schemas.openxmlformats.org/presentationml/2006/main">
  <p:cmAuthor id="0" name="rei141" initials="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06-06-06T12:38:15.122000000" idx="1">
    <p:pos x="10" y="10"/>
    <p:text>adfdjljdflahdslfahsljsd
asd
fas
dfa
dsf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3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B2E5-0FE0-4208-B939-B19A8BAF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C9DD-933A-41EB-8D87-8FCE2A030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AF67-7D20-4691-91E6-9A46B39DB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C424-9A6D-4ADA-AD09-0EBA764BA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31960" y="763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9640" y="4730400"/>
            <a:ext cx="4869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EACB-CFDE-476C-9A0B-BC2084FF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3CAA-5354-4DE5-8356-8E441F7D5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670-5FD5-4CEF-91F5-9D6A43D0E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D91F-53F7-4626-ABAB-CC5FFE02A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F886-18D7-4DFC-8CF5-E2A2CCF38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506A-D516-49A3-BC2A-18D008E35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809E-C775-4B72-8A9B-3B6509D0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95D7-EEB4-4355-8BBD-AF9D13D0D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E74F-90D3-418C-A0EF-19CCAD76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4F94-9403-435A-A9CD-5426CCBD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2171-16A8-43A0-8C6A-5C0AA058C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7B1F-C16E-4ED3-AAAE-ABBD95DF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B72C-4747-4BFE-BAAC-561D7CEE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6BDD-B313-44E7-8A08-FE57622A0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31960" y="763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99640" y="4730400"/>
            <a:ext cx="4869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8596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692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030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8596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692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03040" y="-360"/>
            <a:ext cx="734364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8596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692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030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8596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692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03040" y="-360"/>
            <a:ext cx="734364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8596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92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030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8596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92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03040" y="-360"/>
            <a:ext cx="734364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0"/>
            <a:ext cx="9150480" cy="6856560"/>
            <a:chOff x="-6480" y="0"/>
            <a:chExt cx="915048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-6480" y="0"/>
              <a:ext cx="1357200" cy="3789360"/>
              <a:chOff x="-6480" y="0"/>
              <a:chExt cx="1357200" cy="3789360"/>
            </a:xfrm>
          </p:grpSpPr>
          <p:sp>
            <p:nvSpPr>
              <p:cNvPr id="2" name="AutoShape 3"/>
              <p:cNvSpPr/>
              <p:nvPr/>
            </p:nvSpPr>
            <p:spPr>
              <a:xfrm>
                <a:off x="19080" y="0"/>
                <a:ext cx="1331640" cy="3789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-6480" y="0"/>
                <a:ext cx="611280" cy="378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Line 5"/>
            <p:cNvSpPr/>
            <p:nvPr/>
          </p:nvSpPr>
          <p:spPr>
            <a:xfrm>
              <a:off x="857160" y="5411880"/>
              <a:ext cx="828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6" descr=""/>
            <p:cNvPicPr/>
            <p:nvPr/>
          </p:nvPicPr>
          <p:blipFill>
            <a:blip r:embed="rId2"/>
            <a:stretch/>
          </p:blipFill>
          <p:spPr>
            <a:xfrm>
              <a:off x="8013600" y="5832360"/>
              <a:ext cx="6667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7" descr=""/>
            <p:cNvPicPr/>
            <p:nvPr/>
          </p:nvPicPr>
          <p:blipFill>
            <a:blip r:embed="rId3"/>
            <a:srcRect l="0" t="8669" r="138" b="0"/>
            <a:stretch/>
          </p:blipFill>
          <p:spPr>
            <a:xfrm>
              <a:off x="-5040" y="3787920"/>
              <a:ext cx="9149040" cy="16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Line 8"/>
            <p:cNvSpPr/>
            <p:nvPr/>
          </p:nvSpPr>
          <p:spPr>
            <a:xfrm>
              <a:off x="0" y="5138640"/>
              <a:ext cx="895320" cy="1800"/>
            </a:xfrm>
            <a:prstGeom prst="line">
              <a:avLst/>
            </a:prstGeom>
            <a:ln w="25560">
              <a:solidFill>
                <a:srgbClr val="bed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9"/>
            <p:cNvGrpSpPr/>
            <p:nvPr/>
          </p:nvGrpSpPr>
          <p:grpSpPr>
            <a:xfrm>
              <a:off x="361440" y="0"/>
              <a:ext cx="984240" cy="6856560"/>
              <a:chOff x="361440" y="0"/>
              <a:chExt cx="984240" cy="6856560"/>
            </a:xfrm>
          </p:grpSpPr>
          <p:sp>
            <p:nvSpPr>
              <p:cNvPr id="9" name="Line 10"/>
              <p:cNvSpPr/>
              <p:nvPr/>
            </p:nvSpPr>
            <p:spPr>
              <a:xfrm flipH="1">
                <a:off x="745560" y="0"/>
                <a:ext cx="600120" cy="685476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 flipH="1">
                <a:off x="615960" y="0"/>
                <a:ext cx="599760" cy="685476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 flipH="1">
                <a:off x="678960" y="1440"/>
                <a:ext cx="600120" cy="685512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3"/>
              <p:cNvSpPr/>
              <p:nvPr/>
            </p:nvSpPr>
            <p:spPr>
              <a:xfrm flipH="1">
                <a:off x="551880" y="1440"/>
                <a:ext cx="600120" cy="685512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4"/>
              <p:cNvSpPr/>
              <p:nvPr/>
            </p:nvSpPr>
            <p:spPr>
              <a:xfrm flipH="1">
                <a:off x="422280" y="1440"/>
                <a:ext cx="599760" cy="685512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5"/>
              <p:cNvSpPr/>
              <p:nvPr/>
            </p:nvSpPr>
            <p:spPr>
              <a:xfrm flipH="1">
                <a:off x="485280" y="0"/>
                <a:ext cx="600120" cy="685476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6"/>
              <p:cNvSpPr/>
              <p:nvPr/>
            </p:nvSpPr>
            <p:spPr>
              <a:xfrm flipH="1">
                <a:off x="361440" y="0"/>
                <a:ext cx="600120" cy="685476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2362320"/>
            <a:ext cx="7343640" cy="27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1332000" y="5084280"/>
            <a:ext cx="3952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79000"/>
          </a:bodyPr>
          <a:p>
            <a:pPr marL="27072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1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2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3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4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5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6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2"/>
          <a:srcRect l="0" t="11263" r="476" b="0"/>
          <a:stretch/>
        </p:blipFill>
        <p:spPr>
          <a:xfrm>
            <a:off x="0" y="0"/>
            <a:ext cx="9144000" cy="114948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"/>
          <p:cNvGrpSpPr/>
          <p:nvPr/>
        </p:nvGrpSpPr>
        <p:grpSpPr>
          <a:xfrm>
            <a:off x="-152640" y="-4680"/>
            <a:ext cx="982080" cy="6861240"/>
            <a:chOff x="-152640" y="-4680"/>
            <a:chExt cx="982080" cy="6861240"/>
          </a:xfrm>
        </p:grpSpPr>
        <p:sp>
          <p:nvSpPr>
            <p:cNvPr id="56" name="Line 3"/>
            <p:cNvSpPr/>
            <p:nvPr/>
          </p:nvSpPr>
          <p:spPr>
            <a:xfrm flipH="1">
              <a:off x="229320" y="-4680"/>
              <a:ext cx="60012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"/>
            <p:cNvSpPr/>
            <p:nvPr/>
          </p:nvSpPr>
          <p:spPr>
            <a:xfrm flipH="1">
              <a:off x="99000" y="-4680"/>
              <a:ext cx="60012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162720" y="-3240"/>
              <a:ext cx="60012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37440" y="-3240"/>
              <a:ext cx="59868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H="1">
              <a:off x="-91800" y="-3240"/>
              <a:ext cx="59832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 flipH="1">
              <a:off x="-28800" y="-4680"/>
              <a:ext cx="59868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-152640" y="-4680"/>
              <a:ext cx="59868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0" descr=""/>
          <p:cNvPicPr/>
          <p:nvPr/>
        </p:nvPicPr>
        <p:blipFill>
          <a:blip r:embed="rId3"/>
          <a:stretch/>
        </p:blipFill>
        <p:spPr>
          <a:xfrm>
            <a:off x="8478720" y="6332400"/>
            <a:ext cx="324000" cy="389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893880" indent="-176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574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893880" indent="-176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574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2420640"/>
            <a:ext cx="755964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Roadway Development Operators’ Workshop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CARP project C18023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M2010 – Continuous Miner autom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32000" y="5084280"/>
            <a:ext cx="3952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Dr David Hainsworth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Dr David C. Reid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99cc"/>
                </a:solidFill>
                <a:latin typeface="Arial"/>
              </a:rPr>
              <a:t>3-6 March, 2009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mining guidance (inertial) R&amp;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920" y="1197000"/>
            <a:ext cx="7716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Longwall guidance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S first mounted on shearer by CSIRO in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urvey confirmed a 2-3cm 3D position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ed performance (not time or distance depen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a commercial product – LASC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93356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figure5"/>
          <p:cNvPicPr/>
          <p:nvPr/>
        </p:nvPicPr>
        <p:blipFill>
          <a:blip r:embed="rId1"/>
          <a:stretch/>
        </p:blipFill>
        <p:spPr>
          <a:xfrm>
            <a:off x="1476360" y="1819440"/>
            <a:ext cx="6089760" cy="4562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1187280" y="69840"/>
            <a:ext cx="67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ngwall Shearer Inertial position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229040" y="128736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Field-proven in longwall mining automatio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ertial position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6453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High performance requires reliable odometry – potential sources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ction drive movement – too much 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canning lasers – proven technology but requires maintenance, could also provide some localisation, attitude and proximit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adar – some new emerging technologies, needs to be field-proven, could also provide additional information (including horizon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ZUP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cm_pic"/>
          <p:cNvPicPr/>
          <p:nvPr/>
        </p:nvPicPr>
        <p:blipFill>
          <a:blip r:embed="rId1"/>
          <a:stretch/>
        </p:blipFill>
        <p:spPr>
          <a:xfrm>
            <a:off x="2843280" y="3645000"/>
            <a:ext cx="3744720" cy="26445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4140360" y="4581360"/>
            <a:ext cx="647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2771640" y="4868640"/>
            <a:ext cx="136872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08000" y="4797360"/>
            <a:ext cx="936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2843280" y="3860640"/>
            <a:ext cx="129708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979640" y="3700440"/>
            <a:ext cx="93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438800" y="4941360"/>
            <a:ext cx="0" cy="100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851280" y="587700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chine 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4228920" y="5928480"/>
            <a:ext cx="429480" cy="429480"/>
            <a:chOff x="4228920" y="5928480"/>
            <a:chExt cx="429480" cy="429480"/>
          </a:xfrm>
        </p:grpSpPr>
        <p:sp>
          <p:nvSpPr>
            <p:cNvPr id="188" name="Line 16"/>
            <p:cNvSpPr/>
            <p:nvPr/>
          </p:nvSpPr>
          <p:spPr>
            <a:xfrm>
              <a:off x="4236480" y="5935320"/>
              <a:ext cx="420840" cy="42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 flipH="1">
              <a:off x="4228920" y="5928480"/>
              <a:ext cx="429480" cy="42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anning laser motion detection</a:t>
            </a:r>
            <a:r>
              <a:rPr b="1" lang="en-AU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26920" y="1484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Longwall laser-based creep/retreat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Automated Creep and Retreat Estimates using Dual ICP with delta pose propagation (forward)"/>
          <p:cNvPicPr/>
          <p:nvPr/>
        </p:nvPicPr>
        <p:blipFill>
          <a:blip r:embed="rId1"/>
          <a:stretch/>
        </p:blipFill>
        <p:spPr>
          <a:xfrm>
            <a:off x="1116000" y="2565360"/>
            <a:ext cx="7128000" cy="3067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022200" y="558972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treat direction (chain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6084720" y="5734080"/>
            <a:ext cx="432000" cy="144360"/>
          </a:xfrm>
          <a:prstGeom prst="rightArrow">
            <a:avLst>
              <a:gd name="adj1" fmla="val 50000"/>
              <a:gd name="adj2" fmla="val 748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 rot="16200000">
            <a:off x="-645840" y="388440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ep (gateroad align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ey deliverables of present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CM automation roadmap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Demonstration of practical inertial navigation solution for CM guidance to provide accurate 3D position and attitude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Evaluation of localisation technology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Specifications for industry standard CM data interfaces to support CM automation, haulage, bolting, and mesh/support   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ey deliverables in futur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Demonstration of core navigation/control for automated and intelligent CM guidance and cycle managemen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Demonstration of integrated mine-to-plan system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Field demonstration of full system under practical controlled conditions 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quirements for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360" y="1413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The successful project outcome will draw on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dustry/OEM support – Vale CM and demo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-operation and co-ordination between CM2010 research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tailed CM automation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velopment of high performance inertial technology and navigation algorithms optimised for CM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velopment of suitable localisation technologies and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"/>
          <p:cNvGrpSpPr/>
          <p:nvPr/>
        </p:nvGrpSpPr>
        <p:grpSpPr>
          <a:xfrm>
            <a:off x="6480" y="-3240"/>
            <a:ext cx="9144000" cy="6846840"/>
            <a:chOff x="6480" y="-3240"/>
            <a:chExt cx="9144000" cy="6846840"/>
          </a:xfrm>
        </p:grpSpPr>
        <p:pic>
          <p:nvPicPr>
            <p:cNvPr id="203" name="Picture 2" descr=""/>
            <p:cNvPicPr/>
            <p:nvPr/>
          </p:nvPicPr>
          <p:blipFill>
            <a:blip r:embed="rId1"/>
            <a:srcRect l="0" t="12152" r="9891" b="0"/>
            <a:stretch/>
          </p:blipFill>
          <p:spPr>
            <a:xfrm>
              <a:off x="6480" y="3788280"/>
              <a:ext cx="9144000" cy="160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Group 3"/>
            <p:cNvGrpSpPr/>
            <p:nvPr/>
          </p:nvGrpSpPr>
          <p:grpSpPr>
            <a:xfrm>
              <a:off x="368280" y="-3240"/>
              <a:ext cx="983520" cy="6846840"/>
              <a:chOff x="368280" y="-3240"/>
              <a:chExt cx="983520" cy="6846840"/>
            </a:xfrm>
          </p:grpSpPr>
          <p:sp>
            <p:nvSpPr>
              <p:cNvPr id="205" name="Line 4"/>
              <p:cNvSpPr/>
              <p:nvPr/>
            </p:nvSpPr>
            <p:spPr>
              <a:xfrm flipH="1">
                <a:off x="752400" y="-3240"/>
                <a:ext cx="599400" cy="684504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5"/>
              <p:cNvSpPr/>
              <p:nvPr/>
            </p:nvSpPr>
            <p:spPr>
              <a:xfrm flipH="1">
                <a:off x="622800" y="-3240"/>
                <a:ext cx="599040" cy="684504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"/>
              <p:cNvSpPr/>
              <p:nvPr/>
            </p:nvSpPr>
            <p:spPr>
              <a:xfrm flipH="1">
                <a:off x="686160" y="-1800"/>
                <a:ext cx="599040" cy="684540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"/>
              <p:cNvSpPr/>
              <p:nvPr/>
            </p:nvSpPr>
            <p:spPr>
              <a:xfrm flipH="1">
                <a:off x="558360" y="-1800"/>
                <a:ext cx="599400" cy="684540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8"/>
              <p:cNvSpPr/>
              <p:nvPr/>
            </p:nvSpPr>
            <p:spPr>
              <a:xfrm flipH="1">
                <a:off x="428760" y="-1800"/>
                <a:ext cx="599040" cy="684540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9"/>
              <p:cNvSpPr/>
              <p:nvPr/>
            </p:nvSpPr>
            <p:spPr>
              <a:xfrm flipH="1">
                <a:off x="492120" y="-3240"/>
                <a:ext cx="599040" cy="684504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0"/>
              <p:cNvSpPr/>
              <p:nvPr/>
            </p:nvSpPr>
            <p:spPr>
              <a:xfrm flipH="1">
                <a:off x="368280" y="-3240"/>
                <a:ext cx="599040" cy="684504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Rectangle 11"/>
            <p:cNvSpPr/>
            <p:nvPr/>
          </p:nvSpPr>
          <p:spPr>
            <a:xfrm>
              <a:off x="1343160" y="5843160"/>
              <a:ext cx="6337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99cc"/>
                  </a:solidFill>
                  <a:latin typeface="Arial"/>
                  <a:ea typeface="Arial"/>
                </a:rPr>
                <a:t>Contact 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one: 1300 363 400 or +61 3 9545 217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ail: enquiries@csiro.au  Web: www.csiro.a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12" descr=""/>
            <p:cNvPicPr/>
            <p:nvPr/>
          </p:nvPicPr>
          <p:blipFill>
            <a:blip r:embed="rId2"/>
            <a:stretch/>
          </p:blipFill>
          <p:spPr>
            <a:xfrm>
              <a:off x="8013960" y="5813280"/>
              <a:ext cx="666720" cy="79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27200" y="4266720"/>
            <a:ext cx="720072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1403280" y="836640"/>
            <a:ext cx="34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Exploration ad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r David Hainsw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Principal Research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: 07 3327 44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david.hainsworth@csiro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219640" y="83664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Exploration ad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r David C. R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incipal Research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: 07 3327 44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david.reid@csiro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 automation 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Key objectiv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elop CM navigation and localisation systems to deliver remotely supervised, self-steer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vide real-time machine position and operational info to support autonomous bolting, meshing and haulage systems.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at a g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Full project is 3 year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Present ACARP project 18 months (started Feb 09)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Builds on some of the longwall enabling technologi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CSIRO Mining Automation group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Main project stag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1: Requirements Analysis – automation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2: Navigation Sens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3: Open Communications and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Future proposed stag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4; CM Navigation and Control Syste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5: Mine-to-Plan Too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6: Field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M/Shuttle Car/Cont Haulage Auto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Comparison Video Outputter_NoLaser_MPEG4.AVI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826740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234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M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cm_pic"/>
          <p:cNvPicPr/>
          <p:nvPr/>
        </p:nvPicPr>
        <p:blipFill>
          <a:blip r:embed="rId1"/>
          <a:stretch/>
        </p:blipFill>
        <p:spPr>
          <a:xfrm>
            <a:off x="971640" y="1341360"/>
            <a:ext cx="7561080" cy="53406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 rot="728400">
            <a:off x="5702400" y="4123800"/>
            <a:ext cx="2050920" cy="486000"/>
          </a:xfrm>
          <a:prstGeom prst="rightArrow">
            <a:avLst>
              <a:gd name="adj1" fmla="val 50000"/>
              <a:gd name="adj2" fmla="val 1055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ulage auto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 rot="16200000">
            <a:off x="2241720" y="2284200"/>
            <a:ext cx="2050920" cy="485640"/>
          </a:xfrm>
          <a:prstGeom prst="rightArrow">
            <a:avLst>
              <a:gd name="adj1" fmla="val 50000"/>
              <a:gd name="adj2" fmla="val 105578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lting auto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899440" y="1197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cc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 rot="720000">
            <a:off x="7697880" y="44798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cc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ulage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sh-car_pic"/>
          <p:cNvPicPr/>
          <p:nvPr/>
        </p:nvPicPr>
        <p:blipFill>
          <a:blip r:embed="rId1"/>
          <a:stretch/>
        </p:blipFill>
        <p:spPr>
          <a:xfrm>
            <a:off x="1403280" y="1916280"/>
            <a:ext cx="6624720" cy="46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ulage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fct_pic"/>
          <p:cNvPicPr/>
          <p:nvPr/>
        </p:nvPicPr>
        <p:blipFill>
          <a:blip r:embed="rId1"/>
          <a:stretch/>
        </p:blipFill>
        <p:spPr>
          <a:xfrm>
            <a:off x="1187280" y="1628640"/>
            <a:ext cx="705672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mining guidance (inertial) R&amp;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920" y="1197000"/>
            <a:ext cx="7716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Continuous Miner guidance 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tensive INS testing conducted by USBM in 199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quired accuracy could not be 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d not produce a practical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Highwall guidance 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 first mounted on a CM (Addcar highwall) by CSIRO i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system was refined over a number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urvey confirmed 8cm cross-track error at 384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error is distance (but not time)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a commercial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3356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87280" y="69840"/>
            <a:ext cx="67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M inertial position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219320" y="1287360"/>
            <a:ext cx="70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Field-proven for CM in highwall mining automatio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Mk3MainScreen"/>
          <p:cNvPicPr/>
          <p:nvPr/>
        </p:nvPicPr>
        <p:blipFill>
          <a:blip r:embed="rId1"/>
          <a:stretch/>
        </p:blipFill>
        <p:spPr>
          <a:xfrm>
            <a:off x="1619280" y="1844640"/>
            <a:ext cx="61927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ff, Elliot (ICT Centre, QCAT)</dc:creator>
  <dc:description/>
  <cp:keywords/>
  <dc:language>en-US</dc:language>
  <cp:lastModifiedBy>Gary Gibson</cp:lastModifiedBy>
  <dcterms:modified xsi:type="dcterms:W3CDTF">2009-03-05T22:33:14Z</dcterms:modified>
  <cp:revision>457</cp:revision>
  <dc:subject/>
  <dc:title>Telerobotics </dc:title>
</cp:coreProperties>
</file>