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65938" cy="970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0C1-3A19-4F9F-97D6-B70E589F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A26-1BFB-4AFA-8606-260B434B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7C6-B293-49DD-A621-279E299A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2A2-ECB3-4193-8F5F-D598400B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A9C-4AF7-42CE-BBA2-DAD9682A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22B-95AA-4673-8E84-5160D9FB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288-EE8F-4C3A-B924-0D83589C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9D7-FF92-4E03-BC6D-7DFBF7B0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5FC-D8D9-4B91-A510-38C21EF1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1E0-F42A-4229-B43C-BA9FC638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B1A-3639-4F21-904E-A0E9D554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3DC-91E1-4232-9385-23F0AAC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9394-B9A8-4CAD-853C-820165410FC8}" type="slidenum">
              <a:rPr b="0" lang="en-US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CARP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2276640"/>
            <a:ext cx="868680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ustralian Roadway Development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mprovement Projec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rategy Workshop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ril 200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1268280"/>
            <a:ext cx="5538600" cy="4082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89720" y="129528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stralian Coal Association Research Program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050560" y="1268280"/>
            <a:ext cx="79236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765000"/>
            <a:ext cx="0" cy="50328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NUMBER &amp; AVAILABILITY OF BOLTING RIGS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number of bol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inue to upgrade bol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ergono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tomation/engineering solutions – eg; internal porting to remove h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dition 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quipment design for serviceability and ease of change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M design for large flat work plat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125360"/>
            <a:ext cx="8066160" cy="176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80F-0395-4BF6-8742-BD5DDDA24B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CUTTING &amp; LOADING CAPACITY OF CM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tness for purpose - cut height, rib 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pplication, specification and accoun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geological data for equipment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cro-manage engineering capabilities to achieve optimum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into machin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nnel boring machine adapted to coal min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992-E33D-4F5C-8137-4D2962AE22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FACE SUPERVISION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fine roles, authority, accountabilities and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nel development programs, with coaching and men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rgeted training and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in leadership, supervision, motivation, planning and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aging poor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cruitment and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key personnel to lead rather than superv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D9C2-D637-4C4F-98A0-7A7F219D2B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MANNING LEVELS / ABSENTEEISM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oritise work tasks and assign labour according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ptimum/maximum number in cr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ol of skilled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lf managed t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tation of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tigue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time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y of life – employ the right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03B-7A8F-4424-9902-9E3D14BDA0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OTHER ISSUES FROM RDTG</a:t>
            </a: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e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ftware for planning and process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nel adv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g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BD1-9DD3-48BF-9C50-58306AE3ED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WORKSHOP DISCUSSION OUTCOMES</a:t>
            </a: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125360"/>
            <a:ext cx="8351640" cy="53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cc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mmediate (1 year project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project management” systems for roadway development (including maintenance)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fundamentals of roadway development” handbook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process model for development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management structure, style and skills;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functional specification for “CM 2010”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cc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edium term (2-4 years) - “CM 2010 project” (similar to LW project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components can be retrofitted to current generation machines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utomated bolting system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lternate skin reinforcement and rib confinement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services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cc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Longer term (+5 years) - “continuous mining system”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624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integrated system incorporating cutting, loading, conveying, support, and logistics flowing on from CM 2010 project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EFD-5DD5-4F44-BBD1-7E2925A8E1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WHAT DID WE FORGET?</a:t>
            </a: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0A0-5B5F-4098-92DB-FD50A294A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BARRIERS TO ROADWAY DEVELOPMENT 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rriers to improved roadway development performance were ranked by participants in the March 2007 Roadway Development Worksh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ants also identified a number of potential solutions to overcome key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Roadway Development Task Group reviewed the top 10 barriers and solutions when formulating a roadway development improvement research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op 10 barriers, solutions and proposed research strategy are outlined 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s and suggestions are invited from industry regarding the proposed research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42C-D66C-4B42-8887-461326110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TOP 10 BARRIERS TO DEVELOPMENT 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ility of continuous mi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peed and ease of operation of bolting ri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lays in panel and outby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kill level of operators and tr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nning and coord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mental conditions in the immediate work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mber &amp;/or availability of on-board bolting ri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utting and loading capacity and fitness for purpose of C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ac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ning levels &amp;/or absentee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CE4-8598-4B2A-92A7-A04DD4E72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AVAILABILITY OF CONTINUOUS MINERS 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active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t for purpose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sign of machinery for improved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place ageing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to identify best practices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intenance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re resources to maintain equip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a maintenance management strategy to maximise up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94B-A8E7-4C88-8843-343F6472F8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568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EASE OF OPERATION OF ROOF BOLTERS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tomated bol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lf drilling b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ngle pass bo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ergono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engineering skill leve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513-E420-4BF4-A53B-5236348CD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DELAYS ON PANEL &amp; OUTBYE CONVEYORS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instal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dition monitoring of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housekee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belt cl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dit delay ca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pair and replace substandard belting, structure and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20F-195E-4A10-BFC0-5974512E7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5684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SKILL LEVELS OF TRADES &amp; OPERATORS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re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pprentices and mining cad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recruitment and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of training simu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reditation of skills across 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al college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954-5409-48C9-B8FC-79E4815BFA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PLANNING AND CO ORDINATION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ndardise planning systems - Ultimine type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defined accountabilities and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in planning and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igorous understanding of planning throughout 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itment to planning and execution from all shif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rrect people as Supervisors with correc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ish expectations &amp; monitor performance agains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630-E3FE-41ED-AFDC-57E4164108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ENVIRONMENTAL CONDITIONS - FACE AREA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housekee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rger diameter ventilation du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roadway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management of fac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of monorails for cables, hose and du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ergonomics on face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tworking issues between mines with similar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CEA0-D7D3-4E8B-8BE6-18CB6955CA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22:58:10Z</dcterms:created>
  <dc:creator>Gary</dc:creator>
  <dc:description/>
  <dc:language>en-US</dc:language>
  <cp:lastModifiedBy>Gibson</cp:lastModifiedBy>
  <dcterms:modified xsi:type="dcterms:W3CDTF">2007-05-01T05:30:19Z</dcterms:modified>
  <cp:revision>68</cp:revision>
  <dc:subject/>
  <dc:title>ACARP</dc:title>
</cp:coreProperties>
</file>