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65938" cy="9701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3476-1337-4DD7-B400-4859A7DBE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0286-8D28-4B4F-BF04-0BF46BDA5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DF22-D5CE-4CC1-A9EB-38D761E54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11FA-58DA-4BB0-8A44-FC8FA80A7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E3AC-9FEC-4838-8A4B-E9D9AB81D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BA8C-71A1-48BB-8797-258EDE448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CA87-A4AF-44A7-B368-13F2C8D17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249D-F9D5-444C-BD0F-0FA05606B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C1B5-AFC6-41BB-AC7E-5AD834D3B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8516-86E6-4450-A029-FA8D0227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D235-A539-4FB4-A7B1-507BB80F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67DA-5549-4422-98F8-520F1762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BA011-1B08-4599-B72B-2977633580BF}" type="slidenum">
              <a:rPr b="0" lang="en-US" sz="1200" spc="-1" strike="noStrike">
                <a:solidFill>
                  <a:srgbClr val="cc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120" y="380520"/>
            <a:ext cx="245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CARP</a:t>
            </a:r>
            <a:endParaRPr b="0" lang="en-US" sz="36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600" y="2276640"/>
            <a:ext cx="8686800" cy="26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Australian Roadway Development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Improvement Project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Strategy Workshop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pril 2007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43280" y="1268280"/>
            <a:ext cx="5538600" cy="40824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89720" y="1295280"/>
            <a:ext cx="54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ustralian Coal Association Research Program</a:t>
            </a: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2050560" y="1268280"/>
            <a:ext cx="792360" cy="0"/>
          </a:xfrm>
          <a:prstGeom prst="line">
            <a:avLst/>
          </a:prstGeom>
          <a:ln w="190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765000"/>
            <a:ext cx="0" cy="503280"/>
          </a:xfrm>
          <a:prstGeom prst="line">
            <a:avLst/>
          </a:prstGeom>
          <a:ln w="190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3640" y="47592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ff"/>
                </a:solidFill>
                <a:latin typeface="Arial"/>
                <a:ea typeface="Arial"/>
              </a:rPr>
              <a:t>NUMBER &amp; AVAILABILITY OF BOLTING RIGS</a:t>
            </a:r>
            <a:br>
              <a:rPr sz="2400"/>
            </a:br>
            <a:endParaRPr b="0" lang="en-US" sz="30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640" y="1371240"/>
            <a:ext cx="8375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otential improvements and solutions identifie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creased number of bol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ntinue to upgrade bol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mproved ergonom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utomation/engineering solutions – eg; internal porting to remove ho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ndition monito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quipment design for serviceability and ease of change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M design for large flat work platfo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1125360"/>
            <a:ext cx="8066160" cy="176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ARP Project C15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B1E8-85A6-4FFE-A54A-AD5ED83D636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ff"/>
                </a:solidFill>
                <a:latin typeface="Arial"/>
                <a:ea typeface="Arial"/>
              </a:rPr>
              <a:t>CUTTING &amp; LOADING CAPACITY OF CM</a:t>
            </a:r>
            <a:br>
              <a:rPr sz="2400"/>
            </a:br>
            <a:endParaRPr b="0" lang="en-US" sz="30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9640" y="1371240"/>
            <a:ext cx="8375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otential improvements and solutions identifie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itness for purpose - cut height, rib prot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pplication, specification and accounta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etter geological data for equipment specif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icro-manage engineering capabilities to achieve optimum outp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esearch into machine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unnel boring machine adapted to coal mining 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1143000"/>
            <a:ext cx="7925040" cy="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ARP Project C15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F2FB-969F-4CBF-8155-E33960C440C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ff"/>
                </a:solidFill>
                <a:latin typeface="Arial"/>
                <a:ea typeface="Arial"/>
              </a:rPr>
              <a:t>FACE SUPERVISION</a:t>
            </a:r>
            <a:br>
              <a:rPr sz="2400"/>
            </a:br>
            <a:endParaRPr b="0" lang="en-US" sz="30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9640" y="1371240"/>
            <a:ext cx="8375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otential improvements and solutions identifie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fine roles, authority, accountabilities and responsibil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ersonnel development programs, with coaching and mento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argeted training and develo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raining in leadership, supervision, motivation, planning and schedu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naging poor perform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ecruitment and sel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velop key personnel to lead rather than supervi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1143000"/>
            <a:ext cx="7925040" cy="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ARP Project C15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778E-A5EE-4E78-B05F-4EF495603BF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ff"/>
                </a:solidFill>
                <a:latin typeface="Arial"/>
                <a:ea typeface="Arial"/>
              </a:rPr>
              <a:t>MANNING LEVELS / ABSENTEEISM</a:t>
            </a:r>
            <a:br>
              <a:rPr sz="2400"/>
            </a:br>
            <a:endParaRPr b="0" lang="en-US" sz="30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9640" y="1371240"/>
            <a:ext cx="8375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otential improvements and solutions identified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rioritise work tasks and assign labour according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ptimum/maximum number in crew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ol of skilled tr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lf managed tea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otation of tas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atigue poli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vertime poli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Quality of life – employ the right peo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7925040" cy="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ARP Project C15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2D7F-8EBD-4005-917C-322B7A6F5A3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ff"/>
                </a:solidFill>
                <a:latin typeface="Arial"/>
                <a:ea typeface="Arial"/>
              </a:rPr>
              <a:t>OTHER ISSUES FROM RDTG</a:t>
            </a:r>
            <a:endParaRPr b="0" lang="en-US" sz="30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9640" y="1371240"/>
            <a:ext cx="8375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ine plan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oftware for planning and process sim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anel adva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gist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143000"/>
            <a:ext cx="7925040" cy="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ARP Project C15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54B1-1ADA-4888-9F84-492ADC547F5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ff"/>
                </a:solidFill>
                <a:latin typeface="Arial"/>
                <a:ea typeface="Arial"/>
              </a:rPr>
              <a:t>WORKSHOP DISCUSSION OUTCOMES</a:t>
            </a:r>
            <a:endParaRPr b="0" lang="en-US" sz="30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9640" y="1371240"/>
            <a:ext cx="8375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1143000"/>
            <a:ext cx="7925040" cy="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1125360"/>
            <a:ext cx="8351640" cy="53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1250"/>
              </a:spcBef>
              <a:buClr>
                <a:srgbClr val="cc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Immediate (1 year project)</a:t>
            </a: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  <a:p>
            <a:pPr lvl="1" marL="901800" indent="-366840">
              <a:lnSpc>
                <a:spcPct val="100000"/>
              </a:lnSpc>
              <a:spcBef>
                <a:spcPts val="561"/>
              </a:spcBef>
              <a:buClr>
                <a:srgbClr val="cc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project management” systems for roadway development (including maintenance) 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lvl="1" marL="901800" indent="-366840">
              <a:lnSpc>
                <a:spcPct val="100000"/>
              </a:lnSpc>
              <a:spcBef>
                <a:spcPts val="561"/>
              </a:spcBef>
              <a:buClr>
                <a:srgbClr val="cc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fundamentals of roadway development” handbook 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lvl="1" marL="901800" indent="-366840">
              <a:lnSpc>
                <a:spcPct val="100000"/>
              </a:lnSpc>
              <a:spcBef>
                <a:spcPts val="561"/>
              </a:spcBef>
              <a:buClr>
                <a:srgbClr val="cc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process model for development 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lvl="1" marL="901800" indent="-366840">
              <a:lnSpc>
                <a:spcPct val="100000"/>
              </a:lnSpc>
              <a:spcBef>
                <a:spcPts val="561"/>
              </a:spcBef>
              <a:buClr>
                <a:srgbClr val="cc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management structure, style and skills; 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lvl="1" marL="901800" indent="-366840">
              <a:lnSpc>
                <a:spcPct val="100000"/>
              </a:lnSpc>
              <a:spcBef>
                <a:spcPts val="561"/>
              </a:spcBef>
              <a:buClr>
                <a:srgbClr val="cc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functional specification for “CM 2010” 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250"/>
              </a:spcBef>
              <a:buClr>
                <a:srgbClr val="cc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Medium term (2-4 years) - “CM 2010 project” (similar to LW project)</a:t>
            </a: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  <a:p>
            <a:pPr lvl="1" marL="901800" indent="-366840">
              <a:lnSpc>
                <a:spcPct val="100000"/>
              </a:lnSpc>
              <a:spcBef>
                <a:spcPts val="561"/>
              </a:spcBef>
              <a:buClr>
                <a:srgbClr val="cc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components can be retrofitted to current generation machines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lvl="1" marL="901800" indent="-366840">
              <a:lnSpc>
                <a:spcPct val="100000"/>
              </a:lnSpc>
              <a:spcBef>
                <a:spcPts val="561"/>
              </a:spcBef>
              <a:buClr>
                <a:srgbClr val="cc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automated bolting system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lvl="1" marL="901800" indent="-366840">
              <a:lnSpc>
                <a:spcPct val="100000"/>
              </a:lnSpc>
              <a:spcBef>
                <a:spcPts val="561"/>
              </a:spcBef>
              <a:buClr>
                <a:srgbClr val="cc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alternate skin reinforcement and rib confinement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lvl="1" marL="901800" indent="-366840">
              <a:lnSpc>
                <a:spcPct val="100000"/>
              </a:lnSpc>
              <a:spcBef>
                <a:spcPts val="561"/>
              </a:spcBef>
              <a:buClr>
                <a:srgbClr val="cc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services 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250"/>
              </a:spcBef>
              <a:buClr>
                <a:srgbClr val="cc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Longer term (+5 years) - “continuous mining system” </a:t>
            </a: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  <a:p>
            <a:pPr lvl="1" marL="901800" indent="-366840">
              <a:lnSpc>
                <a:spcPct val="100000"/>
              </a:lnSpc>
              <a:spcBef>
                <a:spcPts val="624"/>
              </a:spcBef>
              <a:buClr>
                <a:srgbClr val="cc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integrated system incorporating cutting, loading, conveying, support, and logistics flowing on from CM 2010 project</a:t>
            </a: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ARP Project C15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36D3-75A1-4905-B00D-BCF2D735FE9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ff"/>
                </a:solidFill>
                <a:latin typeface="Arial"/>
                <a:ea typeface="Arial"/>
              </a:rPr>
              <a:t>WHAT DID WE FORGET?</a:t>
            </a:r>
            <a:endParaRPr b="0" lang="en-US" sz="30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1143000"/>
            <a:ext cx="7925040" cy="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ARP Project C15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9102-DA7B-4606-831E-509D4696AEC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4920" y="4568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ff"/>
                </a:solidFill>
                <a:latin typeface="Arial"/>
                <a:ea typeface="Arial"/>
              </a:rPr>
              <a:t>BARRIERS TO ROADWAY DEVELOPMENT </a:t>
            </a:r>
            <a:br>
              <a:rPr sz="2400"/>
            </a:br>
            <a:endParaRPr b="0" lang="en-US" sz="30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9640" y="1371240"/>
            <a:ext cx="8375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arriers to improved roadway development performance were ranked by participants in the March 2007 Roadway Development Worksho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articipants also identified a number of potential solutions to overcome key barri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he Roadway Development Task Group reviewed the top 10 barriers and solutions when formulating a roadway development improvement research strate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he top 10 barriers, solutions and proposed research strategy are outlined o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mments and suggestions are invited from industry regarding the proposed research strate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1143000"/>
            <a:ext cx="7925040" cy="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ARP Project C15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ED85-4A87-4FEB-B2F9-09F28597C8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4920" y="4568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ff"/>
                </a:solidFill>
                <a:latin typeface="Arial"/>
                <a:ea typeface="Arial"/>
              </a:rPr>
              <a:t>TOP 10 BARRIERS TO DEVELOPMENT </a:t>
            </a:r>
            <a:br>
              <a:rPr sz="2400"/>
            </a:br>
            <a:endParaRPr b="0" lang="en-US" sz="30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1371240"/>
            <a:ext cx="8375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vailability of continuous min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peed and ease of operation of bolting ri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lays in panel and outbye convey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kill level of operators and tra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lanning and coordin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nvironmental conditions in the immediate work are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umber &amp;/or availability of on-board bolting ri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utting and loading capacity and fitness for purpose of C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Face supervi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Manning levels &amp;/or absenteeis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143000"/>
            <a:ext cx="7925040" cy="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ARP Project C15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98D6-543F-4EB1-9CB2-7FD9E8A90C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ff"/>
                </a:solidFill>
                <a:latin typeface="Arial"/>
                <a:ea typeface="Arial"/>
              </a:rPr>
              <a:t>AVAILABILITY OF CONTINUOUS MINERS </a:t>
            </a:r>
            <a:br>
              <a:rPr sz="2400"/>
            </a:br>
            <a:endParaRPr b="0" lang="en-US" sz="30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9640" y="1371240"/>
            <a:ext cx="8375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tential improvements and solutions identifi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roactive mainten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it for purpose equi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sign of machinery for improved availa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eplace ageing equi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esearch to identify best practices mainten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intenance trai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ore resources to maintain equipm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velop a maintenance management strategy to maximise up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143000"/>
            <a:ext cx="7925040" cy="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ARP Project C15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14E0-7BCE-4E8F-A11A-E81B071A42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45684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ff"/>
                </a:solidFill>
                <a:latin typeface="Arial"/>
                <a:ea typeface="Arial"/>
              </a:rPr>
              <a:t>EASE OF OPERATION OF ROOF BOLTERS</a:t>
            </a:r>
            <a:br>
              <a:rPr sz="2400"/>
            </a:br>
            <a:endParaRPr b="0" lang="en-US" sz="30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1371240"/>
            <a:ext cx="8375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otential improvements and solutions identifie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utomated bol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lf drilling bol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ingle pass bol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mproved ergonom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etter mainten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igher engineering skill level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1143000"/>
            <a:ext cx="7925040" cy="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ARP Project C15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6716-F28F-43EA-B9AA-2F529B6C965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45684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ff"/>
                </a:solidFill>
                <a:latin typeface="Arial"/>
                <a:ea typeface="Arial"/>
              </a:rPr>
              <a:t>DELAYS ON PANEL &amp; OUTBYE CONVEYORS</a:t>
            </a:r>
            <a:br>
              <a:rPr sz="2400"/>
            </a:br>
            <a:endParaRPr b="0" lang="en-US" sz="30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640" y="1371240"/>
            <a:ext cx="8375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otential improvements and solutions identifie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igher standards of instal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ndition monitoring of compon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mproved mainten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igher standards of housekeep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igher standards of belt clea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udit delay cau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epair and replace substandard belting, structure and equi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143000"/>
            <a:ext cx="7925040" cy="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ARP Project C15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ABAB-2480-4298-BE12-CF24BF8B82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456840"/>
            <a:ext cx="80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ff"/>
                </a:solidFill>
                <a:latin typeface="Arial"/>
                <a:ea typeface="Arial"/>
              </a:rPr>
              <a:t>SKILL LEVELS OF TRADES &amp; OPERATORS</a:t>
            </a:r>
            <a:br>
              <a:rPr sz="2400"/>
            </a:br>
            <a:endParaRPr b="0" lang="en-US" sz="30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9640" y="1371240"/>
            <a:ext cx="8375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otential improvements and solutions identifie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ore trai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pprentices and mining cad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etter recruitment and sel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Use of training simula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ccreditation of skills across indus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echnical college trai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raining m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143000"/>
            <a:ext cx="7925040" cy="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ARP Project C15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AA42-CE99-4082-B4F2-65A6C318FAD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ff"/>
                </a:solidFill>
                <a:latin typeface="Arial"/>
                <a:ea typeface="Arial"/>
              </a:rPr>
              <a:t>PLANNING AND CO ORDINATION</a:t>
            </a:r>
            <a:br>
              <a:rPr sz="2400"/>
            </a:br>
            <a:endParaRPr b="0" lang="en-US" sz="30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9640" y="1371240"/>
            <a:ext cx="8375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otential improvements and solutions identifie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ndardise planning systems - Ultimine type sys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etter defined accountabilities and author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raining in planning and schedu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igorous understanding of planning throughout m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mmitment to planning and execution from all shif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rrect people as Supervisors with correct too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tablish expectations &amp; monitor performance against pla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143000"/>
            <a:ext cx="7925040" cy="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ARP Project C15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0FD2-8810-4A05-A326-17A9D4FD537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560" y="45684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ff"/>
                </a:solidFill>
                <a:latin typeface="Arial"/>
                <a:ea typeface="Arial"/>
              </a:rPr>
              <a:t>ENVIRONMENTAL CONDITIONS - FACE AREA</a:t>
            </a:r>
            <a:br>
              <a:rPr sz="2400"/>
            </a:br>
            <a:endParaRPr b="0" lang="en-US" sz="3000" spc="-1" strike="noStrike">
              <a:solidFill>
                <a:srgbClr val="cccc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640" y="1371240"/>
            <a:ext cx="8375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otential improvements and solutions identifie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igher standards of housekeep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arger diameter ventilation duc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igher standards of roadway mainten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mproved management of face w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Use of monorails for cables, hose and duc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mproved ergonomics on face equi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etworking issues between mines with similar iss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125360"/>
            <a:ext cx="8136000" cy="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ARP Project C15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C157-5D09-4830-8568-2AFB46C39B3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3T22:58:10Z</dcterms:created>
  <dc:creator>Gary</dc:creator>
  <dc:description/>
  <dc:language>en-US</dc:language>
  <cp:lastModifiedBy>Gibson</cp:lastModifiedBy>
  <dcterms:modified xsi:type="dcterms:W3CDTF">2007-05-01T05:30:19Z</dcterms:modified>
  <cp:revision>68</cp:revision>
  <dc:subject/>
  <dc:title>ACARP</dc:title>
</cp:coreProperties>
</file>