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F5D-28B0-4888-B444-29612660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1AD-B231-4D03-A267-92791FE7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83F-A38C-43C2-967D-ACC2719F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83E-5F87-4EFC-AA0E-451AB758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98D3D-967E-461E-AE4F-9A3BEEC08F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4601E-7938-4860-ACAF-8E529CE9B9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04DD3-0C18-45AE-A86A-93A47EDA53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F0D55-56A6-4026-9F46-AFE68F7CE9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0A1D5-B92C-4044-A0A9-D77FB545BC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D8BE-DCD1-41B3-9AAD-CBD9175677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922BB-376F-463B-B4A9-23A177C715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64C-95E4-4661-A4A8-9A44EB94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C8AC7-F897-4421-9C68-DC6A59B97D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AC131-6ECE-458D-887E-FC1672CE12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6D1F0-1C1E-4A56-A6F1-88A8B1A3FC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A34FC-98D8-46AA-9ED0-A12E2C4513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ADBA9-B839-4A29-B4B5-C5B0FD200C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73B5F-35E1-426D-B465-D38360D6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E2F03-BEEA-47A8-87C3-3A0CBC50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37AD0-DD6A-4D12-BEAA-4A60400C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5B458-05B6-4464-8071-4930DF3F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51795-DBCA-4265-A7DF-97E99B90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4C6-27BE-4A53-91E7-467124A0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36DDE-C936-4116-8B3C-02E289D0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25C24-1639-4DB0-87A4-246266AC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FA722-76DD-4C38-BC9C-E5EE318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73E41-29F0-4A01-987D-59D49720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F0040-588A-4120-97B4-BB8EAB3D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685EC-919B-458D-A37D-6D34B551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E670C-D70F-48AE-962F-DA5694D4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6F2-260E-4D4C-8BBD-6C2AA7B9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1E7-8131-422C-B7A3-6C803570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0E2-A9D1-4B35-9C14-26FB4748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821-A18E-4B38-AB88-83FB20A9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63F-5323-4273-9B25-B971998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EC1-DD69-4C1C-8FEC-1B3D1E50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7e8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EE19-6D71-4339-91A1-44B49C361B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7e8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8160">
            <a:solidFill>
              <a:srgbClr val="00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0A3-3842-4806-976F-98CBBEEEF7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7e8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5B4D-D38B-4B44-9780-E2F16961E0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Calibri"/>
              </a:rPr>
              <a:t>ROADWAY DEVELOPMENT IMPROVEMENT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490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000" spc="-1" strike="noStrike">
                <a:solidFill>
                  <a:srgbClr val="545454"/>
                </a:solidFill>
                <a:latin typeface="Calibri"/>
              </a:rPr>
              <a:t>CM2010</a:t>
            </a:r>
            <a:r>
              <a:rPr b="0" lang="en-AU" sz="4000" spc="-1" strike="noStrike">
                <a:solidFill>
                  <a:srgbClr val="545454"/>
                </a:solidFill>
                <a:latin typeface="Calibri"/>
              </a:rPr>
              <a:t> Up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b6b6b"/>
                </a:solidFill>
                <a:latin typeface="Calibri"/>
              </a:rPr>
              <a:t>Greg Pawley, Xstrata 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b6b6b"/>
                </a:solidFill>
                <a:latin typeface="Calibri"/>
              </a:rPr>
              <a:t>Bob Gordon, BHP Billiton Illawarra 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b6b6b"/>
                </a:solidFill>
                <a:latin typeface="Calibri"/>
              </a:rPr>
              <a:t>Guy Mitchell, BMA Co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98989"/>
                </a:solidFill>
                <a:latin typeface="Calibri"/>
              </a:rPr>
              <a:t>August/September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6093000"/>
            <a:ext cx="6821640" cy="595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6804000" y="6093000"/>
            <a:ext cx="2340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y end 2010, demonstrate key enabling component technologies that will form the basis of an integrated high capacity mining system, eg; remote operation of the continuous miner, automated self drilling bolts and mesh installation, continuous haulage, integrated pane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By end </a:t>
            </a:r>
            <a:r>
              <a:rPr b="0" lang="en-AU" sz="2200" spc="-1" strike="noStrike">
                <a:solidFill>
                  <a:srgbClr val="ff0000"/>
                </a:solidFill>
                <a:latin typeface="Calibri"/>
              </a:rPr>
              <a:t>2015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, demonstrate </a:t>
            </a:r>
            <a:r>
              <a:rPr b="0" lang="en-AU" sz="2200" spc="-1" strike="noStrike">
                <a:solidFill>
                  <a:srgbClr val="ff0000"/>
                </a:solidFill>
                <a:latin typeface="Calibri"/>
              </a:rPr>
              <a:t>all the elements of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n integrated, remotely supervised high capacity roadway development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rogressively reduce the physical demands on personnel engaged in the development process and reduce their exposure to workplace haz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0000"/>
                </a:solidFill>
                <a:latin typeface="Calibri"/>
              </a:rPr>
              <a:t>Encourage and support mines to develop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key organisational and technical competencies required to support a high capacity mining system eg; improved engineering availability, people behaviour and skills, and planning, organisation and process contro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604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CM2010 Phase II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R&amp;D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5C4-94A1-4226-A660-4046C5C3A8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urr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292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6022 – undergroundcoalcom.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ecently gone live and can be accessed via web-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ntinuing to develop site with industry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7004 – Tough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nsolidating polymer chemistry research following departure of lead researcher March 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ecently identified an industry partner to continue development of polymer and coating formulation, including registration, certification and licensing of produ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Evaluating challenge posed by NSW Chief Inspector’s notification specifying that application or injection of polymeric materials for strata support is a licensable activ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age III of the project to commence January 2011, subject to ACARP fun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2D51-373D-41A1-9DED-0168289D6F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urr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9000" indent="-289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7017 – Automated Bolting and Meshing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uccessfully demonstrated all components of system except rib bolt manipulation (now due October 201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age II of the project has commenced and includes an underground trial and demonstration of system, and concept design of an integrated logistics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nitial focus is to fully animate proposed system and examine issues associated with full automation of system in underground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DTG member companies identifying suitable site and continuous miner to conduct underground t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9000" indent="-289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8023 – Continuous Miner Auto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uccessfully demonstrated components of navig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age II recently commenced and includes an underground trial of navigation system on Phoen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9000" indent="-289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5000" indent="-28872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9000" indent="-289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5F3F-5149-41D4-8FF1-8A359A403B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urr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17010 -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Project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Development of Roadway Development Handbook temporarily suspended to allow focus on providing project management support toToughSk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ntinuing project support role proposed across all </a:t>
            </a:r>
            <a:r>
              <a:rPr b="0" i="1" lang="en-AU" sz="2200" spc="-1" strike="noStrike">
                <a:solidFill>
                  <a:srgbClr val="000000"/>
                </a:solidFill>
                <a:latin typeface="Calibri"/>
              </a:rPr>
              <a:t>CM2010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elated projects, including continuation of Roadway Development Operators’ Workshops to end 20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72DC-E05E-481E-8165-9F4965455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New Projects Under Conside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apid Advance Convey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Oregate Pty Lt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utomated Monorail Extension Syst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Macquarie Manufacturing and UOW Automation and Robotics Gro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velopment of FRAS Rated Polymeric conveyor Idler for Underground Coal Mi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Ellton Longwall/Dotmar Engineering Plastics/Intelligent Polymer Research Institute (UOW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63680" indent="-292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3809-1EB4-4851-A178-5F41C7E81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CM2010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R&amp;D Strategic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urr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New Projects Under Consid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BB77-9FE6-43A1-85FF-59FA854270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CM2010 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R&amp;D Strategic Re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trategic review conducted in July 2010 with objective of reconfirming and/or amending the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Vision, Goals, Measures and Strategies in the context of developments to date, and potential R&amp;D achievements over the next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BAEB-CABA-48F1-A911-6118AD0E60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Review Inpu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Existing</a:t>
            </a:r>
            <a:r>
              <a:rPr b="0" i="1" lang="en-AU" sz="2600" spc="-1" strike="noStrike">
                <a:solidFill>
                  <a:srgbClr val="000000"/>
                </a:solidFill>
                <a:latin typeface="Calibri"/>
              </a:rPr>
              <a:t> CM2010 </a:t>
            </a: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Vision, Goals, Measures and Strate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Review of current research initiatives including both ACARP funded projects and direct industry funded initiatives (mines and OEM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500" spc="-1" strike="noStrike">
                <a:solidFill>
                  <a:srgbClr val="000000"/>
                </a:solidFill>
                <a:latin typeface="Calibri"/>
              </a:rPr>
              <a:t>Fundamental Analysis of  Roadway Development System </a:t>
            </a: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– Richard Porteous’ excellent analysis of contributing factors to roadway development perform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500" spc="-1" strike="noStrike">
                <a:solidFill>
                  <a:srgbClr val="000000"/>
                </a:solidFill>
                <a:latin typeface="Calibri"/>
              </a:rPr>
              <a:t>Roadway Development Technology Audit </a:t>
            </a: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– report of the Audit completed earlier this year across mines, OEMs and suppli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5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500" spc="-1" strike="noStrike">
                <a:solidFill>
                  <a:srgbClr val="000000"/>
                </a:solidFill>
                <a:latin typeface="Calibri"/>
              </a:rPr>
              <a:t> Technology Gap Analysis – as completed by RDT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3F1B-78EA-4586-B90F-A57EF54C0F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3124080" y="6356520"/>
            <a:ext cx="339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ichard Porteous’ 2008 study across Xstrata’s 11 mines illustrated that adoption of current and emerging technologies has the potential to achieve significantly improved development ra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udy based on standard bolting cycle of 6 roof and 4 rib bolts per metre, with base case of a miner-bolter and 1 SC (bolting constrained syste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tudy examines effect of various refinements to the syste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doption of a bolter-miner with concurrent cutting and bol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Employment of a second shuttle car throughout pillar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doption of self drilling bo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Utilisation of a continuous haulag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rojected that a rate of 8.5MPOH could be achieved with these meas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Fully details of report available at www.undergroundcoal.com.a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745B-C5EA-489D-B9A2-F7F0728BF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damental Analysis of  Roadway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2010 Technology Au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commended that the RDTG maintains general thrust of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nd review R&amp;D priorities in regards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development of remote bolting technologies inclu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lf drilling bo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Bolt, washer and mesh storage/hand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motely controlled/automated bolting rigs and manipul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ssociated sensing and monitor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development of CM self steering technologies inclu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mote sensing, seam profiling, and video monito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chine navigation and st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munication protoc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chine supervisory/auto-reporting systems (including development of  “black box” data logging syste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050D-4D21-4076-97C7-B576F57DCA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2010 Technology Au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ecommendations regarding general thrust of CM2010 (cont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ddressing issues associated with on-board ventil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Development of SC guidance (automation)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ddressing issues associated with management of face services, by either continuous haulage or monorail systems, including development of self advancing system in later in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Developing strategies to address equipment certification and regulatory issues, including adoption of EMERST design philosoph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so recommended that mines continue to undertake operational research to optimise face cycle times and engage change management expertise when introducing new development technologies and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6E76-4F38-42DD-839C-1C3B907C06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Technology G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echnology gaps identified in 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CM201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R&amp;D strategy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M roof/floor horizon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ong tendon instal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norail advancement systems (or alternatively, ventilation installation and extension syste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Higher capacity ventil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Remotely steered (automated) shuttle c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llision avoidance systems – people and machin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upply/logistics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nveyor advanc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rvices advanc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echnology/systems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munications – both verbal and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E870-9ACC-4271-BF1E-8E6C2C77F0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Calibri"/>
              </a:rPr>
              <a:t>CM2010 Phase II</a:t>
            </a: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 R&amp;D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An integrated, remotely supervised high capacity roadway development mining system that enables 15 Mtpa longwall mines to be established and sustained with a single </a:t>
            </a:r>
            <a:r>
              <a:rPr b="0" lang="en-AU" sz="2100" spc="-1" strike="noStrike">
                <a:solidFill>
                  <a:srgbClr val="ff0000"/>
                </a:solidFill>
                <a:latin typeface="Calibri"/>
              </a:rPr>
              <a:t>gateroad</a:t>
            </a: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 mining un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The system will also enable mining to be safely undertaken under adverse or extreme mining conditions, thus opening up access to reserves previously considered un-mine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A sustained performance rate of 10 metres per operating hour (MPOH) for 20 hours per day, based on installing primary support of 6 roof and 2 rib bolts per metre advance together with roof and rib confinement measures (mesh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Calibri"/>
              </a:rPr>
              <a:t>Improved health and safety through reduced exposure to hazards in the immediate face are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-291960"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3179-D5A9-4C6C-8766-CD0A899A8C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2843280" y="6356520"/>
            <a:ext cx="345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CM2010 Update August/Sept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4:51:45Z</dcterms:created>
  <dc:creator>Gary Gibson</dc:creator>
  <dc:description/>
  <dc:language>en-US</dc:language>
  <cp:lastModifiedBy>Gary Gibson</cp:lastModifiedBy>
  <dcterms:modified xsi:type="dcterms:W3CDTF">2010-09-05T08:16:55Z</dcterms:modified>
  <cp:revision>44</cp:revision>
  <dc:subject/>
  <dc:title>Slide 1</dc:title>
</cp:coreProperties>
</file>