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166A-C73F-4454-A3F9-F8A50FA6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0D0C-0D8B-4FBD-8B7B-0EA02F1D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F624-1F34-445E-A253-ADF8C8C6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1FD-3145-4653-8B5F-49E51E4B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E5191-1D5F-4F43-931A-BAB53C390F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94749-957E-4758-95D4-CFE3DE7B12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3CB18-160C-4226-B176-44326C8C09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B18FF-793E-4D93-9E26-3F53504CC6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8DCF9-CE35-4E5D-A64A-3B98085C9A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26093-5879-47EC-9EDB-290EBF316B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C5BEC-3583-46F0-8CD0-583C3D8AC2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F595-91B6-45EA-8C05-B30DAC2B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DB0BC-ADD3-4E4B-BE3C-128D274927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D515B-462E-4FA0-8476-35D69B36C1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2C422-A57D-4459-9838-42B5987C8A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42838-1FC4-4813-8CD2-22ED3DD994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DA7E1-6DD8-4449-A3CD-D580C2ADE0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E3CA2F-2B54-4D0F-8456-8E93CBCB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ADC5F-25E3-4A12-858F-F30BB788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042AF8-5389-4F14-9384-1281344B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A0BCA-BD5B-4DF7-BC43-C8C50892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13F59-541D-48C2-8525-96BD2B55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977-B96D-4E18-B42D-214EEBA2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C6F13B-DA41-49DE-9394-F6BC3F4D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24FE1-62A8-4C64-8B68-3EF0FC50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E40EF0-D60B-4770-BAAE-CCE9ABED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659DC-082B-4562-B3F9-D6F82346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2CA20-2865-46B1-8DBE-965F948A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16386-E66F-4AB7-B454-5559B414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828A57-CC5B-40EF-9EBF-E3AFAF1A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776-090B-41C9-A2DC-86CA220D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E9C3-826C-40DA-AC88-389B6D4C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66F-7CA6-4144-B2B4-D81A23F4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C9BE-5629-4212-9F15-270BBC06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DE5-4882-4601-897D-F8A3EFCE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09C7-7207-47A1-8E46-40242179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7e8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16F0-C7EB-4877-9B62-CA3589C298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7e8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8160">
            <a:solidFill>
              <a:srgbClr val="0000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9FE2-A494-4927-9E84-5C9566A39D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7e8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A54F-89B0-4176-B351-133C722677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Calibri"/>
              </a:rPr>
              <a:t>ROADWAY DEVELOPMENT IMPROVEMENT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4901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000" spc="-1" strike="noStrike">
                <a:solidFill>
                  <a:srgbClr val="545454"/>
                </a:solidFill>
                <a:latin typeface="Calibri"/>
              </a:rPr>
              <a:t>CM2010</a:t>
            </a:r>
            <a:r>
              <a:rPr b="0" lang="en-AU" sz="4000" spc="-1" strike="noStrike">
                <a:solidFill>
                  <a:srgbClr val="545454"/>
                </a:solidFill>
                <a:latin typeface="Calibri"/>
              </a:rPr>
              <a:t> Up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b6b6b"/>
                </a:solidFill>
                <a:latin typeface="Calibri"/>
              </a:rPr>
              <a:t>Greg Pawley, Xstrata Co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b6b6b"/>
                </a:solidFill>
                <a:latin typeface="Calibri"/>
              </a:rPr>
              <a:t>Bob Gordon, BHP Billiton Illawarra Co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b6b6b"/>
                </a:solidFill>
                <a:latin typeface="Calibri"/>
              </a:rPr>
              <a:t>Guy Mitchell, BMA Co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898989"/>
                </a:solidFill>
                <a:latin typeface="Calibri"/>
              </a:rPr>
              <a:t>August/September 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6093000"/>
            <a:ext cx="6821640" cy="595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6804000" y="6093000"/>
            <a:ext cx="234000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6040" indent="-292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By end 2010, demonstrate key enabling component technologies that will form the basis of an integrated high capacity mining system, eg; remote operation of the continuous miner, automated self drilling bolts and mesh installation, continuous haulage, integrated panel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6040" indent="-292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By end </a:t>
            </a:r>
            <a:r>
              <a:rPr b="0" lang="en-AU" sz="2200" spc="-1" strike="noStrike">
                <a:solidFill>
                  <a:srgbClr val="ff0000"/>
                </a:solidFill>
                <a:latin typeface="Calibri"/>
              </a:rPr>
              <a:t>2015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, demonstrate </a:t>
            </a:r>
            <a:r>
              <a:rPr b="0" lang="en-AU" sz="2200" spc="-1" strike="noStrike">
                <a:solidFill>
                  <a:srgbClr val="ff0000"/>
                </a:solidFill>
                <a:latin typeface="Calibri"/>
              </a:rPr>
              <a:t>all the elements of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an integrated, remotely supervised high capacity roadway development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6040" indent="-292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rogressively reduce the physical demands on personnel engaged in the development process and reduce their exposure to workplace hazard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6040" indent="-292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0000"/>
                </a:solidFill>
                <a:latin typeface="Calibri"/>
              </a:rPr>
              <a:t>Encourage and support mines to develop 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 key organisational and technical competencies required to support a high capacity mining system eg; improved engineering availability, people behaviour and skills, and planning, organisation and process contr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6040" indent="-292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Calibri"/>
              </a:rPr>
              <a:t>CM2010 Phase II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R&amp;D Strate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1871-9514-4B2D-9F83-0BC4CF866E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urr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292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16022 – undergroundcoalcom.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Recently gone live and can be accessed via web-s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Continuing to develop site with industry sup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3680" indent="-2923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17004 – Tough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Consolidating polymer chemistry research following departure of lead researcher March 201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Recently identified an industry partner to continue development of polymer and coating formulation, including registration, certification and licensing of produ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Evaluating challenge posed by NSW Chief Inspector’s notification specifying that application or injection of polymeric materials for strata support is a licensable activi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tage III of the project to commence January 2011, subject to ACARP fun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3680" indent="-29232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368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FCFF-D31F-4D2A-AD64-85C92A2391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5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urr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9000" indent="-289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17017 – Automated Bolting and Meshing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5000" indent="-2887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uccessfully demonstrated all components of system except rib bolt manipulation (now due October 201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55000" indent="-2887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tage II of the project has commenced and includes an underground trial and demonstration of system, and concept design of an integrated logistics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55000" indent="-2887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Initial focus is to fully animate proposed system and examine issues associated with full automation of system in underground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55000" indent="-2887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RDTG member companies identifying suitable site and continuous miner to conduct underground tr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9000" indent="-289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18023 – Continuous Miner Auto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5000" indent="-2887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uccessfully demonstrated components of navigation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55000" indent="-2887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tage II recently commenced and includes an underground trial of navigation system on Phoen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9000" indent="-289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5000" indent="-28872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9000" indent="-289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CBE7-7D8D-439E-BBF0-8A5997BF6E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5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urr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292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17010 - 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CM2010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Project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Development of Roadway Development Handbook temporarily suspended to allow focus on providing project management support toToughSk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Continuing project support role proposed across all </a:t>
            </a:r>
            <a:r>
              <a:rPr b="0" i="1" lang="en-AU" sz="2200" spc="-1" strike="noStrike">
                <a:solidFill>
                  <a:srgbClr val="000000"/>
                </a:solidFill>
                <a:latin typeface="Calibri"/>
              </a:rPr>
              <a:t>CM2010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related projects, including continuation of Roadway Development Operators’ Workshops to end 201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3680" indent="-292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3680" indent="-292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B351-2A11-4445-97D0-9A1E34E8AB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oter Placeholder 5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New Projects Under Consider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836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292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Rapid Advance Convey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Oregate Pty Lt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3680" indent="-292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utomated Monorail Extension Syst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Macquarie Manufacturing and UOW Automation and Robotics Gro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3680" indent="-292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evelopment of FRAS Rated Polymeric conveyor Idler for Underground Coal Mi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Ellton Longwall/Dotmar Engineering Plastics/Intelligent Polymer Research Institute (UOW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3680" indent="-292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3680" indent="-292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A2DA-FA78-4144-8F44-83C383393F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5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Calibri"/>
              </a:rPr>
              <a:t>CM2010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Upd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CM2010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R&amp;D Strategic Re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urr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New Projects Under Consid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FEEF-45C9-4476-942D-ADB7DB0B5B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5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Calibri"/>
              </a:rPr>
              <a:t>CM2010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R&amp;D Strategic Re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trategic review conducted in July 2010 with objective of reconfirming and/or amending the 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CM2010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Vision, Goals, Measures and Strategies in the context of developments to date, and potential R&amp;D achievements over the next 3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5D89-0EBC-4493-A68B-186F032AA3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5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Review Inpu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Existing</a:t>
            </a:r>
            <a:r>
              <a:rPr b="0" i="1" lang="en-AU" sz="2600" spc="-1" strike="noStrike">
                <a:solidFill>
                  <a:srgbClr val="000000"/>
                </a:solidFill>
                <a:latin typeface="Calibri"/>
              </a:rPr>
              <a:t> CM2010 </a:t>
            </a: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Vision, Goals, Measures and Strateg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Review of current research initiatives including both ACARP funded projects and direct industry funded initiatives (mines and OEM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500" spc="-1" strike="noStrike">
                <a:solidFill>
                  <a:srgbClr val="000000"/>
                </a:solidFill>
                <a:latin typeface="Calibri"/>
              </a:rPr>
              <a:t>Fundamental Analysis of  Roadway Development System </a:t>
            </a: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– Richard Porteous’ excellent analysis of contributing factors to roadway development perform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500" spc="-1" strike="noStrike">
                <a:solidFill>
                  <a:srgbClr val="000000"/>
                </a:solidFill>
                <a:latin typeface="Calibri"/>
              </a:rPr>
              <a:t>Roadway Development Technology Audit </a:t>
            </a: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– report of the Audit completed earlier this year across mines, OEMs and suppli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500" spc="-1" strike="noStrike">
                <a:solidFill>
                  <a:srgbClr val="000000"/>
                </a:solidFill>
                <a:latin typeface="Calibri"/>
              </a:rPr>
              <a:t>CM2010</a:t>
            </a: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 Technology Gap Analysis – as completed by RDT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AE07-CCEF-42A3-B751-E19D18151A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Richard Porteous’ 2008 study across Xstrata’s 11 mines illustrated that adoption of current and emerging technologies has the potential to achieve significantly improved development ra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tudy based on standard bolting cycle of 6 roof and 4 rib bolts per metre, with base case of a miner-bolter and 1 SC (bolting constrained syste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tudy examines effect of various refinements to the system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doption of a bolter-miner with concurrent cutting and bol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mployment of a second shuttle car throughout pillar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doption of self drilling bol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Utilisation of a continuous haulag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rojected that a rate of 8.5MPOH could be achieved with these meas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Fully details of report available at www.undergroundcoal.com.a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2A58-EDB5-438E-AC37-C9BC3D74FA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undamental Analysis of  Roadway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2010 Technology Au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Recommended that the RDTG maintains general thrust of 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CM2010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and review R&amp;D priorities in regards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 development of remote bolting technologies includ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elf drilling bol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Bolt, washer and mesh storage/hand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Remotely controlled/automated bolting rigs and manipul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ssociated sensing and monitor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 development of CM self steering technologies includ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Remote sensing, seam profiling, and video monito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achine navigation and st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mmunication protoc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achine supervisory/auto-reporting systems (including development of  “black box” data logging syste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E8AB-F67E-43E5-8DF0-C8F7AB5EA5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2010 Technology Au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Recommendations regarding general thrust of CM2010 (cont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Addressing issues associated with on-board ventilatio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Development of SC guidance (automation)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Addressing issues associated with management of face services, by either continuous haulage or monorail systems, including development of self advancing system in later inst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Developing strategies to address equipment certification and regulatory issues, including adoption of EMERST design philosoph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lso recommended that mines continue to undertake operational research to optimise face cycle times and engage change management expertise when introducing new development technologies and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BBDA-F894-4199-A34E-DD65DD669E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000000"/>
                </a:solidFill>
                <a:latin typeface="Calibri"/>
              </a:rPr>
              <a:t>CM2010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 Technology G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echnology gaps identified in 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CM2010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R&amp;D strategy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M roof/floor horizon cont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Long tendon instal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onorail advancement systems (or alternatively, ventilation installation and extension syste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igher capacity ventil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Remotely steered (automated) shuttle c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llision avoidance systems – people and machin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upply/logistics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nveyor advanc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ervices advanc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echnology/systems integ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mmunications – both verbal and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80ED-5804-4D53-8D91-46CDD851AA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Calibri"/>
              </a:rPr>
              <a:t>CM2010 Phase II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R&amp;D Strate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Calibri"/>
              </a:rPr>
              <a:t>An integrated, remotely supervised high capacity roadway development mining system that enables 15 Mtpa longwall mines to be established and sustained with a single </a:t>
            </a:r>
            <a:r>
              <a:rPr b="0" lang="en-AU" sz="2100" spc="-1" strike="noStrike">
                <a:solidFill>
                  <a:srgbClr val="ff0000"/>
                </a:solidFill>
                <a:latin typeface="Calibri"/>
              </a:rPr>
              <a:t>gateroad</a:t>
            </a:r>
            <a:r>
              <a:rPr b="0" lang="en-AU" sz="2100" spc="-1" strike="noStrike">
                <a:solidFill>
                  <a:srgbClr val="000000"/>
                </a:solidFill>
                <a:latin typeface="Calibri"/>
              </a:rPr>
              <a:t> mining uni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Calibri"/>
              </a:rPr>
              <a:t>The system will also enable mining to be safely undertaken under adverse or extreme mining conditions, thus opening up access to reserves previously considered un-mine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ea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Calibri"/>
              </a:rPr>
              <a:t>A sustained performance rate of 10 metres per operating hour (MPOH) for 20 hours per day, based on installing primary support of 6 roof and 2 rib bolts per metre advance together with roof and rib confinement measures (mesh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Calibri"/>
              </a:rPr>
              <a:t>Improved health and safety through reduced exposure to hazards in the immediate face are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6526-2E63-4B80-8CB5-419BEEF918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5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04:51:45Z</dcterms:created>
  <dc:creator>Gary Gibson</dc:creator>
  <dc:description/>
  <dc:language>en-US</dc:language>
  <cp:lastModifiedBy>Gary Gibson</cp:lastModifiedBy>
  <dcterms:modified xsi:type="dcterms:W3CDTF">2010-09-05T08:16:55Z</dcterms:modified>
  <cp:revision>44</cp:revision>
  <dc:subject/>
  <dc:title>Slide 1</dc:title>
</cp:coreProperties>
</file>