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761D-55F3-4AA4-9120-462F195E057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59CF-A0B7-4A9E-BB8B-0E0FABAD29EA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BCB4-02CA-4319-AD53-0FCEC49FBB50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2010 is a multi faceted project compris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enabling strate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pinned by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rganisatio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technical compet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nsolidated through project management and engagement strateg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is clearly beyond the scope of any individual company or ACA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DING CM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9244-9190-4EFB-BB35-5D1F161FF78D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A13E-2514-4E81-B247-9D77EF261B6B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24A8-1CC1-4E6E-96B4-D5943E9EB805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4C0C-7806-4789-ADB7-3492CB77760C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41D4-13A0-4367-9D56-7F5792E83B6B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4D64-45B5-45D4-BBE7-78B85348ADAA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E2D7-A964-4FD2-B4BC-4BA8D8D04DE6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1F3E-2723-4ACE-B6E4-FA838ADE5243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11C6-C498-4025-8FFC-8115A09EA18C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773B-01E5-4834-A3EF-339E3362D78B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4B4C-56DF-4D35-BBF9-625178B5B93D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nticipated that discrete technologies will be championed by individual companies, or jointly by companies, before consolidation into an integrated system, which is illustrated in the slide ab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CARP landmark funding utilised to progress fundamental research with direct and in kind support provided by respective champion (compan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LLABORATION STRATEGY (co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0E3C-9AE1-4819-BCA8-8F4749CDC468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685D-DE90-4C09-8EF8-EA3AFCF7D7B8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26E4-A8C2-4B5C-BFDB-4BAC1596EC03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7EF9-7219-4256-A0DD-800A526F7059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4D78-C7B7-4538-B792-EA578BA05E6C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66CF-0D60-4166-BD02-10730A2CDE4A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5666-7FAA-4CCF-9DFB-D16C9CAD4BEE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E63C-1E46-4644-9A94-FEE2614EA659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472D-63CB-4CAF-9D25-B4EBDB350D61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BDB-3669-4BC6-847E-0557D2F1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9AD-D822-4DDD-A6F2-F3C0EF91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618-75BE-4D7A-B8E9-B25224AB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C8F-D2D0-44C9-A3F4-D9B3B40E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2D9-8C8D-4841-8AE6-D8A666E3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629-E7CE-4B4C-AF3D-589CE0BD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67D3-250C-4FA6-9704-C8F04133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E055-C3ED-43AB-B35B-B8ED798F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AFD7-645C-4ED4-89FC-E800FD4B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9A08-149F-42CE-AD32-8BC9E16E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F4AA-63B3-41DE-A245-79854A5A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341E-6BF7-4FAC-B41F-E5888FBA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0833-D10F-4BC6-B03C-CC33F8C1C90B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600" spc="-1" strike="noStrike">
                <a:solidFill>
                  <a:srgbClr val="ffffff"/>
                </a:solidFill>
                <a:latin typeface="Arial"/>
              </a:rPr>
              <a:t>CM2010</a:t>
            </a: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 IMPLEMENTATION STRATEG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0920" y="429264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Greg Pawley (Xstrata Coal), Bob Miller (Centennial Coal) and John Coughlan (Kestr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oadway Development Task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ugust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752480" y="380880"/>
            <a:ext cx="245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"/>
              </a:rPr>
              <a:t>ACAR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2843280" y="1268280"/>
            <a:ext cx="5538600" cy="40824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2851560" y="128592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66"/>
                </a:solidFill>
                <a:latin typeface="Arial"/>
              </a:rPr>
              <a:t>Australian Coal Association Research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 flipH="1">
            <a:off x="2050560" y="1268280"/>
            <a:ext cx="792360" cy="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 flipV="1">
            <a:off x="2050920" y="765000"/>
            <a:ext cx="0" cy="50328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3757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y end 2010, demonstrate key enabling component technologies that will form the basis of an integrated high capacity mining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y end 2010, establish programs that enable the key organisational and technical competencies required to support a high capacity mining system to be developed throughout the indu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y end 2012, demonstrate an integrated, remotely supervised high capacity roadway development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gressively reduce the physical demands on personnel engaged in the development process and reduce their exposure to workplace hazard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958160" cy="743040"/>
          </a:xfrm>
          <a:prstGeom prst="rect">
            <a:avLst/>
          </a:prstGeom>
          <a:ln w="0">
            <a:noFill/>
          </a:ln>
        </p:spPr>
      </p:pic>
      <p:sp>
        <p:nvSpPr>
          <p:cNvPr id="94" name="Line 4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6CF6-4F20-404A-A9C4-6E0B733FAD87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ccffff"/>
                </a:solidFill>
                <a:latin typeface="Arial"/>
                <a:ea typeface="Arial"/>
              </a:rPr>
              <a:t>KEY ELEMENTS - </a:t>
            </a:r>
            <a:r>
              <a:rPr b="0" i="1" lang="en-AU" sz="3000" spc="-1" strike="noStrike">
                <a:solidFill>
                  <a:srgbClr val="ccffff"/>
                </a:solidFill>
                <a:latin typeface="Arial"/>
                <a:ea typeface="Arial"/>
              </a:rPr>
              <a:t>CM2010</a:t>
            </a:r>
            <a:r>
              <a:rPr b="0" lang="en-AU" sz="3000" spc="-1" strike="noStrike">
                <a:solidFill>
                  <a:srgbClr val="ccffff"/>
                </a:solidFill>
                <a:latin typeface="Arial"/>
                <a:ea typeface="Arial"/>
              </a:rPr>
              <a:t> R&amp;D STRATEGY </a:t>
            </a:r>
            <a:endParaRPr b="0" lang="en-US" sz="3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3757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Key enabling technologies underpinned by organisational and technical compet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ject management of R&amp;D and engagement of the corporate sector is essential to bring the </a:t>
            </a:r>
            <a:r>
              <a:rPr b="0" i="1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M2010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R&amp;D strategy to fru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487440" y="3143160"/>
            <a:ext cx="8656560" cy="2803680"/>
          </a:xfrm>
          <a:prstGeom prst="rect">
            <a:avLst/>
          </a:prstGeom>
          <a:ln w="0">
            <a:noFill/>
          </a:ln>
        </p:spPr>
      </p:pic>
      <p:sp>
        <p:nvSpPr>
          <p:cNvPr id="100" name="Line 6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571760" y="407196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Key enabling technolog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3286080" y="-1357200"/>
            <a:ext cx="2000160" cy="607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11"/>
          <p:cNvSpPr/>
          <p:nvPr/>
        </p:nvSpPr>
        <p:spPr>
          <a:xfrm>
            <a:off x="500040" y="3214800"/>
            <a:ext cx="4714920" cy="121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12"/>
          <p:cNvSpPr/>
          <p:nvPr/>
        </p:nvSpPr>
        <p:spPr>
          <a:xfrm>
            <a:off x="428760" y="4429080"/>
            <a:ext cx="4714920" cy="1428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4600" indent="-444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714240" y="5143680"/>
            <a:ext cx="40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0000"/>
                </a:solidFill>
                <a:latin typeface="Arial"/>
              </a:rPr>
              <a:t>Organisational and technical competenc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517C-0F8B-403D-83F5-F3268A7D639E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17560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17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Key Enabling Technolog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1720" indent="-3517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 </a:t>
            </a:r>
            <a:r>
              <a:rPr b="0" lang="en-A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“self-steering” technologies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d systems that enables mining equipment 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400" indent="-35172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ine roadways in accordance with predetermined survey contr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400" indent="-35172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intain both azimuth, horizon and grade control within a variable seam horizon,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400" indent="-35172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otally </a:t>
            </a:r>
            <a:r>
              <a:rPr b="0" lang="en-A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automate the cutting and loading cycle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(including mining breakaways) thus enabling equipment to be remotely supervi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1720" indent="-3517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quires a combination of fundamental and applied research building upon Highwall Mining and Longwall Automation technolog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1720" indent="-3517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SIRO Queensland Centre for Advanced Technologies has demonstrated cap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611280" y="1052640"/>
            <a:ext cx="79246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3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80658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2AC1-4F85-4846-9959-7893D3BC1E5E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757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Key Enabling Technolog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Develop systems that enables the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automated installation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of conventional resin anchored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bolts, self drilling bolts, and roof and rib mesh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, and to feed bolts and mesh to the installation hardware without direct operator involv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6680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require a combination of fundamental and applied research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680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y have prototype carousel bolter and Sandvik have operational carousel bolters (metaliferous sector) that could provide basic equipment platform, whilst CSIRO has developed a range of technologies for the ACBM that could potentially be appl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680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OW recently awarded ACARP funding to pursue this initi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611280" y="1052640"/>
            <a:ext cx="79246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3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80658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063B-9DD2-4305-B1EC-EF630A78E34D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757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Key Enabling Technolog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Develop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alternative skin reinforcement and confinement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technologies and systems that eliminates the installation of roof and rib mesh and provides an enhanced roof and skin reinforcement mediu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require a combination of fundamental and applied research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OW awarded ACARP funding to pursue this initiative in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 research shows considerable promi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611280" y="1052640"/>
            <a:ext cx="79246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3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80658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8940-E86B-46BF-9212-A539B65E734F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757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Key Enabling Technolog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Demonstrate, adapt and refine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continuous haulage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technologies and systems currently being used overseas for use in Australian longwall min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continuous haulage systems currently being operated or commissioned in Australian mines, with a third system expected to be ordered 3Q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cted to be largely driven by mine sites, with support from and feedback to RDT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predominantly require operational improvement to apply existing technologies with some applied research required to integrate into a remotely supervised, high capacity mining 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611280" y="1052640"/>
            <a:ext cx="79246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3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80658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9067-A9DB-4563-AD80-A20130FFE1E8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28036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757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Key Enabling Technolog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Develop technologies and systems that enables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face services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to be extended within the 3 minute cut, load support cycle and without direct operator involvemen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monorail system currently being reinstalled at Mandalong with recent orders placed for 3 new monorail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cted to be largely driven by mine sites, with support from and feedback to RDT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predominantly require operational improvement to apply existing technologies with some applied research required to automate installation of monor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611280" y="1052640"/>
            <a:ext cx="79246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13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80658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428760" y="6245280"/>
            <a:ext cx="559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7858080" y="6245280"/>
            <a:ext cx="82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A19F-4715-4B24-8AC7-D7CAC4FE8C08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ccffff"/>
              </a:solidFill>
              <a:latin typeface="Arial"/>
              <a:ea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757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Key Enabling Technolog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Develop technologies and systems that enables </a:t>
            </a:r>
            <a:r>
              <a:rPr b="0" lang="en-AU" sz="2200" spc="-1" strike="noStrike">
                <a:solidFill>
                  <a:srgbClr val="ffff00"/>
                </a:solidFill>
                <a:latin typeface="Arial"/>
              </a:rPr>
              <a:t>panel services</a:t>
            </a:r>
            <a:r>
              <a:rPr b="0" lang="en-AU" sz="2200" spc="-1" strike="noStrike">
                <a:solidFill>
                  <a:srgbClr val="ffffff"/>
                </a:solidFill>
                <a:latin typeface="Arial"/>
              </a:rPr>
              <a:t> to be advanced on a continuous basis in parallel with mining operations or alternatively, within scheduled maintenance window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cted to be largely driven by mine sites, with support from and feedback to RDT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require some applied research to develop extensible conveyors and integrate major services (H/T power reticulation, transformers, etc) into a services management 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366840">
              <a:spcBef>
                <a:spcPts val="1500"/>
              </a:spcBef>
              <a:buClr>
                <a:srgbClr val="ffffff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also require some applied research to develop more efficient mine compliant services (eg; pipewor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611280" y="1052640"/>
            <a:ext cx="79246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3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80658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428760" y="6245280"/>
            <a:ext cx="5591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7858080" y="6245280"/>
            <a:ext cx="82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2E24-F18A-4476-BC44-09D9F0DB3092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600" spc="-1" strike="noStrike">
                <a:solidFill>
                  <a:srgbClr val="ccffff"/>
                </a:solidFill>
                <a:latin typeface="Arial"/>
                <a:ea typeface="Arial"/>
              </a:rPr>
              <a:t>Each of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9680" y="1143000"/>
            <a:ext cx="82868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Arial"/>
              </a:rPr>
              <a:t>The roadway development system is built on a number of independent subsystems that remain largely unchanged since their inception some 40 years ag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58880" indent="-35892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With few exceptions, new technologies have been adapted to existing machine designs rather than result in any fundamental review of machine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Arial"/>
              </a:rPr>
              <a:t>The integration of emerging enabling technologies into an integrated, remotely supervised high capacity mining system is expected to pose a significant challenge to researchers and OEM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58880" indent="-35892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doption of an industry standard communications protocol will be a prerequisite to system integration (as in Longwall autom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58880" indent="-35892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Applied research and design simulation will be necessary to integrate the emerging technologies and subsystems, similar to that achieved with TBMs in the tunnelling s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Arial"/>
              </a:rPr>
              <a:t>UOW and CSIRO are developing a collaborative framework to enable their core expertise to be applied to the task, together with participating OEMs and other key researcher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611280" y="1052640"/>
            <a:ext cx="79246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3" descr=""/>
          <p:cNvPicPr/>
          <p:nvPr/>
        </p:nvPicPr>
        <p:blipFill>
          <a:blip r:embed="rId1"/>
          <a:stretch/>
        </p:blipFill>
        <p:spPr>
          <a:xfrm>
            <a:off x="571680" y="214200"/>
            <a:ext cx="80658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AA04-D960-41B4-B974-B5275D758EFA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28036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"/>
                <a:ea typeface="Arial"/>
              </a:rPr>
              <a:t>FUNDING</a:t>
            </a:r>
            <a:r>
              <a:rPr b="0" i="1" lang="en-AU" sz="3600" spc="-1" strike="noStrike">
                <a:solidFill>
                  <a:srgbClr val="ccffff"/>
                </a:solidFill>
                <a:latin typeface="Arial"/>
                <a:ea typeface="Arial"/>
              </a:rPr>
              <a:t> - CM2010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757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 level of funding required to successfully develop and demonstrate all elements of the strategy over the next 3 -5 years is expected to be of the order of $31M, comprising so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7200"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$8.5M for fundamental, ACARP funded re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1080" indent="-457200"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$22.5M for capital purchases and operational expenditure associated with the purchase of equipment and conduct of “new technology” trials and demonstrations at mines, funded directly by 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 RDTG proposes that the fundamental research component be funded by ACARP outside routine funding processes, similar to that adopted for the Longwall Automation Project ($5M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 RDTG also proposes that a collaborative research mechanism be established to prioritise, facilitate, and coordinate the </a:t>
            </a:r>
            <a:r>
              <a:rPr b="0" i="1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M2010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8DBA-0CFF-49E2-B20D-BA0B3F4139B1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ffff"/>
                </a:solidFill>
                <a:latin typeface="Arial"/>
                <a:ea typeface="Arial"/>
              </a:rPr>
              <a:t>ROADWAY DEVELOPMENT CHALLENG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ignificant improvements in longwall production and productivity are continuing to be made, with production doubling every 10 years or thereabou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mprovements in roadway development are generally failing to keep abreast of longwall improv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Higher capacity, new generation mines are being planned – 15 Mtp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lder mines are struggling to survive and it is becoming more difficult to find solutions and successfully apply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Unlikely that continuing increases in longwall production will be sustainable if current roadway development practices and trends remain unchang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Longwall sustainabilit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429A-6611-4CD0-8436-BCCAADCD5CCD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28036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"/>
                <a:ea typeface="Arial"/>
              </a:rPr>
              <a:t>FUNDING</a:t>
            </a:r>
            <a:r>
              <a:rPr b="0" i="1" lang="en-AU" sz="3600" spc="-1" strike="noStrike">
                <a:solidFill>
                  <a:srgbClr val="ccffff"/>
                </a:solidFill>
                <a:latin typeface="Arial"/>
                <a:ea typeface="Arial"/>
              </a:rPr>
              <a:t> - CM2010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8240" y="1268280"/>
            <a:ext cx="83757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500040" y="100008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11" descr=""/>
          <p:cNvPicPr/>
          <p:nvPr/>
        </p:nvPicPr>
        <p:blipFill>
          <a:blip r:embed="rId1"/>
          <a:stretch/>
        </p:blipFill>
        <p:spPr>
          <a:xfrm>
            <a:off x="928800" y="1214280"/>
            <a:ext cx="7472160" cy="50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"/>
              </a:rPr>
              <a:t>WHY COLLABORATE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91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Arial"/>
              </a:rPr>
              <a:t>CM2010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is a multi-faceted project beyond the capacity of any individual mining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Collaboration will enable cost ($), risk and technical resources to be sh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Collaboration will enable underground mine operators to achieve the necessary step change by improving the capability of the overall 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EMs focus on global, low technology products while the Australian industry is pursuing higher technology solutions to the roadway development challe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 fragmented Australian market wont develop the critical mass necessary to leverage global OEMs to pursue local solu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2014-3795-468D-B666-B7BEF0714DBB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"/>
              </a:rPr>
              <a:t>COLLABORATION STRATEG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Discrete “enabling” technologies are separately progressed prior to consolidating research gains into an integrated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ndividual companies champion discrete technologies that best fit their strategic objectives, directly funding the associated research and communicating research findings to member companies , eg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4111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Company A - remotely operated C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4111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Company B - automated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lf drilling bolts and mesh instal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4111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Companies C &amp; D (jointly) - continuous haul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4111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Company E -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tegrated panel services and panel adva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CARP “landmark funding” is utilised to progress fundamental research where required, with in kind support and operational funding from the responsible “technology champion”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RDTG determines how research gains can be consolidated into an integrated high capacity system , and facilitates industry upta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9C38-88B9-45D7-9984-7AE6AFE4259F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"/>
              </a:rPr>
              <a:t>KEY PRINCIPL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Participating companies each agree to share the results of any </a:t>
            </a:r>
            <a:r>
              <a:rPr b="0" i="1" lang="en-AU" sz="2000" spc="-1" strike="noStrike">
                <a:solidFill>
                  <a:srgbClr val="ffffff"/>
                </a:solidFill>
                <a:latin typeface="Arial"/>
              </a:rPr>
              <a:t>CM2010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related research and/or trials they conduct, and to host site demonstrations for co-collaborato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Collaboration involves the sharing of results, not the sharing of any Intellectual Property that is developed – such IP remains with the developer although they may license co-collaborato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Progress reporting and monitoring to be coordinated by the Roadway Development Task Group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9DE8-EF7F-40DF-A605-8A5C9C82A859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"/>
              </a:rPr>
              <a:t>WHERE TO FROM HER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he ACARP Research Committee has confirmed its support for the </a:t>
            </a:r>
            <a:r>
              <a:rPr b="0" i="1" lang="en-AU" sz="2000" spc="-1" strike="noStrike">
                <a:solidFill>
                  <a:srgbClr val="ffffff"/>
                </a:solidFill>
                <a:latin typeface="Arial"/>
              </a:rPr>
              <a:t>CM2010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Project and has recommended that ACARP support  the Project as prop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he ACARP Board will review the Research Committee ‘s recommendation at its September 2008 me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ubject to the Board’s approval, the Project will kick off in October 2008 with a series of scoping workshops to define the research objectives, outcomes, and work programs for the key fundamental research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Expect that Technical Working Group will be established with direct input from mines to provide technical support  and directio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00"/>
                </a:solidFill>
                <a:latin typeface="Arial"/>
              </a:rPr>
              <a:t>ARE YOU INTERESTED IN GETTING INVOLV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161F-6B63-4DC1-BA3B-A4A72482A3D7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cffff"/>
                </a:solidFill>
                <a:latin typeface="Arial"/>
                <a:ea typeface="Arial"/>
              </a:rPr>
              <a:t>ROADWAY DEVELOPMENT TASK GROUP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Previous attempts at ‘one off ‘ Company initiatives largely fail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0680" indent="-402840">
              <a:spcBef>
                <a:spcPts val="56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poor problem scope, planning and organi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50680" indent="-402840">
              <a:spcBef>
                <a:spcPts val="56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lack of mine involvement and commi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50680" indent="-402840">
              <a:spcBef>
                <a:spcPts val="56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loss of project champ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50680" indent="-402840">
              <a:spcBef>
                <a:spcPts val="56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poor execution and pat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50680" indent="-402840">
              <a:spcBef>
                <a:spcPts val="56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lack of critical mass to gain OEM suppo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CARP considered it an industry wide problem requiring an industry wide approach to fund and resource the necessary improv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RDTG formed in 2005 to develop and direct a roadmap for targeted R&amp;D to improve roadway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nitial members included Anglo Coal, BHP Billiton, BMA Coal, Centennial Coal, Rio Tinto Coal, Thiess, and Xstrata Coal, with Austar Coal, Vale and Peabody subsequently joining the RDT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98CF-F6CC-4173-9888-19B91E18293F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ccffff"/>
                </a:solidFill>
                <a:latin typeface="Arial"/>
                <a:ea typeface="Arial"/>
              </a:rPr>
              <a:t>2005 ROADWAY DEVELOPMENT REVIEW</a:t>
            </a:r>
            <a:r>
              <a:rPr b="0" lang="en-AU" sz="2600" spc="-1" strike="noStrike">
                <a:solidFill>
                  <a:srgbClr val="ccffff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68360" y="1341360"/>
            <a:ext cx="835164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he Review was commissioned by ACARP under direction of RDTG 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dentify where past wins had been achieved and what lessons had been lear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dentify incremental and step changes in roadway development technology and systems necessary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 3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able new generation, high capacity longwall mines to be develop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366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 3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rovide productivity gains to enable existing mines to compete with the new generation mi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dentify specific R&amp;D opportunities for new technologies, equipment and associated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Build support and commitment for a targeted 7 year R&amp;D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82F7-7570-45C7-A163-AC50EE2B2ACE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7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"/>
                <a:ea typeface="Arial"/>
              </a:rPr>
              <a:t>RDTG (ACARP) INITIATIV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68360" y="1125360"/>
            <a:ext cx="8351640" cy="50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ubsequent to the 2005 Review ACARP has supported a number of initiatives, includ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3542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dertaking benchmarking studies to identify performance trends, and identify factors differentiating performance levels across m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3542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taging regular (6 monthly) roadway development operators’ workshop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1080" indent="-368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 3" charset="2"/>
              <a:buChar char="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mmunicate emerging best practice and learn from roadway development improvement initi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1080" indent="-368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 3" charset="2"/>
              <a:buChar char="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arn of developments in equipment and technology,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1080" indent="-368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 3" charset="2"/>
              <a:buChar char="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dentify potential areas for targeted re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3520" indent="-3542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ducting a review of the civil tunnelling and underground metalliferous sectors to identify technologies and practices that could potentially be applied to improve roadway development perform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D379-F326-4CD6-8813-CA77D950C7CF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7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cffff"/>
                </a:solidFill>
                <a:latin typeface="Arial"/>
                <a:ea typeface="Arial"/>
              </a:rPr>
              <a:t>RDTG (ACARP) INITIATIV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39640" y="1052640"/>
            <a:ext cx="842508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Continuing the development of self drilling bolts (SD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Developing a polymer based alternative skin reinforcement and confinement system to eliminate the installation of steel mesh and, with SDB, allow operators to be removed from the immediate 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Developing an automated system for installing SDB and mesh, including an integrated logistics and materials handling system from the supplier to the 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Developing a simulation model 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 3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able limitations of current development processes to be understoo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 3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valuate potential roadway development technologies and practices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rior to committing scarce capital and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Developing a handbook to capture the industry’s current “body of knowledge” of roadway development practice for future gen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12BA-54F4-45B6-B0F7-E85F20DF1DA6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497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600" spc="-1" strike="noStrike">
                <a:solidFill>
                  <a:srgbClr val="ccffff"/>
                </a:solidFill>
                <a:latin typeface="Arial"/>
                <a:ea typeface="Arial"/>
              </a:rPr>
              <a:t>CM2010</a:t>
            </a:r>
            <a:r>
              <a:rPr b="0" lang="en-AU" sz="3600" spc="-1" strike="noStrike">
                <a:solidFill>
                  <a:srgbClr val="ccffff"/>
                </a:solidFill>
                <a:latin typeface="Arial"/>
                <a:ea typeface="Arial"/>
              </a:rPr>
              <a:t> R&amp;D STRATEG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68360" y="1341360"/>
            <a:ext cx="835164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n late 2007 the RDTG took the initiative to develop an integrated R&amp;D strategy aimed at developing a new generation high capacity roadway development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he intention of this strategy is to provide a framework linking all roadway development related R&amp;D to a common purpose, and to develop a basis for undertaking cooperative R&amp;D between researchers, OEMs, and mine si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684360" y="4437000"/>
            <a:ext cx="8065800" cy="752400"/>
          </a:xfrm>
          <a:prstGeom prst="rect">
            <a:avLst/>
          </a:prstGeom>
          <a:ln w="0">
            <a:noFill/>
          </a:ln>
        </p:spPr>
      </p:pic>
      <p:sp>
        <p:nvSpPr>
          <p:cNvPr id="83" name="Line 7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2E08-EC1A-4E2A-988D-36DE43AA477D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3757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 integrated, remotely supervised high capacity roadway development mining system that enables 15 Mtpa longwall mines to be established and sustained with a single mining un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system will also enable mining to be safely undertaken under adverse or extreme mining conditions, thus opening up access to reserves previously considered unmin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993080" cy="746280"/>
          </a:xfrm>
          <a:prstGeom prst="rect">
            <a:avLst/>
          </a:prstGeom>
          <a:ln w="0">
            <a:noFill/>
          </a:ln>
        </p:spPr>
      </p:pic>
      <p:sp>
        <p:nvSpPr>
          <p:cNvPr id="87" name="Line 5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33DD-C97A-49A5-9B23-F1F7E2B043B3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83757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sustained performance rate of 10 metres per operating hour (MPOH) for 20 hours per day, based on installing primary support of 6 roof and 2 rib bolts per metre advance together with roof and rib confinement measures (mes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mproved health and safety through reduced exposure to hazards in the immediate face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991640" cy="746280"/>
          </a:xfrm>
          <a:prstGeom prst="rect">
            <a:avLst/>
          </a:prstGeom>
          <a:ln w="0">
            <a:noFill/>
          </a:ln>
        </p:spPr>
      </p:pic>
      <p:sp>
        <p:nvSpPr>
          <p:cNvPr id="91" name="Line 5"/>
          <p:cNvSpPr/>
          <p:nvPr/>
        </p:nvSpPr>
        <p:spPr>
          <a:xfrm>
            <a:off x="468360" y="1125360"/>
            <a:ext cx="820728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02:33:58Z</dcterms:created>
  <dc:creator>ebaafi</dc:creator>
  <dc:description/>
  <dc:language>en-US</dc:language>
  <cp:lastModifiedBy>Gary Gibson</cp:lastModifiedBy>
  <dcterms:modified xsi:type="dcterms:W3CDTF">2008-08-28T06:05:52Z</dcterms:modified>
  <cp:revision>21</cp:revision>
  <dc:subject/>
  <dc:title>mmmmmmmm</dc:title>
</cp:coreProperties>
</file>