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8F1AB-C712-4A71-BE4D-9F7C9F0A18BF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E0BE6-FFBD-4CAC-862C-3A7149B10FDD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44FC7-8822-4C87-B996-156CE2870BE2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2010 is a multi faceted project compris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28584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y enabling strateg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28584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derpinned by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organisation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technical competen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28584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consolidated through project management and engagement strateg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is clearly beyond the scope of any individual company or ACAR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DING CM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3E8E1-FE62-4CE2-B9FE-A6F5AD81F501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0105C-BE69-49AD-A446-13F5DB750C7A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AFC4E-4389-4DE8-AF99-85E6736FF03A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DF41-2A37-48BD-9B4B-8E67A011FF19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6E5F2-77C9-479C-B4BC-98C686BE04C5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5CA9F-2060-4544-AE62-405519D75325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CA1AA-47BB-4018-A16B-EAD03A31A497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B7CF6-BD94-4A12-87C5-27B7FCB64EF4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06153-9B5F-4EF2-AA90-DC5C62D6F0EC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46094-E72C-4D43-B63D-72F47BF76870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DB042-72A9-4454-A6AB-7F407FCDB8BA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nticipated that discrete technologies will be championed by individual companies, or jointly by companies, before consolidation into an integrated system, which is illustrated in the slide ab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CARP landmark funding utilised to progress fundamental research with direct and in kind support provided by respective champion (compan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OLLABORATION STRATEGY (co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5C428-2741-4729-AE07-A8905204DA75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CD6B7-9F1E-4555-8A65-3FA9F5444BB7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03F75-EDA6-4F51-A97D-14D03B75BC87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5E114-83DE-4829-97CE-3C00227A39D5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E4707-61FD-453E-AB13-7B5088B7F4A9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63E1-BC1B-4446-8706-28FE24CAE1EE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23F8B-7D6B-4DBA-B6E0-A68409C5ED0E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7EE3E-5720-44C5-A798-020A7BD228D9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DE89B-7E08-40F8-8CC5-4D1BE74A13DB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0C13-7F0F-40D3-BE9C-916853D8A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9063-32B2-4B37-BAB1-68628162F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E77E-8E20-4FAF-9EA1-60FA9C155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5D89-D7E7-4DEF-A49B-ABB95614E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BD55-AF0F-4496-8B4E-A91F6E573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6F3F-DDC7-4979-8F8E-C46B77A5A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BED9-54DA-477C-8E19-2CD6F8B38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6708-DDF5-4331-81BD-2D4FE7A3E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7AD8-7097-4E62-9442-1A5EB4106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E822-2470-4491-A4F7-362263B7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4B5F-86FB-47A4-A7C1-FF0B283E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72E7-E363-4FCA-BE37-DB0A3B39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74E11-C822-4FC0-B5E0-FFE68307F539}" type="slidenum">
              <a:rPr b="0" lang="en-A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600" spc="-1" strike="noStrike">
                <a:solidFill>
                  <a:srgbClr val="ffffff"/>
                </a:solidFill>
                <a:latin typeface="Arial"/>
              </a:rPr>
              <a:t>CM2010</a:t>
            </a:r>
            <a:r>
              <a:rPr b="0" lang="en-AU" sz="3600" spc="-1" strike="noStrike">
                <a:solidFill>
                  <a:srgbClr val="ffffff"/>
                </a:solidFill>
                <a:latin typeface="Arial"/>
              </a:rPr>
              <a:t> IMPLEMENTATION STRATEGY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10920" y="4292640"/>
            <a:ext cx="8064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Greg Pawley (Xstrata Coal), Bob Miller (Centennial Coal) and John Coughlan (Kestre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Roadway Development Task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August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1752480" y="380880"/>
            <a:ext cx="245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ccffff"/>
                </a:solidFill>
                <a:latin typeface="Arial"/>
              </a:rPr>
              <a:t>ACAR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3"/>
          <p:cNvSpPr/>
          <p:nvPr/>
        </p:nvSpPr>
        <p:spPr>
          <a:xfrm>
            <a:off x="2843280" y="1268280"/>
            <a:ext cx="5538600" cy="40824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4"/>
          <p:cNvSpPr/>
          <p:nvPr/>
        </p:nvSpPr>
        <p:spPr>
          <a:xfrm>
            <a:off x="2851560" y="1285920"/>
            <a:ext cx="54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66"/>
                </a:solidFill>
                <a:latin typeface="Arial"/>
              </a:rPr>
              <a:t>Australian Coal Association Research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Line 15"/>
          <p:cNvSpPr/>
          <p:nvPr/>
        </p:nvSpPr>
        <p:spPr>
          <a:xfrm flipH="1">
            <a:off x="2050560" y="1268280"/>
            <a:ext cx="792360" cy="0"/>
          </a:xfrm>
          <a:prstGeom prst="line">
            <a:avLst/>
          </a:prstGeom>
          <a:ln w="190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Line 16"/>
          <p:cNvSpPr/>
          <p:nvPr/>
        </p:nvSpPr>
        <p:spPr>
          <a:xfrm flipV="1">
            <a:off x="2050920" y="765000"/>
            <a:ext cx="0" cy="503280"/>
          </a:xfrm>
          <a:prstGeom prst="line">
            <a:avLst/>
          </a:prstGeom>
          <a:ln w="190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9640" y="1268280"/>
            <a:ext cx="837576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y end 2010, demonstrate key enabling component technologies that will form the basis of an integrated high capacity mining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y end 2010, establish programs that enable the key organisational and technical competencies required to support a high capacity mining system to be developed throughout the indust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y end 2012, demonstrate an integrated, remotely supervised high capacity roadway development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rogressively reduce the physical demands on personnel engaged in the development process and reduce their exposure to workplace hazard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7958160" cy="743040"/>
          </a:xfrm>
          <a:prstGeom prst="rect">
            <a:avLst/>
          </a:prstGeom>
          <a:ln w="0">
            <a:noFill/>
          </a:ln>
        </p:spPr>
      </p:pic>
      <p:sp>
        <p:nvSpPr>
          <p:cNvPr id="94" name="Line 4"/>
          <p:cNvSpPr/>
          <p:nvPr/>
        </p:nvSpPr>
        <p:spPr>
          <a:xfrm>
            <a:off x="468360" y="1125360"/>
            <a:ext cx="820728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AF800-98F1-43B1-9BB3-AA7075D0BD09}" type="slidenum">
              <a:rPr b="0" lang="en-A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3534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ccffff"/>
                </a:solidFill>
                <a:latin typeface="Arial"/>
                <a:ea typeface="Arial"/>
              </a:rPr>
              <a:t>KEY ELEMENTS - </a:t>
            </a:r>
            <a:r>
              <a:rPr b="0" i="1" lang="en-AU" sz="3000" spc="-1" strike="noStrike">
                <a:solidFill>
                  <a:srgbClr val="ccffff"/>
                </a:solidFill>
                <a:latin typeface="Arial"/>
                <a:ea typeface="Arial"/>
              </a:rPr>
              <a:t>CM2010</a:t>
            </a:r>
            <a:r>
              <a:rPr b="0" lang="en-AU" sz="3000" spc="-1" strike="noStrike">
                <a:solidFill>
                  <a:srgbClr val="ccffff"/>
                </a:solidFill>
                <a:latin typeface="Arial"/>
                <a:ea typeface="Arial"/>
              </a:rPr>
              <a:t> R&amp;D STRATEGY </a:t>
            </a:r>
            <a:endParaRPr b="0" lang="en-US" sz="3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37576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Key enabling technologies underpinned by organisational and technical competenc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roject management of R&amp;D and engagement of the corporate sector is essential to bring the </a:t>
            </a:r>
            <a:r>
              <a:rPr b="0" i="1" lang="en-A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M2010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R&amp;D strategy to fru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487440" y="3143160"/>
            <a:ext cx="8656560" cy="2803680"/>
          </a:xfrm>
          <a:prstGeom prst="rect">
            <a:avLst/>
          </a:prstGeom>
          <a:ln w="0">
            <a:noFill/>
          </a:ln>
        </p:spPr>
      </p:pic>
      <p:sp>
        <p:nvSpPr>
          <p:cNvPr id="100" name="Line 6"/>
          <p:cNvSpPr/>
          <p:nvPr/>
        </p:nvSpPr>
        <p:spPr>
          <a:xfrm>
            <a:off x="468360" y="1125360"/>
            <a:ext cx="820728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Box 8"/>
          <p:cNvSpPr/>
          <p:nvPr/>
        </p:nvSpPr>
        <p:spPr>
          <a:xfrm>
            <a:off x="1571760" y="4071960"/>
            <a:ext cx="28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0000"/>
                </a:solidFill>
                <a:latin typeface="Arial"/>
              </a:rPr>
              <a:t>Key enabling technologi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Oval 9"/>
          <p:cNvSpPr/>
          <p:nvPr/>
        </p:nvSpPr>
        <p:spPr>
          <a:xfrm>
            <a:off x="3286080" y="-1357200"/>
            <a:ext cx="2000160" cy="6072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4600" indent="-44460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Oval 11"/>
          <p:cNvSpPr/>
          <p:nvPr/>
        </p:nvSpPr>
        <p:spPr>
          <a:xfrm>
            <a:off x="500040" y="3214800"/>
            <a:ext cx="4714920" cy="1214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4600" indent="-44460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Oval 12"/>
          <p:cNvSpPr/>
          <p:nvPr/>
        </p:nvSpPr>
        <p:spPr>
          <a:xfrm>
            <a:off x="428760" y="4429080"/>
            <a:ext cx="4714920" cy="14288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4600" indent="-44460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Box 13"/>
          <p:cNvSpPr/>
          <p:nvPr/>
        </p:nvSpPr>
        <p:spPr>
          <a:xfrm>
            <a:off x="714240" y="5143680"/>
            <a:ext cx="407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0000"/>
                </a:solidFill>
                <a:latin typeface="Arial"/>
              </a:rPr>
              <a:t>Organisational and technical competenci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764E3-D5AE-4297-9A01-05D4D619619E}" type="slidenum">
              <a:rPr b="0" lang="en-A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28036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ccffff"/>
              </a:solidFill>
              <a:latin typeface="Arial"/>
              <a:ea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175600" cy="501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17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Key Enabling Technolog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1720" indent="-35172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velop 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“self-steering” technologies 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nd systems that enables mining equipment t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400" indent="-351720">
              <a:spcBef>
                <a:spcPts val="1500"/>
              </a:spcBef>
              <a:buClr>
                <a:srgbClr val="ffffff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ine roadways in accordance with predetermined survey contro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400" indent="-351720">
              <a:spcBef>
                <a:spcPts val="1500"/>
              </a:spcBef>
              <a:buClr>
                <a:srgbClr val="ffffff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aintain both azimuth, horizon and grade control within a variable seam horizon, a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400" indent="-351720">
              <a:spcBef>
                <a:spcPts val="1500"/>
              </a:spcBef>
              <a:buClr>
                <a:srgbClr val="ffffff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otally </a:t>
            </a:r>
            <a:r>
              <a:rPr b="0" lang="en-AU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automate the cutting and loading cycle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(including mining breakaways) thus enabling equipment to be remotely supervi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1720" indent="-35172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equires a combination of fundamental and applied research building upon Highwall Mining and Longwall Automation technolog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1720" indent="-35172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SIRO Queensland Centre for Advanced Technologies has demonstrated capabil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Line 4"/>
          <p:cNvSpPr/>
          <p:nvPr/>
        </p:nvSpPr>
        <p:spPr>
          <a:xfrm>
            <a:off x="611280" y="1052640"/>
            <a:ext cx="792468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13" descr=""/>
          <p:cNvPicPr/>
          <p:nvPr/>
        </p:nvPicPr>
        <p:blipFill>
          <a:blip r:embed="rId1"/>
          <a:stretch/>
        </p:blipFill>
        <p:spPr>
          <a:xfrm>
            <a:off x="571680" y="214200"/>
            <a:ext cx="8065800" cy="7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F999A-03CA-418E-8606-24DAC0DFE768}" type="slidenum">
              <a:rPr b="0" lang="en-A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28036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ccffff"/>
              </a:solidFill>
              <a:latin typeface="Arial"/>
              <a:ea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37576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Key Enabling Technolog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8920" indent="-35892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Develop systems that enables the </a:t>
            </a:r>
            <a:r>
              <a:rPr b="0" lang="en-AU" sz="2200" spc="-1" strike="noStrike">
                <a:solidFill>
                  <a:srgbClr val="ffff00"/>
                </a:solidFill>
                <a:latin typeface="Arial"/>
              </a:rPr>
              <a:t>automated installation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of conventional resin anchored </a:t>
            </a:r>
            <a:r>
              <a:rPr b="0" lang="en-AU" sz="2200" spc="-1" strike="noStrike">
                <a:solidFill>
                  <a:srgbClr val="ffff00"/>
                </a:solidFill>
                <a:latin typeface="Arial"/>
              </a:rPr>
              <a:t>bolts, self drilling bolts, and roof and rib mesh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, and to feed bolts and mesh to the installation hardware without direct operator involv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66800" indent="-366840">
              <a:spcBef>
                <a:spcPts val="1500"/>
              </a:spcBef>
              <a:buClr>
                <a:srgbClr val="ffffff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ll require a combination of fundamental and applied research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66800" indent="-366840">
              <a:spcBef>
                <a:spcPts val="1500"/>
              </a:spcBef>
              <a:buClr>
                <a:srgbClr val="ffffff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oy have prototype carousel bolter and Sandvik have operational carousel bolters (metaliferous sector) that could provide basic equipment platform, whilst CSIRO has developed a range of technologies for the ACBM that could potentially be appli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66800" indent="-366840">
              <a:spcBef>
                <a:spcPts val="1500"/>
              </a:spcBef>
              <a:buClr>
                <a:srgbClr val="ffffff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OW recently awarded ACARP funding to pursue this initia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4"/>
          <p:cNvSpPr/>
          <p:nvPr/>
        </p:nvSpPr>
        <p:spPr>
          <a:xfrm>
            <a:off x="611280" y="1052640"/>
            <a:ext cx="792468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13" descr=""/>
          <p:cNvPicPr/>
          <p:nvPr/>
        </p:nvPicPr>
        <p:blipFill>
          <a:blip r:embed="rId1"/>
          <a:stretch/>
        </p:blipFill>
        <p:spPr>
          <a:xfrm>
            <a:off x="571680" y="214200"/>
            <a:ext cx="8065800" cy="7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EC23B-57BC-40C3-93BF-E017A7E4C716}" type="slidenum">
              <a:rPr b="0" lang="en-A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28036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ccffff"/>
              </a:solidFill>
              <a:latin typeface="Arial"/>
              <a:ea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37576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Key Enabling Technolog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8920" indent="-35892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Develop </a:t>
            </a:r>
            <a:r>
              <a:rPr b="0" lang="en-AU" sz="2200" spc="-1" strike="noStrike">
                <a:solidFill>
                  <a:srgbClr val="ffff00"/>
                </a:solidFill>
                <a:latin typeface="Arial"/>
              </a:rPr>
              <a:t>alternative skin reinforcement and confinement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technologies and systems that eliminates the installation of roof and rib mesh and provides an enhanced roof and skin reinforcement mediu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-366840">
              <a:spcBef>
                <a:spcPts val="1500"/>
              </a:spcBef>
              <a:buClr>
                <a:srgbClr val="ffffff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ll require a combination of fundamental and applied research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-366840">
              <a:spcBef>
                <a:spcPts val="1500"/>
              </a:spcBef>
              <a:buClr>
                <a:srgbClr val="ffffff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OW awarded ACARP funding to pursue this initiative in 200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-366840">
              <a:spcBef>
                <a:spcPts val="1500"/>
              </a:spcBef>
              <a:buClr>
                <a:srgbClr val="ffffff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 research shows considerable promi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Line 4"/>
          <p:cNvSpPr/>
          <p:nvPr/>
        </p:nvSpPr>
        <p:spPr>
          <a:xfrm>
            <a:off x="611280" y="1052640"/>
            <a:ext cx="792468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13" descr=""/>
          <p:cNvPicPr/>
          <p:nvPr/>
        </p:nvPicPr>
        <p:blipFill>
          <a:blip r:embed="rId1"/>
          <a:stretch/>
        </p:blipFill>
        <p:spPr>
          <a:xfrm>
            <a:off x="571680" y="214200"/>
            <a:ext cx="8065800" cy="7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E232A-1514-4298-9662-0EE77E59D118}" type="slidenum">
              <a:rPr b="0" lang="en-A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28036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ccffff"/>
              </a:solidFill>
              <a:latin typeface="Arial"/>
              <a:ea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37576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Key Enabling Technolog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8920" indent="-3589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Demonstrate, adapt and refine </a:t>
            </a:r>
            <a:r>
              <a:rPr b="0" lang="en-AU" sz="2200" spc="-1" strike="noStrike">
                <a:solidFill>
                  <a:srgbClr val="ffff00"/>
                </a:solidFill>
                <a:latin typeface="Arial"/>
              </a:rPr>
              <a:t>continuous haulage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technologies and systems currently being used overseas for use in Australian longwall mine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366840">
              <a:spcBef>
                <a:spcPts val="1500"/>
              </a:spcBef>
              <a:buClr>
                <a:srgbClr val="ffffff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wo continuous haulage systems currently being operated or commissioned in Australian mines, with a third system expected to be ordered 3Q 200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366840">
              <a:spcBef>
                <a:spcPts val="1500"/>
              </a:spcBef>
              <a:buClr>
                <a:srgbClr val="ffffff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cted to be largely driven by mine sites, with support from and feedback to RDT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366840">
              <a:spcBef>
                <a:spcPts val="1500"/>
              </a:spcBef>
              <a:buClr>
                <a:srgbClr val="ffffff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ll predominantly require operational improvement to apply existing technologies with some applied research required to integrate into a remotely supervised, high capacity mining syste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4"/>
          <p:cNvSpPr/>
          <p:nvPr/>
        </p:nvSpPr>
        <p:spPr>
          <a:xfrm>
            <a:off x="611280" y="1052640"/>
            <a:ext cx="792468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13" descr=""/>
          <p:cNvPicPr/>
          <p:nvPr/>
        </p:nvPicPr>
        <p:blipFill>
          <a:blip r:embed="rId1"/>
          <a:stretch/>
        </p:blipFill>
        <p:spPr>
          <a:xfrm>
            <a:off x="571680" y="214200"/>
            <a:ext cx="8065800" cy="7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892D5-92C5-4CBD-9E51-D91A80B3DBA8}" type="slidenum">
              <a:rPr b="0" lang="en-A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28036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ccffff"/>
              </a:solidFill>
              <a:latin typeface="Arial"/>
              <a:ea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37576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Key Enabling Technolog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8920" indent="-3589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Develop technologies and systems that enables </a:t>
            </a:r>
            <a:r>
              <a:rPr b="0" lang="en-AU" sz="2200" spc="-1" strike="noStrike">
                <a:solidFill>
                  <a:srgbClr val="ffff00"/>
                </a:solidFill>
                <a:latin typeface="Arial"/>
              </a:rPr>
              <a:t>face services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to be extended within the 3 minute cut, load support cycle and without direct operator involvemen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366840">
              <a:spcBef>
                <a:spcPts val="1500"/>
              </a:spcBef>
              <a:buClr>
                <a:srgbClr val="ffffff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monorail system currently being reinstalled at Mandalong with recent orders placed for 3 new monorail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366840">
              <a:spcBef>
                <a:spcPts val="1500"/>
              </a:spcBef>
              <a:buClr>
                <a:srgbClr val="ffffff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cted to be largely driven by mine sites, with support from and feedback to RDT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366840">
              <a:spcBef>
                <a:spcPts val="1500"/>
              </a:spcBef>
              <a:buClr>
                <a:srgbClr val="ffffff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ll predominantly require operational improvement to apply existing technologies with some applied research required to automate installation of monor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4"/>
          <p:cNvSpPr/>
          <p:nvPr/>
        </p:nvSpPr>
        <p:spPr>
          <a:xfrm>
            <a:off x="611280" y="1052640"/>
            <a:ext cx="792468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13" descr=""/>
          <p:cNvPicPr/>
          <p:nvPr/>
        </p:nvPicPr>
        <p:blipFill>
          <a:blip r:embed="rId1"/>
          <a:stretch/>
        </p:blipFill>
        <p:spPr>
          <a:xfrm>
            <a:off x="571680" y="214200"/>
            <a:ext cx="8065800" cy="7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4"/>
          <p:cNvSpPr/>
          <p:nvPr/>
        </p:nvSpPr>
        <p:spPr>
          <a:xfrm>
            <a:off x="428760" y="6245280"/>
            <a:ext cx="5591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7858080" y="6245280"/>
            <a:ext cx="82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F0576-53B0-49D2-850F-1CE39495AA33}" type="slidenum">
              <a:rPr b="0" lang="en-A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28036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ccffff"/>
              </a:solidFill>
              <a:latin typeface="Arial"/>
              <a:ea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37576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Key Enabling Technolog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8920" indent="-3589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Develop technologies and systems that enables </a:t>
            </a:r>
            <a:r>
              <a:rPr b="0" lang="en-AU" sz="2200" spc="-1" strike="noStrike">
                <a:solidFill>
                  <a:srgbClr val="ffff00"/>
                </a:solidFill>
                <a:latin typeface="Arial"/>
              </a:rPr>
              <a:t>panel services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to be advanced on a continuous basis in parallel with mining operations or alternatively, within scheduled maintenance window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366840">
              <a:spcBef>
                <a:spcPts val="1500"/>
              </a:spcBef>
              <a:buClr>
                <a:srgbClr val="ffffff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cted to be largely driven by mine sites, with support from and feedback to RDT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366840">
              <a:spcBef>
                <a:spcPts val="1500"/>
              </a:spcBef>
              <a:buClr>
                <a:srgbClr val="ffffff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 require some applied research to develop extensible conveyors and integrate major services (H/T power reticulation, transformers, etc) into a services management syste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366840">
              <a:spcBef>
                <a:spcPts val="1500"/>
              </a:spcBef>
              <a:buClr>
                <a:srgbClr val="ffffff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 also require some applied research to develop more efficient mine compliant services (eg; pipewor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4"/>
          <p:cNvSpPr/>
          <p:nvPr/>
        </p:nvSpPr>
        <p:spPr>
          <a:xfrm>
            <a:off x="611280" y="1052640"/>
            <a:ext cx="792468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13" descr=""/>
          <p:cNvPicPr/>
          <p:nvPr/>
        </p:nvPicPr>
        <p:blipFill>
          <a:blip r:embed="rId1"/>
          <a:stretch/>
        </p:blipFill>
        <p:spPr>
          <a:xfrm>
            <a:off x="571680" y="214200"/>
            <a:ext cx="8065800" cy="7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428760" y="6245280"/>
            <a:ext cx="5591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Slide Number Placeholder 5"/>
          <p:cNvSpPr/>
          <p:nvPr/>
        </p:nvSpPr>
        <p:spPr>
          <a:xfrm>
            <a:off x="7858080" y="6245280"/>
            <a:ext cx="82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C32BF-F54D-42BF-924E-84E5DC708CDC}" type="slidenum">
              <a:rPr b="0" lang="en-A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28036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600" spc="-1" strike="noStrike">
                <a:solidFill>
                  <a:srgbClr val="ccffff"/>
                </a:solidFill>
                <a:latin typeface="Arial"/>
                <a:ea typeface="Arial"/>
              </a:rPr>
              <a:t>Each of 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99680" y="1143000"/>
            <a:ext cx="82868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5892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ffffff"/>
                </a:solidFill>
                <a:latin typeface="Arial"/>
              </a:rPr>
              <a:t>The roadway development system is built on a number of independent subsystems that remain largely unchanged since their inception some 40 years ago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58880" indent="-358920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With few exceptions, new technologies have been adapted to existing machine designs rather than result in any fundamental review of machine desig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8920" indent="-35892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ffffff"/>
                </a:solidFill>
                <a:latin typeface="Arial"/>
              </a:rPr>
              <a:t>The integration of emerging enabling technologies into an integrated, remotely supervised high capacity mining system is expected to pose a significant challenge to researchers and OEM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58880" indent="-358920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Adoption of an industry standard communications protocol will be a prerequisite to system integration (as in Longwall autom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58880" indent="-358920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Applied research and design simulation will be necessary to integrate the emerging technologies and subsystems, similar to that achieved with TBMs in the tunnelling sec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8920" indent="-35892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ffffff"/>
                </a:solidFill>
                <a:latin typeface="Arial"/>
              </a:rPr>
              <a:t>UOW and CSIRO are developing a collaborative framework to enable their core expertise to be applied to the task, together with participating OEMs and other key researcher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611280" y="1052640"/>
            <a:ext cx="792468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13" descr=""/>
          <p:cNvPicPr/>
          <p:nvPr/>
        </p:nvPicPr>
        <p:blipFill>
          <a:blip r:embed="rId1"/>
          <a:stretch/>
        </p:blipFill>
        <p:spPr>
          <a:xfrm>
            <a:off x="571680" y="214200"/>
            <a:ext cx="8065800" cy="7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5135F-AC08-4056-B496-EECF9731A2EA}" type="slidenum">
              <a:rPr b="0" lang="en-A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56760" y="285480"/>
            <a:ext cx="828036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ccffff"/>
                </a:solidFill>
                <a:latin typeface="Arial"/>
                <a:ea typeface="Arial"/>
              </a:rPr>
              <a:t>FUNDING</a:t>
            </a:r>
            <a:r>
              <a:rPr b="0" i="1" lang="en-AU" sz="3600" spc="-1" strike="noStrike">
                <a:solidFill>
                  <a:srgbClr val="ccffff"/>
                </a:solidFill>
                <a:latin typeface="Arial"/>
                <a:ea typeface="Arial"/>
              </a:rPr>
              <a:t> - CM2010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37576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he level of funding required to successfully develop and demonstrate all elements of the strategy over the next 3 -5 years is expected to be of the order of $31M, comprising som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81080" indent="-457200"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$8.5M for fundamental, ACARP funded resear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81080" indent="-457200"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$22.5M for capital purchases and operational expenditure associated with the purchase of equipment and conduct of “new technology” trials and demonstrations at mines, funded directly by mi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he RDTG proposes that the fundamental research component be funded by ACARP outside routine funding processes, similar to that adopted for the Longwall Automation Project ($5M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he RDTG also proposes that a collaborative research mechanism be established to prioritise, facilitate, and coordinate the </a:t>
            </a:r>
            <a:r>
              <a:rPr b="0" i="1" lang="en-A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M2010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Pro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80000"/>
              </a:lnSpc>
              <a:spcBef>
                <a:spcPts val="16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5"/>
          <p:cNvSpPr/>
          <p:nvPr/>
        </p:nvSpPr>
        <p:spPr>
          <a:xfrm>
            <a:off x="468360" y="1125360"/>
            <a:ext cx="820728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61FAF-A008-45C0-B634-3E296AB9FB14}" type="slidenum">
              <a:rPr b="0" lang="en-A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cffff"/>
                </a:solidFill>
                <a:latin typeface="Arial"/>
                <a:ea typeface="Arial"/>
              </a:rPr>
              <a:t>ROADWAY DEVELOPMENT CHALLENG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Significant improvements in longwall production and productivity are continuing to be made, with production doubling every 10 years or thereabou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Improvements in roadway development are generally failing to keep abreast of longwall improv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Higher capacity, new generation mines are being planned – 15 Mtp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Older mines are struggling to survive and it is becoming more difficult to find solutions and successfully apply th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Unlikely that continuing increases in longwall production will be sustainable if current roadway development practices and trends remain unchang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Longwall sustainability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Line 4"/>
          <p:cNvSpPr/>
          <p:nvPr/>
        </p:nvSpPr>
        <p:spPr>
          <a:xfrm>
            <a:off x="468360" y="1125360"/>
            <a:ext cx="820728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8F1B5-6C25-4EE7-BDCD-4389A4EE8193}" type="slidenum">
              <a:rPr b="0" lang="en-A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28036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ccffff"/>
                </a:solidFill>
                <a:latin typeface="Arial"/>
                <a:ea typeface="Arial"/>
              </a:rPr>
              <a:t>FUNDING</a:t>
            </a:r>
            <a:r>
              <a:rPr b="0" i="1" lang="en-AU" sz="3600" spc="-1" strike="noStrike">
                <a:solidFill>
                  <a:srgbClr val="ccffff"/>
                </a:solidFill>
                <a:latin typeface="Arial"/>
                <a:ea typeface="Arial"/>
              </a:rPr>
              <a:t> - CM2010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8240" y="1268280"/>
            <a:ext cx="837576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0">
              <a:lnSpc>
                <a:spcPct val="8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4"/>
          <p:cNvSpPr/>
          <p:nvPr/>
        </p:nvSpPr>
        <p:spPr>
          <a:xfrm>
            <a:off x="500040" y="1000080"/>
            <a:ext cx="820728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11" descr=""/>
          <p:cNvPicPr/>
          <p:nvPr/>
        </p:nvPicPr>
        <p:blipFill>
          <a:blip r:embed="rId1"/>
          <a:stretch/>
        </p:blipFill>
        <p:spPr>
          <a:xfrm>
            <a:off x="928800" y="1214280"/>
            <a:ext cx="7472160" cy="50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ccffff"/>
                </a:solidFill>
                <a:latin typeface="Arial"/>
              </a:rPr>
              <a:t>WHY COLLABORATE?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915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ffffff"/>
                </a:solidFill>
                <a:latin typeface="Arial"/>
              </a:rPr>
              <a:t>CM2010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is a multi-faceted project beyond the capacity of any individual mining compa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Collaboration will enable cost ($), risk and technical resources to be sha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Collaboration will enable underground mine operators to achieve the necessary step change by improving the capability of the overall syste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OEMs focus on global, low technology products while the Australian industry is pursuing higher technology solutions to the roadway development challen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A fragmented Australian market wont develop the critical mass necessary to leverage global OEMs to pursue local solution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4"/>
          <p:cNvSpPr/>
          <p:nvPr/>
        </p:nvSpPr>
        <p:spPr>
          <a:xfrm>
            <a:off x="468360" y="1125360"/>
            <a:ext cx="820728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8CDE4-B727-4E59-B47D-34377EBE4758}" type="slidenum">
              <a:rPr b="0" lang="en-A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ccffff"/>
                </a:solidFill>
                <a:latin typeface="Arial"/>
              </a:rPr>
              <a:t>COLLABORATION STRATEGY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218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Discrete “enabling” technologies are separately progressed prior to consolidating research gains into an integrated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Individual companies champion discrete technologies that best fit their strategic objectives, directly funding the associated research and communicating research findings to member companies , eg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4111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Company A - remotely operated C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4111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Company B - automated 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elf drilling bolts and mesh install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4111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Companies C &amp; D (jointly) - continuous haul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4111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Company E - 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ntegrated panel services and panel advan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ACARP “landmark funding” is utilised to progress fundamental research where required, with in kind support and operational funding from the responsible “technology champion” compa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RDTG determines how research gains can be consolidated into an integrated high capacity system , and facilitates industry uptak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4"/>
          <p:cNvSpPr/>
          <p:nvPr/>
        </p:nvSpPr>
        <p:spPr>
          <a:xfrm>
            <a:off x="468360" y="1125360"/>
            <a:ext cx="820728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B6524-05BE-4AE1-B150-31F7ACD7D848}" type="slidenum">
              <a:rPr b="0" lang="en-A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ccffff"/>
                </a:solidFill>
                <a:latin typeface="Arial"/>
              </a:rPr>
              <a:t>KEY PRINCIPLES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Participating companies each agree to share the results of any </a:t>
            </a:r>
            <a:r>
              <a:rPr b="0" i="1" lang="en-AU" sz="2000" spc="-1" strike="noStrike">
                <a:solidFill>
                  <a:srgbClr val="ffffff"/>
                </a:solidFill>
                <a:latin typeface="Arial"/>
              </a:rPr>
              <a:t>CM2010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related research and/or trials they conduct, and to host site demonstrations for co-collaborator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Collaboration involves the sharing of results, not the sharing of any Intellectual Property that is developed – such IP remains with the developer although they may license co-collaborator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Progress reporting and monitoring to be coordinated by the Roadway Development Task Group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4"/>
          <p:cNvSpPr/>
          <p:nvPr/>
        </p:nvSpPr>
        <p:spPr>
          <a:xfrm>
            <a:off x="468360" y="1125360"/>
            <a:ext cx="820728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132B4-7FC7-4EAF-86E2-17798D1385DF}" type="slidenum">
              <a:rPr b="0" lang="en-A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ccffff"/>
                </a:solidFill>
                <a:latin typeface="Arial"/>
              </a:rPr>
              <a:t>WHERE TO FROM HERE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The ACARP Research Committee has confirmed its support for the </a:t>
            </a:r>
            <a:r>
              <a:rPr b="0" i="1" lang="en-AU" sz="2000" spc="-1" strike="noStrike">
                <a:solidFill>
                  <a:srgbClr val="ffffff"/>
                </a:solidFill>
                <a:latin typeface="Arial"/>
              </a:rPr>
              <a:t>CM2010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Project and has recommended that ACARP support  the Project as propos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The ACARP Board will review the Research Committee ‘s recommendation at its September 2008 mee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Subject to the Board’s approval, the Project will kick off in October 2008 with a series of scoping workshops to define the research objectives, outcomes, and work programs for the key fundamental research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Expect that Technical Working Group will be established with direct input from mines to provide technical support  and direction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2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ARE YOU INTERESTED IN GETTING INVOLV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4"/>
          <p:cNvSpPr/>
          <p:nvPr/>
        </p:nvSpPr>
        <p:spPr>
          <a:xfrm>
            <a:off x="468360" y="1125360"/>
            <a:ext cx="820728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C139E-03EC-4801-B4C6-E078338EC194}" type="slidenum">
              <a:rPr b="0" lang="en-A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ccffff"/>
                </a:solidFill>
                <a:latin typeface="Arial"/>
                <a:ea typeface="Arial"/>
              </a:rPr>
              <a:t>ROADWAY DEVELOPMENT TASK GROUP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Previous attempts at ‘one off ‘ Company initiatives largely faile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50680" indent="-402840">
              <a:spcBef>
                <a:spcPts val="56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poor problem scope, planning and organis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50680" indent="-402840">
              <a:spcBef>
                <a:spcPts val="56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lack of mine involvement and commit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50680" indent="-402840">
              <a:spcBef>
                <a:spcPts val="56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loss of project champ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50680" indent="-402840">
              <a:spcBef>
                <a:spcPts val="56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poor execution and pati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50680" indent="-402840">
              <a:spcBef>
                <a:spcPts val="56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lack of critical mass to gain OEM suppor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ACARP considered it an industry wide problem requiring an industry wide approach to fund and resource the necessary improv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RDTG formed in 2005 to develop and direct a roadmap for targeted R&amp;D to improve roadway develo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Initial members included Anglo Coal, BHP Billiton, BMA Coal, Centennial Coal, Rio Tinto Coal, Thiess, and Xstrata Coal, with Austar Coal, Vale and Peabody subsequently joining the RDT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Line 4"/>
          <p:cNvSpPr/>
          <p:nvPr/>
        </p:nvSpPr>
        <p:spPr>
          <a:xfrm>
            <a:off x="468360" y="1125360"/>
            <a:ext cx="820728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B012E-22E1-4CFD-AA08-62EC6CB10B6B}" type="slidenum">
              <a:rPr b="0" lang="en-A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4978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ccffff"/>
                </a:solidFill>
                <a:latin typeface="Arial"/>
                <a:ea typeface="Arial"/>
              </a:rPr>
              <a:t>2005 ROADWAY DEVELOPMENT REVIEW</a:t>
            </a:r>
            <a:r>
              <a:rPr b="0" lang="en-AU" sz="2600" spc="-1" strike="noStrike">
                <a:solidFill>
                  <a:srgbClr val="ccffff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9640" y="1371240"/>
            <a:ext cx="8375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468360" y="1341360"/>
            <a:ext cx="8351640" cy="61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The Review was commissioned by ACARP under direction of RDTG t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Identify where past wins had been achieved and what lessons had been lear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Identify incremental and step changes in roadway development technology and systems necessary to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-366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Wingdings 3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nable new generation, high capacity longwall mines to be develop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-366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Wingdings 3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rovide productivity gains to enable existing mines to compete with the new generation min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Identify specific R&amp;D opportunities for new technologies, equipment and associated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Build support and commitment for a targeted 7 year R&amp;D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Line 6"/>
          <p:cNvSpPr/>
          <p:nvPr/>
        </p:nvSpPr>
        <p:spPr>
          <a:xfrm>
            <a:off x="468360" y="1125360"/>
            <a:ext cx="820728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5CC0C-5DEE-49A0-A5F9-90EF210C9C60}" type="slidenum">
              <a:rPr b="0" lang="en-A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4978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ccffff"/>
                </a:solidFill>
                <a:latin typeface="Arial"/>
                <a:ea typeface="Arial"/>
              </a:rPr>
              <a:t>RDTG (ACARP) INITIATIVES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640" y="1371240"/>
            <a:ext cx="8375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468360" y="1125360"/>
            <a:ext cx="8351640" cy="50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Subsequent to the 2005 Review ACARP has supported a number of initiatives, includin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33520" indent="-35424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Undertaking benchmarking studies to identify performance trends, and identify factors differentiating performance levels across mi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33520" indent="-35424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taging regular (6 monthly) roadway development operators’ workshops to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1080" indent="-3682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Wingdings 3" charset="2"/>
              <a:buChar char="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ommunicate emerging best practice and learn from roadway development improvement initi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1080" indent="-3682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Wingdings 3" charset="2"/>
              <a:buChar char="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earn of developments in equipment and technology, a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1080" indent="-3682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Wingdings 3" charset="2"/>
              <a:buChar char="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dentify potential areas for targeted resear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33520" indent="-35424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onducting a review of the civil tunnelling and underground metalliferous sectors to identify technologies and practices that could potentially be applied to improve roadway development performanc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AF1CC-C6BA-47C8-8D9E-1A483BE04772}" type="slidenum">
              <a:rPr b="0" lang="en-A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4978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ccffff"/>
                </a:solidFill>
                <a:latin typeface="Arial"/>
                <a:ea typeface="Arial"/>
              </a:rPr>
              <a:t>RDTG (ACARP) INITIATIVES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9640" y="1371240"/>
            <a:ext cx="8375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539640" y="1052640"/>
            <a:ext cx="8425080" cy="64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Continuing the development of self drilling bolts (SD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Developing a polymer based alternative skin reinforcement and confinement system to eliminate the installation of steel mesh and, with SDB, allow operators to be removed from the immediate f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Developing an automated system for installing SDB and mesh, including an integrated logistics and materials handling system from the supplier to the f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Developing a simulation model t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27792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 3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nable limitations of current development processes to be understoo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27792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 3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valuate potential roadway development technologies and practices 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rior to committing scarce capital and re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Developing a handbook to capture the industry’s current “body of knowledge” of roadway development practice for future gener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Line 6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5FDAD-E04B-4B65-8349-0A9BA3B8B582}" type="slidenum">
              <a:rPr b="0" lang="en-A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4978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600" spc="-1" strike="noStrike">
                <a:solidFill>
                  <a:srgbClr val="ccffff"/>
                </a:solidFill>
                <a:latin typeface="Arial"/>
                <a:ea typeface="Arial"/>
              </a:rPr>
              <a:t>CM2010</a:t>
            </a:r>
            <a:r>
              <a:rPr b="0" lang="en-AU" sz="3600" spc="-1" strike="noStrike">
                <a:solidFill>
                  <a:srgbClr val="ccffff"/>
                </a:solidFill>
                <a:latin typeface="Arial"/>
                <a:ea typeface="Arial"/>
              </a:rPr>
              <a:t> R&amp;D STRATEGY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9640" y="1371240"/>
            <a:ext cx="8375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468360" y="1341360"/>
            <a:ext cx="835164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In late 2007 the RDTG took the initiative to develop an integrated R&amp;D strategy aimed at developing a new generation high capacity roadway development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The intention of this strategy is to provide a framework linking all roadway development related R&amp;D to a common purpose, and to develop a basis for undertaking cooperative R&amp;D between researchers, OEMs, and mine si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684360" y="4437000"/>
            <a:ext cx="8065800" cy="752400"/>
          </a:xfrm>
          <a:prstGeom prst="rect">
            <a:avLst/>
          </a:prstGeom>
          <a:ln w="0">
            <a:noFill/>
          </a:ln>
        </p:spPr>
      </p:pic>
      <p:sp>
        <p:nvSpPr>
          <p:cNvPr id="83" name="Line 7"/>
          <p:cNvSpPr/>
          <p:nvPr/>
        </p:nvSpPr>
        <p:spPr>
          <a:xfrm>
            <a:off x="468360" y="1125360"/>
            <a:ext cx="820728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48205-58E9-415D-9CB4-2A4F6D8FBF67}" type="slidenum">
              <a:rPr b="0" lang="en-A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539640" y="1268280"/>
            <a:ext cx="837576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n integrated, remotely supervised high capacity roadway development mining system that enables 15 Mtpa longwall mines to be established and sustained with a single mining un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he system will also enable mining to be safely undertaken under adverse or extreme mining conditions, thus opening up access to reserves previously considered unmin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7993080" cy="746280"/>
          </a:xfrm>
          <a:prstGeom prst="rect">
            <a:avLst/>
          </a:prstGeom>
          <a:ln w="0">
            <a:noFill/>
          </a:ln>
        </p:spPr>
      </p:pic>
      <p:sp>
        <p:nvSpPr>
          <p:cNvPr id="87" name="Line 5"/>
          <p:cNvSpPr/>
          <p:nvPr/>
        </p:nvSpPr>
        <p:spPr>
          <a:xfrm>
            <a:off x="468360" y="1125360"/>
            <a:ext cx="820728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C37AF-E82B-454A-8C46-896A14821156}" type="slidenum">
              <a:rPr b="0" lang="en-A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539640" y="1268280"/>
            <a:ext cx="837576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 sustained performance rate of 10 metres per operating hour (MPOH) for 20 hours per day, based on installing primary support of 6 roof and 2 rib bolts per metre advance together with roof and rib confinement measures (mes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mproved health and safety through reduced exposure to hazards in the immediate face are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7991640" cy="746280"/>
          </a:xfrm>
          <a:prstGeom prst="rect">
            <a:avLst/>
          </a:prstGeom>
          <a:ln w="0">
            <a:noFill/>
          </a:ln>
        </p:spPr>
      </p:pic>
      <p:sp>
        <p:nvSpPr>
          <p:cNvPr id="91" name="Line 5"/>
          <p:cNvSpPr/>
          <p:nvPr/>
        </p:nvSpPr>
        <p:spPr>
          <a:xfrm>
            <a:off x="468360" y="1125360"/>
            <a:ext cx="820728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02:33:58Z</dcterms:created>
  <dc:creator>ebaafi</dc:creator>
  <dc:description/>
  <dc:language>en-US</dc:language>
  <cp:lastModifiedBy>Gary Gibson</cp:lastModifiedBy>
  <dcterms:modified xsi:type="dcterms:W3CDTF">2008-08-28T06:05:52Z</dcterms:modified>
  <cp:revision>21</cp:revision>
  <dc:subject/>
  <dc:title>mmmmmmmm</dc:title>
</cp:coreProperties>
</file>